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CD29-3A4C-43FE-9D4C-B7ABB0F37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F24AB-708F-4EC5-AD5C-6C9BA7736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49238-47E1-459C-8E6F-DE2212264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F6310-132F-4FB3-8442-24BC03BCA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513DE-20AC-4C3B-AECA-EE9F0103E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6213F-2E40-4C4A-9C03-DB59F12A4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92CFE-6CBB-4A82-BDA2-2CF700A2C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E22A-BC5A-45FB-90E5-6E13930CE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315F-215B-40B4-BD10-1A03D1CB1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B9AA-CE9B-4061-A69A-86D6D254A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6C4A-CF9B-4E7F-A32A-6D13EB143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BC27F-35F9-4380-9A94-7288A9AEB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9E002-58DF-4AF8-A2CD-E4DB40451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5E5C7-E448-45E1-99DC-B614DDA6F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9231-CE93-4EA6-BAEA-8CCD7270C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68C5D-EAC6-4457-BE22-71BCCEC41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9776F-31AF-4020-BB68-5BE7C5FE2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582B8-491E-4A5A-8F2A-86ABA04BE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EB952-477A-42C2-8920-08721E20A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01DB9-2B46-4A97-9F81-A87EF56F8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7CD0E-DD79-49A0-9243-304A7911E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F203C-D119-4982-9101-7145F71D6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3C29E-285B-4F50-A182-CB72B4E01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44D19-40ED-4EC1-A4A0-FE10B9770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6F88-60F8-4BAC-9A74-B181D9AFC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A3BF5-4753-45A8-ADFE-5C590D285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25C4C-6C8F-4F8A-AD79-E7B1A17EA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45100-E7ED-4B00-B2C4-C4E9A6ACB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480E-B1EE-46E3-A2EE-BE213B9F6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3FD13-D2DC-49BC-9F47-9D58E6394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B8E41-8646-4EB0-B143-3C14B1D34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F1195-ACF2-4BAE-BE8A-2ABB0D8D6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CC413-1F9E-4EA0-BFF0-74DFE5C15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5E56C-25A4-4D9E-96EF-C57ACBB13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55B1-718F-4B9A-8D0A-F24CDBA14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15C8F-4EDA-41FE-AE6E-3BAD830DA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92A4-2BD2-493E-A515-DD539488F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D49CC-9C11-4014-BFFB-027E3C2FE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956DB-6EA9-4182-B9F6-C7E9D80E0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74B90-D397-4990-8A5A-24496B01A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FD7E-EEB4-4350-8A8B-FB8C5871E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44F4-ED33-48BB-9BA9-0D65C4E93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0BD8-FB17-4E94-9DF8-4851EBBC9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1CAE3-3ADB-4F4F-83C9-FD777CACD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E55D-E74B-4E7E-A634-7E9F1AA86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05913-42E7-4F0B-A8F1-5B71BDBAA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3D22A-0498-4441-B4D7-19091AA6E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2A5F-50D9-4302-9885-78EB54B95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F121C-1798-4EF1-8A58-698ADDA3C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F079-B45F-45DD-A73D-5D81F138F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DF2B6-99CD-4A49-8429-C1DF86BEB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65107-CC2A-4BEE-9571-4EB4F9A07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F8BFA-567A-4982-ADB7-6D3BB8B85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69E4-71F5-418F-B5D4-9B9C98F91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C473B-087F-4999-8294-2D7F3B82F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43D3-8604-41CA-8D97-583E261C9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7291F-1821-47F3-A1CF-5ECB3363D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2231-EA56-4541-AF4E-5100AE569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2BBCB-1917-4886-84FD-CB555C076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1D153-20EE-4A74-B2E2-BDB6E8526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95791-7253-48D4-954D-12707A8C1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5F7A1-EE2A-491D-93D0-35C22CE3E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DB298-A4DA-4CC0-8A92-22E2CA605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F28BB-94D1-4F95-AEE0-BE46A6760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1616F-1A21-4259-A31E-A4A040AE8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a.</a:t>
            </a:r>
            <a:fld id="{9E63774C-431B-49CB-B806-C0949FC973FB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0484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6080" y="6613560"/>
            <a:ext cx="25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Appendix A: FreeBSD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4960" y="27792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quence of bytes; the kernel does not impose a structure 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organized in tree-structu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files that contain information on how to find 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dentifies a file by specifying a path through the directory structure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path names start at root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 names start at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basic file manipulation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read, write, close, unlink, 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277920"/>
            <a:ext cx="7664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UNIX 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627280" y="1060560"/>
            <a:ext cx="36860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585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identified by their process identifier, an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fter a fork to replace on of the two processes’s virtual memory space with a new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erminate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m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hild process to terminat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process id of a terminated child so that the parent can tell which child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parent to collect performance statistics about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m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sults when the par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u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process exits before the terminated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llustration of Process Control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36560" y="1620720"/>
            <a:ext cx="775332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mmunicate via pipes; queues of bytes between two processes that are accessed by a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 processes are descendants of one original proc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k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: initializes terminal line parameters and passes the us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he numer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cess to that of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forks subprocesses for user comm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6345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sets the effective user identifier of the process to the user identifier of the owner of the file, and leav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allows certain processes to have more than ordinary privileges while still being executable by ordinar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36600"/>
            <a:ext cx="76867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y for handling exceptional conditions similar to soft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used to stop a command before that command completes (usually produced by ^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use has expanded beyond dealing with exception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subprocess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WI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s a process that the window in which output is being displayed has chang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urgent data from network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elated processes that cooperate to accomplish a comm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rocess group may use a terminal device for I/O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ground job has the attention of the user on th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jobs – nonattached jobs that perform their function without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terminal is controlled by process group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2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job inherits a controlling terminal from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cess group of the controlling terminal matches the group of a process, that process is in the fore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background process that attempts to perform I/O; if the user foregrounds that proces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rocess can now perfor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foregrou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4640" y="277920"/>
            <a:ext cx="7742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formation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set and return an interval tim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itmer/setit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set and return the current ti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/s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ask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process identifi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roup identifier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machine on which they are execut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1520" y="277920"/>
            <a:ext cx="7684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ule A:  The FreeBSD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brary Routin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8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-call interface to UNIX is supported and augmented by a large collection of library rout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files provide the definition of complex data structures used in system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ibrary support is provided for mathematical functions, network access, data convers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and users mainly deal with already existing systems programs: the needed system calls are embedded within the program and do not need to be obviou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systems programs are file or directory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, rmdir, cd, p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, cp, mv,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grams relate to edito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cs,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ext formatte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off, 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othe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720" y="27792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he user process which executes programs (also called command interpr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shell, because it surrounds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indicates its readiness to accept another command by typing a prompt, and the user types a command on a singl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command is an executable binary objec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travels 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d the command file, which is then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most always in the sear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7510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search path on a BSD syste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home/prof/avi/bin /usr/local/bin /usr/ucb/bin 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usually suspends its own execution until the command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cesses expect three file descriptors to be open when they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read what the use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send output to user’s sc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r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s can also accept a file (rather than a terminal) for standard input and 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on shells have a simple syntax for changing what files are open for the standard I/O streams of a process — I/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0240" y="277920"/>
            <a:ext cx="7666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 Redir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982800" y="1336680"/>
            <a:ext cx="7535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6320" y="277920"/>
            <a:ext cx="7440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ipelines, Filters, and Shell Scri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alesce individual commands via a vertical bar that tells the shell to pass the previous command’s output as input to the following comm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s | pr | l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– a command such as pr that passes its standard input to its standard output, performing some processing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new shell with a different syntax and semantics would change the user view, but not change the kernel or programm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Window System is a widely accepted iconic interface for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4400" y="277920"/>
            <a:ext cx="7412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on of processes is a major design problem for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distinct from other systems in that multiple processes can be created and manipulated with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represented in UNIX by various contro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locks associated with a process are stored 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n these control blocks is used by the kernel for process control and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8080" y="277920"/>
            <a:ext cx="757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36240"/>
            <a:ext cx="7508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data structure associated with process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proce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formation (e.g.,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other control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user process is divided into text (program code), data, and st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with sharable text has a pointer form its process structure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residen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how many processes are using the tex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ere the page table for the text segment can be found on disk when it is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7920" y="277920"/>
            <a:ext cx="7508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Data Seg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rdinary work is don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ystem calls are perform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and user phases of a process never execu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ther than the user stack) is used for a process  executing in 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tack and the user structure together compo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gment for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His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7080" y="1285920"/>
            <a:ext cx="75103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in 1969 by Ken Thompson and Dennis Ritchie of the Research Group at Bell Laboratories; incorporated features of other operating systems, especially MUL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ersion was written in C, which was developed at Bell Labs specifically to support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nfluential of the non-Bell Labs and non-AT&amp;T UNIX development groups — University of California at Berkeley (Berkeley Software Distributions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SD UNIX resulted from DARPA funding to develop a standard UNIX system for governm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the VAX, 4.3BSD is one of the most influential versions, and has been ported to many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tandardization projects seek to consolidate the variant flavors of UNIX leading to one programming interface to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8800" y="204480"/>
            <a:ext cx="779148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inding parts of a process using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rocess structure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901800" y="1227240"/>
            <a:ext cx="68230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38320" y="277920"/>
            <a:ext cx="754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ng a New Process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allocates a new process structure for the child process, and copies the use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age table is 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in memory is allocated for the data and stack segments of the chil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the user structure preserves open file descriptors, user and group identifiers, signal handl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2960" y="39384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llocating a New Process Structure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043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 the data and stack to t he new process; the new process simply shares the page table of the ol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structure and a new process structure are still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by a shell to execute a command and to wait for its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child process; the child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hange its virtual address space, so there is no need for a copy of th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large parent process saves CPU time, but can be dangerous since any memory change occurs in both processes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no new process or user structure; rather the text and data of the process ar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d with it; larger numbers indicate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eedback in CPU scheduling makes it difficult for a single process to take all the CPU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ging is employed to prevent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chooses to relinquish the CPU, it go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at event occurs, the system process that knows about it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ddress corresponding to the even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that had do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address are put in the ready queue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memory management schemes were constrained in size by the relatively small memory resources of the PDP machines on which UNIX was develo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3BSD system use swapping exclusively to handle memory contention among processes:  If there is too much contention, processes are swapped out until enough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oth main memory and swap space is done 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able text segments do not need to be swapped; results in less swap traffic and reduces the amount of main memory required for multiple processes using the same text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ides which processes to swap in or out, considering such factors as time idle, time in or out of main memory,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75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UNIX systems depend primarily on paging for memory-contention management, and depend only secondarily on sw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a process needs a page and the page is not there, a page fault tot he kernel occurs, a frame of main memory is allocated, and the proper disk page is read into the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gedaem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uses a modified second-chance page-replacement algorithm to keep enough free frames to support the execut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cheduler decides that the paging system is overloaded, processes will be swapped out whole until the overload is rel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supports two main objects: files and directori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just files with a special format, so the representation of a file is the basic UNIX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3360" y="277920"/>
            <a:ext cx="7723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file system is taken 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sized for files which have no indirect blo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locks of a file are of a l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(such as 8K), except th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lock is an appropriate multiple of a smal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gmen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1024) to fill 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file of size 18,000 bytes would have two 8K blocks and one 2K fragment (which would not be filled complet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6800" y="277920"/>
            <a:ext cx="7829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s are set during file-system creation according to the intended use of the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small files are expected, the fragment size 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eated transfers of large files are expected, the basic block size should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block-to-fragment ratio is 8 : 1; the minimum block size is 4K (typical choices are 4096 : 512 and 8192 : 1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story of UNIX Vers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330280" y="1130400"/>
            <a:ext cx="4392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represented by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 record that stores information about a specific fil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also contains 15 pointer to the disk blocks containing the file’s data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12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hree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ndirect block pointer is the address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ndirec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n index block containing the addresses of blocks that do conta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-indirect-b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, the address of a block that contains the addresses of blocks that contain pointer to the actual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 in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er is not needed; files with as many as 232 bytes will use only double 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type field distinguishes between plain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entries are of variable length; each entry contains first the length of the entry, then the file name and the in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refers to a file by a path name,whereas the file system uses the inode as its defini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has to map the supplied user path name to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used for this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termine the starting direc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character is “/”, the starting directory is the roo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ther starting character, the starting directory is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process continues until the end of the path name is reached and the desired inode is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inode is found, a file structure is allocated to point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mproved file system performance by adding a directory name cache to hold recent directory-to-inode trans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7840" y="421920"/>
            <a:ext cx="81435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apping of a File Descriptor to an Inod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hat refer to open files indicate the file is passing a file descriptor as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descriptor is used by the kernel to index a table of open files for the 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of the table contains a pointer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le structure in turn points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open file table has a fixed length which is only setable at boot time, there is a fixed limit on the number of concurrently open files i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092240" y="1603440"/>
            <a:ext cx="7101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file system that a user ordinarily sees may actually consist of several physical file systems, each on a differe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 physical device into multiple file systems has several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ile systems can support different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i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rove efficiency by varying file-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one program form using all available space for a lar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searches on backup tapes and restoring partitions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lways available on a 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ile system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integrated into the directory hierarchy of the root fil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how a directory structure is partitioned into file systems, which are mapped onto logical devices, which are partitions of phys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384120"/>
            <a:ext cx="7693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Mapping File System to Physical Devices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371600" y="1119240"/>
            <a:ext cx="59468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7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nterface to the file system is simple and well defined, allowing the implementation of the file system itself to be changed without significant effect on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ersion 7, the size of inodes doubled, the maximum file and file system sized increased, and the details of free-list handling and superblock information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0BSD, the size of blocks used in the file system was increased form 512 bytes to 1024 bytes — increased internal fragmentation, but double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added the Berkeley Fast File System, which increased speed, and included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ile System found in most implementation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0880" y="277920"/>
            <a:ext cx="7675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out and Allocation Polic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uses a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device number, i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 to identify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device number defines the file system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s in the file system are numbered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ntroduc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lin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llows localization of the blocks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ylinder group occupies one or more consecutive cylinders of the disk, so that disk accesses within the cylinder group require minimal disk head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ylinder group has a superblock, a cylinder block, an array of inodes, and som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277920"/>
            <a:ext cx="7470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rly Advantages of UN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a high-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 sourc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powerful operating-system primitives on an inexpensiv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, modular, clea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BSD Cylinder Grou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695680" y="1216080"/>
            <a:ext cx="36669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system hides the peculiarities of I/O devices from the bulk of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a buffer caching system, general device driver code, and drivers for specific hardwar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evice driver knows the peculiarities of a specific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 BSD Kernel 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831960" y="1544760"/>
            <a:ext cx="7596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230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buffer headers, each of which can point to a piece of physical memory, as well as to a device number and a block number on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ffer headers for blocks not currently in use are kept in several linked li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recently used, linked in LRU order (LR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not recently used, or without valid contents (AG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ffers with no associat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lock is wanted from a device, the cache is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lock is found it is used, and no I/O transfer is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 found, a buffer is chosen from the AGE list, or the LRU list if AGE is emp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ache size effects system performance; if it is large enough,  the percentage of cache hits can be high and the number of actual I/O transfers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ritten to a disk file are buffered in the cache, and the disk driver sorts its output queue according to disk address — these actions allow the disk driver to minimize disk head seeks and to write data at times optimized for disk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w Device Interfa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6550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every block device has a character interface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unlike the block interface, it bypasses the block buffer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sk driver maintains a queue of pending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cord in the queue 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it is a read or a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in memory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imple to map the information from a block buffer to what is required for this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-Lis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rivers use a character buffering system which involves keeping small blocks of characters in linked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to a terminal enqueues characters on a list for the device. An initial transfer is started, and interrupts cause dequeueing of characters and further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s similarly interrup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possible to have the device driver bypass the canonical queue and return characters directly form the raw queue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d by full-screen editors and other programs that need to react to every keystro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66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PC mechanism most characteristic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a reliable unidirectional byte stream between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nefit of pipes small size is that pipe data are seldom written to disk; they usually are kept in memory by the normal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3BSD, pipes are implemented as a special c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which provides a general interface not only to facilities such as pipes, which are local to one machine, but also to networking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mechanism can be used by unrelated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242720"/>
            <a:ext cx="76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n endpont of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-use socket it usually bound with an address; the nature of the address depends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istic property of a domain is that processes communication in the same domain use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socket can communicate in only one domain — the three domains currently implemented in 4.3BS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domain (AF_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domain (AF_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EROX Network Service (NS) domain (AF_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Ty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78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reliable, duplex, sequenced data streams.  Supported in Internet domain by the TCP protocol.  In UNIX domain, pipes are implemented as a pair of communicating stream so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d packet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similar data streams, except that record boundaries ar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XEROX AF_N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of variable size in either direction.  Supported in Internet domain by U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delivered message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that are guaranteed to arrive (Currently unsuppor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direct access by processes to the protocols that support the other socket types; e.g., in the Internet domain, it is possible to reach TCP, IP beneath that, or a deeper Eth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veloping new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277920"/>
            <a:ext cx="7947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Design Princi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50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to be a time-sha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simple standard user interface (shell) that can b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with multilevel tree-structur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supported by the kernel as unstructured sequences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ltiple processes; a process can easily create new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iority given to making system interactive, and providing facilities for progr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058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reates a socket; takes as arguments specifications of the communication domain, socket type, and protocol to be used and returns a small integ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 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me is bound to a socket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is used to initiate a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reate a socket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ind the well-known address of its service to that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ll the kernel that it is ready to accept connections from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 individu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new process afte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rvice the client while the original server process continues to listen for mo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0" y="27792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st way to terminate a connection and to destroy the associated socket is to 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on its socket descri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an be used to multiplex data transfers on several file descriptors and /or socket descri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twork Suppor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support is one of the most important features in 4.3BS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concept provides the programming mechanism to access other processes, even across a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 provide an interface to several sets of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current UNIX systems support UU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supports the DARPA Internet protocols UDP, TCP, IP, and ICMP on a wide range of Ethernet, token-ring, and ARPANET interf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.3BSD networking implementation, and to a certain extent the socket facility, is more oriented toward the ARPANET Reference Model (A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44280" y="414360"/>
            <a:ext cx="7947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Network Reference models and Layering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069920" y="1370160"/>
            <a:ext cx="7220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Appendix A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m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84932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: 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ile system, CPU scheduling, memory management, and other OS functions through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:  use the kernel-supported system calls to provide useful functions, such as compilation and 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45640" y="128520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computer systems, UNIX consists of two separable par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4BSD Layer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657440" y="1220760"/>
            <a:ext cx="6211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define the programmer interface to 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systems programs commonly available defines th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and user interface define the context that the kernel mus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three categories of system cal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(same system calls also support device mani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18:06Z</dcterms:created>
  <dc:creator>Marilyn Turnamian</dc:creator>
  <dc:description/>
  <dc:language>en-US</dc:language>
  <cp:lastModifiedBy>Silberschatz, Avi</cp:lastModifiedBy>
  <cp:lastPrinted>2001-07-05T21:27:27Z</cp:lastPrinted>
  <dcterms:modified xsi:type="dcterms:W3CDTF">2014-01-16T11:32:01Z</dcterms:modified>
  <cp:revision>154</cp:revision>
  <dc:subject/>
  <dc:title>No Slide Title</dc:title>
</cp:coreProperties>
</file>