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4.png" ContentType="image/png"/>
  <Override PartName="/ppt/media/image9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088400" cy="9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4016520" y="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200240" y="704520"/>
            <a:ext cx="4687920" cy="351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14644DA-4910-4BA6-86E4-20DB3DBEF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C3DFB3C-E900-4242-B328-C2B867597F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EB7EBE2-4C4F-4663-92C5-038B7ED1A2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9628DFB-021B-4FF3-92D0-48957A368F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B9D9F0E-97B4-4E52-8A25-47D3DD1532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06798DF-A7C7-4DC6-83E8-EA58257E10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5E71E4C-CF47-4B98-80CD-4E21596720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0B3C9F5-7802-40A5-B894-3663E2C5A6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2B49145-4789-472A-9024-F8E9DE4A56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5CEC46A-CA02-4D72-821C-7EBAAFDA9F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FDB1E83-DC5D-47A5-9240-E438057874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8A5E8DD-B034-4B0E-A618-853F3F4F4F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7268C14-1F36-4BAE-B77C-823F8CCB8C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7EECA83-5FA6-4193-A870-5B40780579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5F18E0C-8B40-4929-927F-32198D86F1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C4CD2DA-99B6-4D12-A38F-C6D403B583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A190678-D100-4F87-AE18-9ED5B79F58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286FC70-EB3D-45DA-9430-4FCE5E3C31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2B1AC20-5AF6-490A-8A62-4D7FDD902E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5A14F4A-E231-48DC-835A-87A235EDA2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15E7B98-7FDA-403F-A3CC-7D464AEE49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B6A0CCE-E7B9-463F-893A-35141A38F5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7345057-BC51-474C-A649-3FD3F1A424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2D47833-A877-42D1-A912-070FF3044B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BD45013-6537-40D1-A048-ADFC378453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AE22D50-3975-4AFA-A15A-8F591B3F0D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C55DDDA-19B7-417F-9F6D-45D08C85C9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4C6D76F-F8B6-44D8-95AD-F601E41394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99B78DB-30DC-43E7-9581-150FD9AADF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0BF5625-AFEF-4CA2-8FD3-E2B75361D2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113EB21-82F9-4423-A025-E6D7608DCE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4BE53AB-715A-4D8F-B4DB-0803D7BF75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627E032-1EDA-4C15-AA5F-D632FC9563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F528BC4-6BB4-4E0E-B1E6-39C6699674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3E37CDD-DD77-40CC-A392-8BE9D3C275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A5C539C-306F-47D6-A3C1-664811BCD7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B4B2BE7-43DE-497F-B22D-99F225E261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DAEF988-730C-4C0A-8BEC-87A0308EC5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98089CF-7840-43DD-A074-496693EC38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9A8A44F-10BA-4AB1-994D-C3E0E1E24A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E2A3C42-BD70-4848-8F0A-BDDBAA7964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5290B0F-6B46-4A22-A3A3-46BA088068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534543C-65F6-4633-A62D-A6045BB0A8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161222A-E27F-4C7D-A01B-DD50A6D3DB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D513088-A61F-4E14-A6BA-90BA10C179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1FEB851-5DB1-432E-BA3D-21E3AD6387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1ABB259-828D-499F-BBCB-86333EDF0F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796E5BD-E4CC-414E-8CE4-1EED9C89D0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ino_3"/>
          <p:cNvPicPr/>
          <p:nvPr/>
        </p:nvPicPr>
        <p:blipFill>
          <a:blip r:embed="rId2"/>
          <a:stretch/>
        </p:blipFill>
        <p:spPr>
          <a:xfrm>
            <a:off x="285840" y="0"/>
            <a:ext cx="1195200" cy="907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Line 6"/>
          <p:cNvSpPr/>
          <p:nvPr/>
        </p:nvSpPr>
        <p:spPr>
          <a:xfrm>
            <a:off x="457200" y="860400"/>
            <a:ext cx="807732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996360" y="6613560"/>
            <a:ext cx="9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15.</a:t>
            </a:r>
            <a:fld id="{3C199557-EA55-4923-A004-C5FEA1777942}" type="slidenum">
              <a:rPr b="1" lang="en-US" sz="1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194400" y="6621480"/>
            <a:ext cx="26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Operating System Concepts – 9</a:t>
            </a:r>
            <a:r>
              <a:rPr b="1" lang="en-US" sz="1000" spc="-1" strike="noStrike" baseline="30000">
                <a:solidFill>
                  <a:srgbClr val="006699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" name="Picture 12" descr="dino_6"/>
          <p:cNvPicPr/>
          <p:nvPr/>
        </p:nvPicPr>
        <p:blipFill>
          <a:blip r:embed="rId3"/>
          <a:stretch/>
        </p:blipFill>
        <p:spPr>
          <a:xfrm>
            <a:off x="7773840" y="5850000"/>
            <a:ext cx="1284480" cy="79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"/>
          <p:cNvGrpSpPr/>
          <p:nvPr/>
        </p:nvGrpSpPr>
        <p:grpSpPr>
          <a:xfrm>
            <a:off x="198360" y="2960640"/>
            <a:ext cx="8610840" cy="201600"/>
            <a:chOff x="198360" y="2960640"/>
            <a:chExt cx="8610840" cy="201600"/>
          </a:xfrm>
        </p:grpSpPr>
        <p:sp>
          <p:nvSpPr>
            <p:cNvPr id="48" name="Rectangle 4"/>
            <p:cNvSpPr/>
            <p:nvPr/>
          </p:nvSpPr>
          <p:spPr>
            <a:xfrm>
              <a:off x="19836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068640" y="2960640"/>
              <a:ext cx="2870280" cy="201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593892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" name="Text Box 7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64440" y="6613560"/>
            <a:ext cx="26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Operating System Concepts – 9</a:t>
            </a:r>
            <a:r>
              <a:rPr b="1" lang="en-US" sz="1000" spc="-1" strike="noStrike" baseline="30000">
                <a:solidFill>
                  <a:srgbClr val="336699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Picture 9" descr="dino_4"/>
          <p:cNvPicPr/>
          <p:nvPr/>
        </p:nvPicPr>
        <p:blipFill>
          <a:blip r:embed="rId2"/>
          <a:stretch/>
        </p:blipFill>
        <p:spPr>
          <a:xfrm>
            <a:off x="3360600" y="4157640"/>
            <a:ext cx="2062440" cy="1593720"/>
          </a:xfrm>
          <a:prstGeom prst="rect">
            <a:avLst/>
          </a:prstGeom>
          <a:ln w="76320">
            <a:solidFill>
              <a:srgbClr val="336699"/>
            </a:solidFill>
            <a:miter/>
          </a:ln>
        </p:spPr>
      </p:pic>
      <p:sp>
        <p:nvSpPr>
          <p:cNvPr id="54" name="Rectangle 10"/>
          <p:cNvSpPr/>
          <p:nvPr/>
        </p:nvSpPr>
        <p:spPr>
          <a:xfrm>
            <a:off x="3224160" y="4006800"/>
            <a:ext cx="2336760" cy="1887480"/>
          </a:xfrm>
          <a:prstGeom prst="rect">
            <a:avLst/>
          </a:prstGeom>
          <a:noFill/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060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Chapter 15:  Security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41280" y="114480"/>
            <a:ext cx="74455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gram Threats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74440" y="1069920"/>
            <a:ext cx="7040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Logic Bo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that initiates a security incident under certain circum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ta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Buffer Over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its a bug in a program (overflow either the stack or memory buff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lure to check bounds on inputs, arg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past arguments on the stack into the return address on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routine returns from call, returns to hacked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ed to code loaded onto stack that executes malicious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uthorized user or privilege esca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50720" y="155160"/>
            <a:ext cx="7662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C Program with Buffer-overflow Condition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83760" y="1164960"/>
            <a:ext cx="63867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include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io.h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define BUFFER SIZE 2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ain(int argc, char *argv[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buffer[BUFFER SIZE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rgc &lt;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-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cpy(buffer,argv[1]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40960" y="140760"/>
            <a:ext cx="78994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Layout of Typical Stack Fram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1992240" y="1284120"/>
            <a:ext cx="5942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82800" y="194760"/>
            <a:ext cx="77040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odified Shell Cod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84120" y="1164960"/>
            <a:ext cx="6126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ain(int argc, char *argv[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ecvp(</a:t>
            </a:r>
            <a:r>
              <a:rPr b="0" lang="ja-JP" sz="1800" spc="-1" strike="noStrike">
                <a:solidFill>
                  <a:srgbClr val="000000"/>
                </a:solidFill>
                <a:latin typeface="Courier New"/>
              </a:rPr>
              <a:t>‘‘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\bin\sh</a:t>
            </a:r>
            <a:r>
              <a:rPr b="0" lang="ja-JP" sz="1800" spc="-1" strike="noStrike">
                <a:solidFill>
                  <a:srgbClr val="000000"/>
                </a:solidFill>
                <a:latin typeface="Courier New"/>
              </a:rPr>
              <a:t>’’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ja-JP" sz="1800" spc="-1" strike="noStrike">
                <a:solidFill>
                  <a:srgbClr val="000000"/>
                </a:solidFill>
                <a:latin typeface="Courier New"/>
              </a:rPr>
              <a:t>‘‘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\bin \sh</a:t>
            </a:r>
            <a:r>
              <a:rPr b="0" lang="ja-JP" sz="1800" spc="-1" strike="noStrike">
                <a:solidFill>
                  <a:srgbClr val="000000"/>
                </a:solidFill>
                <a:latin typeface="Courier New"/>
              </a:rPr>
              <a:t>’’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NUL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3120" y="167760"/>
            <a:ext cx="77533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Hypothetical Stack Fram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433600" y="5119560"/>
            <a:ext cx="2025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attac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5769000" y="5148360"/>
            <a:ext cx="2057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attac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2494080" y="1173240"/>
            <a:ext cx="478296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72640" y="155160"/>
            <a:ext cx="78138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Great Programming Required?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60040" y="1110960"/>
            <a:ext cx="7218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first step of determining the bug, and second step of writing exploit code, 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cript kiddi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run pre-written exploit code to attack a give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ack code can get a shell with the processe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wne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per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open a network port, delete files, download a program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ing on bug, attack can be executed across a network using allowed connections, bypassing firew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 overflow can be disabled by disabling stack execution or adding bit to page table to indicate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executabl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in SPARC and x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still have security explo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20240" y="155160"/>
            <a:ext cx="76662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gram Threats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85520" y="1150560"/>
            <a:ext cx="8481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Vir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 fragment embedded in legitimat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f-replicating, designed to infect other compu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specific to CPU architecture, operating system,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borne via email or as a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 Basic Macro to reformat hard d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b AutoOpe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im o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FS = CreateObject(</a:t>
            </a:r>
            <a:r>
              <a:rPr b="0" lang="ja-JP" sz="1600" spc="-1" strike="noStrike">
                <a:solidFill>
                  <a:srgbClr val="000000"/>
                </a:solidFill>
                <a:latin typeface="Courier New"/>
              </a:rPr>
              <a:t>’’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ripting.FileSystemObject</a:t>
            </a:r>
            <a:r>
              <a:rPr b="0" lang="ja-JP" sz="1600" spc="-1" strike="noStrike">
                <a:solidFill>
                  <a:srgbClr val="000000"/>
                </a:solidFill>
                <a:latin typeface="Courier New"/>
              </a:rPr>
              <a:t>’’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s = Shell(</a:t>
            </a:r>
            <a:r>
              <a:rPr b="0" lang="ja-JP" sz="1600" spc="-1" strike="noStrike">
                <a:solidFill>
                  <a:srgbClr val="000000"/>
                </a:solidFill>
                <a:latin typeface="Courier New"/>
              </a:rPr>
              <a:t>’’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:command.com /k format c:</a:t>
            </a:r>
            <a:r>
              <a:rPr b="0" lang="ja-JP" sz="1600" spc="-1" strike="noStrike">
                <a:solidFill>
                  <a:srgbClr val="000000"/>
                </a:solidFill>
                <a:latin typeface="Courier New"/>
              </a:rPr>
              <a:t>’’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vbHi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 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6640" y="140760"/>
            <a:ext cx="78501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gram Threats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60040" y="1123560"/>
            <a:ext cx="7559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Virus dropper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s virus onto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tegories of viruses, literally many thousands of vir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/ parasi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ot /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ymorphic to avoid having 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virus sig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ryp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nn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art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mo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86960" y="126720"/>
            <a:ext cx="78994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 Boot-sector Computer Viru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2279520" y="1093680"/>
            <a:ext cx="485136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407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he Threat Continu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74440" y="1082520"/>
            <a:ext cx="77230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acks still common, still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acks moved over time from science experiments to tools of organized 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ing specific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botnets to use as tool for spam and DDOS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Keystroke logg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grab passwords, credit card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Windows the target for most attac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one is an administ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censing requir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onocul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sidered harm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947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hapter 15:  Security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60040" y="113472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curity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Thre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and Network Thre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yptography as a Security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ing Security Def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walling to Protect Systems and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-Security Class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xample: Windows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560" y="140760"/>
            <a:ext cx="78598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ystem and Network Threat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47440" y="1137960"/>
            <a:ext cx="7313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systems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ather than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ecure by 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ttack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harder to use, more knowledge needed to admin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threats harder to detect, pr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ion systems we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difficult to have a shared secret on which to bas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hysical limits once system attached to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on network with system attached to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 determining location of connecting system diffic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 address is only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04720" y="167760"/>
            <a:ext cx="75135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System and Network Threats (Cont.)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3400" y="1069920"/>
            <a:ext cx="74786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us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pawn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sm; standalon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 w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ited UNIX networking features (remote access) and bug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mai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ited trust-relationship mechanism us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s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ccess friendly systems without use of 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Grappling hook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uploaded main worm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 lines of C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oked system then uploaded main code, tried to attack connected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tried to break into other users accounts on local system via password gu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arget system already infected, abort, except for every 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4880" y="155160"/>
            <a:ext cx="76215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he Morris Internet Worm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4" name="Picture 1031" descr=""/>
          <p:cNvPicPr/>
          <p:nvPr/>
        </p:nvPicPr>
        <p:blipFill>
          <a:blip r:embed="rId1"/>
          <a:stretch/>
        </p:blipFill>
        <p:spPr>
          <a:xfrm>
            <a:off x="1631880" y="1255680"/>
            <a:ext cx="65008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040" y="126720"/>
            <a:ext cx="7799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System and Network Threats (Cont.)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88480" y="1096560"/>
            <a:ext cx="6877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 sc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d attempt to connect to a range of ports on one or a range of IP addr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ion of answering service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ion of OS and version running 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ma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s all ports in a given IP range for a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ess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a database of protocols and bugs (and exploits) to apply against a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tly launched from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zombie syste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crease trace-abi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82800" y="126720"/>
            <a:ext cx="77040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System and Network Threats (Cont.)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74800" y="1137960"/>
            <a:ext cx="71085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nial of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load the targeted computer preventing it from doing any usefu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istributed denial-of-serv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D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come from multiple sites a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the start of the IP-connection handshake (SY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started-connections can the OS hand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traffic to a web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can you tell the difference between being a target and being really popul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idental – CS students writing ba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k(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poseful – extortion, 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71600" y="1144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Sobig.F Worm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58960" y="1055160"/>
            <a:ext cx="7385040" cy="49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modern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guised as a photo uploaded to adult newsgroup via account created with stolen credit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ed Windows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d own SMTP engine to mail itself as attachment to everyone in infect system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address 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guised with innocuous subject lines, looking like it came from someone 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achment was executable program that created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INPPR23.EX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default Windows system directo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 the Windows Reg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HKCU\SOFTWARE\Microsoft\Windows\CurrentVersion\Run]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"TrayX" = %windir%\winppr32.exe /sin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HKLM\SOFTWARE\Microsoft\Windows\CurrentVersion\Run]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"TrayX" = %windir%\winppr32.exe /sin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55720" y="140760"/>
            <a:ext cx="79675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ryptography as a Security Tool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60400" y="1055520"/>
            <a:ext cx="70423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est security tool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to a given computer, source and destination of messages can be known and prot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creates, manages, protects process IDs, communication 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and destination of messages on network cannot be trusted without crypt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network – IP addres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unauthorized host ad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 / Internet – how to establish authentic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via IP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ryptography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20440" y="1137960"/>
            <a:ext cx="6589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s to constrain potential senders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ur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nd / or receivers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stina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secrets 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key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rmation of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pt only by certain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st relationship between sender and 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407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ncryp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06400" y="1071360"/>
            <a:ext cx="708192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s the set of possible receivers of a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Encryp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gorithm consist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ciphertexts (encrypted mess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n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That is, for eac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function for generating ciphertexts from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an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be efficiently computable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n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That is, for eac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function for generating messages from ciphertex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an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be efficiently computable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407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Encryption (Cont.)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60040" y="1071360"/>
            <a:ext cx="667404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ncryption algorithm must provide this essential property: Given a ciphertext c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, a computer can compute m such that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) = c only if it possess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a computer hold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decrypt ciphertexts to the plaintexts used to produce them, but a computer not hold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t decrypt ciphertex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ciphertexts are generally exposed (for example, sent on the network), it is important that it be infeasible to deriv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the ciphertex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677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68770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iscuss security threats and att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plain the fundamentals of encryption, authentication, and has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amine the uses of cryptography in comp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scribe the various countermeasures to security att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407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ymmetric Encryp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4800" y="1042920"/>
            <a:ext cx="76960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e key used to encrypt and decry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for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ust be kept secr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 was most commonly used symmetric block-encryption algorithm (created by US Gov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rypts a block of data at a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ys too short so now considered insec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iple-DES considered more sec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gorithm used 3 times using 2 or 3 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examp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1 NIST adopted new block cipher - Advanced Encryption Standard (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A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ys of 128, 192, or 256 bits, works on 128 bit b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C4 is most common symmetric stream cipher, but known to have vulnerab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rypts/decrypts a stream of bytes (i.e., wireless transmiss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y is a input to pseudo-random-bit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1024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es an infinite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keystr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" descr="Screen Shot 2013-02-18 at 5.34.27 PM.png"/>
          <p:cNvPicPr/>
          <p:nvPr/>
        </p:nvPicPr>
        <p:blipFill>
          <a:blip r:embed="rId1"/>
          <a:stretch/>
        </p:blipFill>
        <p:spPr>
          <a:xfrm>
            <a:off x="3078000" y="3608280"/>
            <a:ext cx="155736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77480" y="177840"/>
            <a:ext cx="8053560" cy="44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Secure Communication over Insecure Medium</a:t>
            </a: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2193840" y="1065240"/>
            <a:ext cx="500544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8600" y="155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Asymmetric Encryption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3040" y="1082520"/>
            <a:ext cx="6837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ublic-key encryp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each user having two key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ublic ke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published key used to encryp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rivate ke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key known only to individual user used to decryp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n encryption scheme that can be made public without making it easy to figure out the decryption 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common i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S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lock cip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icient algorithm for testing whether or not a number is p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efficient algorithm is know for finding the prime factors of a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72720" y="140760"/>
            <a:ext cx="77137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Asymmetric Encryption (Cont.)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88480" y="1082520"/>
            <a:ext cx="68770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ly, it is computationally infeasible to deriv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d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e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s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ed not be kept secret and can be widely dissemin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ublic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rivate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product of two large, randomly chosen prime number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or example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512 bits ea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ryption algorithm 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e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12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isfi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−1)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−1)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cryption algorithm is 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d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12000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1480" y="155160"/>
            <a:ext cx="74404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Asymmetric Encryption Example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01800" y="1064880"/>
            <a:ext cx="702792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. mak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7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then calcula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7∗13 = 91 and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−1)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−1) = 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next 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ly prime to 72 an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2, yielding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ly, we calcula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 72 = 1, yielding 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ow have our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ke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e,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5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ke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d,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9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rypting the message 69 with the public key results in the cyphertext 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phertext can be decoded with the private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key can be distributed in cleartext to anyone who wants to communicate with holder of public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87280" y="70920"/>
            <a:ext cx="79567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Encryption using RSA Asymmetric Cryptography</a:t>
            </a: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3427560" y="1012680"/>
            <a:ext cx="264456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11360" y="114480"/>
            <a:ext cx="797544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Cryptography (Cont.)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47800" y="1164960"/>
            <a:ext cx="667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symmetric cryptography based on transformations, asymmetric based on mathematical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mmetric much more compute inte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not used for bulk data encry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407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uthentic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47440" y="996840"/>
            <a:ext cx="7723080" cy="52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ing set of potential senders of a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mentary to encry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can prove message un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authent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n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is, for eac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function for generating authenticators from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an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be efficiently computable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n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 {true, false}). That is, for eac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function for verifying authenticators on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an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be efficiently computable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44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Authentication (Cont.)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88480" y="1055160"/>
            <a:ext cx="6767640" cy="486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messag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 computer can generate an authenticat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,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ly if it possess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computer hold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generate authenticators on messages so that any other computer possess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verify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not hold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not generate authenticators on messages that can be verified us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authenticators are generally exposed (for example, they are sent on the network with the messages themselves), it must not be feasible to deriv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the authent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ally, if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,a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ru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we know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not been modified and that send of message h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we sh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only one entity, know where the message origin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31480" y="114480"/>
            <a:ext cx="786924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uthentication – Hash Function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60400" y="1064880"/>
            <a:ext cx="7259760" cy="50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s of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small, fixed-size block of dat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essage dig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hash valu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h Fun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collision resistant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st be infeasible to find a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≠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ch tha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essage has not been modif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message-digest functions includ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D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produces a 128-bit hash, and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HA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outputs a 160-bit h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useful as authent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(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can be sent with a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if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known someone could modif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recomput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(m’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modification not det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must authenticat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(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947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he Security Problem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47800" y="1165320"/>
            <a:ext cx="712296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ec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resources used and accessed as intended under all circum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chiev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Intrud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rack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ttempt to breach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Threa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potential security vio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tta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ttempt to breach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ack can be accidental or malic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ier to protect against accidental than malicious mis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uthentication - MAC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47440" y="1164960"/>
            <a:ext cx="7026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metric encryption used in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essage-authentication cod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A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uthentication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yptographic checksum generated from message using secret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ecurely authenticate short val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used to authentica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(m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is collision resistant, then obtain a way to securely authenticate long message by hashing them 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needed to compute bo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o anyone able to compute one can compute the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46160" y="182160"/>
            <a:ext cx="76946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uthentication – Digital Signatu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3400" y="1028880"/>
            <a:ext cx="7081920" cy="52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asymmetric keys and digital signature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ators produced ar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igital sign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useful –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y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verify authenticity of a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 digital-signature algorithm, computationally infeasible to deriv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one-way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public key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private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the RSA digital-signature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the RSA encryption algorithm, but the key use is rever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signature of messag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12000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ke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 is a pair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, 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product of two large, randomly chosen prime number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ication algorithm 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,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 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10000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9440" indent="-2124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isfi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− 1)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− 1)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" descr="Screen Shot 2013-02-18 at 6.47.48 PM.png"/>
          <p:cNvPicPr/>
          <p:nvPr/>
        </p:nvPicPr>
        <p:blipFill>
          <a:blip r:embed="rId1"/>
          <a:stretch/>
        </p:blipFill>
        <p:spPr>
          <a:xfrm>
            <a:off x="3857760" y="5391000"/>
            <a:ext cx="126720" cy="2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72720" y="99720"/>
            <a:ext cx="77137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uthentication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60040" y="1082520"/>
            <a:ext cx="7164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authentication if a subset of encryp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computations (except for RSA digital signatu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ator usually shorter than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imes want authentication but not confidenti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ed patches et 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basis f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non-repu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4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Key Distribu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60040" y="1164960"/>
            <a:ext cx="6359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y of symmetric key is huge 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imes do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out-of-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mmetric keys can proliferate – stored on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key 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 asymmetric key distribution needs care – man-in-the-middle at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2240" y="182160"/>
            <a:ext cx="78789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igital Certificat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01440" y="1110960"/>
            <a:ext cx="6700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of of who or what owns a public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key digitally signed a trusted pa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sted party receives proof of identification from entity and certifies that public key belongs to 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ertific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uthor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trusted party – their public keys included with web browser dis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vouch for other authorities via digitally signing their keys, and so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75840" y="150480"/>
            <a:ext cx="7869240" cy="48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Man-in-the-middle Attack on Asymmetric Cryptography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2" name="Picture 1" descr=""/>
          <p:cNvPicPr/>
          <p:nvPr/>
        </p:nvPicPr>
        <p:blipFill>
          <a:blip r:embed="rId1"/>
          <a:stretch/>
        </p:blipFill>
        <p:spPr>
          <a:xfrm>
            <a:off x="2427120" y="957240"/>
            <a:ext cx="444348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60400" y="155160"/>
            <a:ext cx="7826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mplementation of Cryptography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06400" y="1233360"/>
            <a:ext cx="35863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done at variou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lay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ISO Referenc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L at the Transport 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work layer is typically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IPS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IK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key ex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is of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Virtual Private Networks (VP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not just at lowest leve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times need more knowledge than available at low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.e. User authent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.e. e-mail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3" descr="Screen shot 2011-04-30 at 8.45.55 PM.png"/>
          <p:cNvPicPr/>
          <p:nvPr/>
        </p:nvPicPr>
        <p:blipFill>
          <a:blip r:embed="rId1"/>
          <a:stretch/>
        </p:blipFill>
        <p:spPr>
          <a:xfrm>
            <a:off x="4341960" y="906480"/>
            <a:ext cx="1977840" cy="5875200"/>
          </a:xfrm>
          <a:prstGeom prst="rect">
            <a:avLst/>
          </a:prstGeom>
          <a:ln w="0">
            <a:noFill/>
          </a:ln>
        </p:spPr>
      </p:pic>
      <p:sp>
        <p:nvSpPr>
          <p:cNvPr id="196" name="TextBox 4"/>
          <p:cNvSpPr/>
          <p:nvPr/>
        </p:nvSpPr>
        <p:spPr>
          <a:xfrm>
            <a:off x="6338880" y="4497480"/>
            <a:ext cx="20509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ource: http://en.wikipedia.org/wiki/OSI_model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Picture 5" descr="Screen shot 2011-04-30 at 8.46.34 PM.png"/>
          <p:cNvPicPr/>
          <p:nvPr/>
        </p:nvPicPr>
        <p:blipFill>
          <a:blip r:embed="rId2"/>
          <a:stretch/>
        </p:blipFill>
        <p:spPr>
          <a:xfrm>
            <a:off x="6451560" y="979560"/>
            <a:ext cx="2613240" cy="34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ncryption Example - SSL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5840" y="1098360"/>
            <a:ext cx="731376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on of cryptography at one layer of the ISO network model (the transport lay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L – Secure Socket Layer (also called T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yptographic protocol that limits two computers to only exchange messages with each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complicated, with many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between web servers and browsers for secure communication (credit card numb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rver is verified with 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ertific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ring client is talking to correct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mmetric cryptography used to establish a secur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ession key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mmetric encryption) for bulk of communication during 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 between each computer then uses symmetric key crypt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details in text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677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User Authentication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47800" y="1096560"/>
            <a:ext cx="7408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ucial to identify user correctly, as protection systems depend on user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identity most often established through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password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can be considered a special case of either keys or capab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swords must be kept secr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quent change of passw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y to avoid repe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guessabl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assw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 all invalid access attempts (but not the passwords themselv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authorized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swords may also either be encrypted or allowed to be used only o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encrypting passwords solve the exposure probl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ght solve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sniff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ider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shoulder surf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ider Trojan horse keystroke log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are passwords stored at authenticating sit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asswords 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806040" y="1077840"/>
            <a:ext cx="785988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rypt to avoid having to keep secr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keep secret anyway (i.e. Unix uses superuser-only readably fil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etc/shado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algorithm easy to compute but difficult to inv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encrypted password stored, never decry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l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avoid the same password being encrypted to the same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time passw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a function based on a seed to compute a password, both user and comp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ware device / calculator / key fob to generate the pass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s very frequent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ometr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physical attribute (fingerprint, hand sc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-factor authent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two or more factors for authent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.e. USB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gl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biometric measure, and pass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1040" y="194760"/>
            <a:ext cx="8015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ecurity Violation Categori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60400" y="1164960"/>
            <a:ext cx="6701040" cy="50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each of confidenti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uthorized reading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each of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uthorized modification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each of 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uthorized destruction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ft of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uthorized use of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nial of service 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O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on of legitimate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34920" y="182160"/>
            <a:ext cx="79567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mplementing Security Defens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47800" y="1055520"/>
            <a:ext cx="775008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Defense in depth</a:t>
            </a: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most common security theory – multiple layers of 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Security polic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bes what is being sec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ulnerability assessment compares real state of system / network compared to security poli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usion detection endeavors to detect attempted or successful intru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Signature-based</a:t>
            </a: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ction spots known bad patte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Anomaly detection</a:t>
            </a: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ots differences from normal beh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detect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zero-day</a:t>
            </a: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False-positives</a:t>
            </a: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false-negatives</a:t>
            </a: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rob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us 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arching all programs or programs at execution for known virus patte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 run in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sandbo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o can’t damag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diting, accounting, and logging of all or specific system or network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actice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safe computin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avoid sources of infection, download from only “good” sites, e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190080"/>
            <a:ext cx="8229600" cy="47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Firewalling to Protect Systems and Networks</a:t>
            </a: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60040" y="1069560"/>
            <a:ext cx="73278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etwork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firew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placed between trusted and untrusted h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rewall limits network access between these two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ecurity dom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tunneled or spoof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nneling allows disallowed protocol to travel within allowed protocol (i.e., telnet inside of HTT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wall rules typically based on host name or IP address which can be spoof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ersonal firewall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software layer on given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monitor / limit traffic to and from the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pplication proxy firewall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s application protocol and can control them (i.e., SMT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ystem-call firewall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s all important system calls and apply rules to them (i.e., this program can execute that system ca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63520" y="179280"/>
            <a:ext cx="8034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Network Security Through  Domain Separation Via Firewall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9" name="Picture 4" descr="15"/>
          <p:cNvPicPr/>
          <p:nvPr/>
        </p:nvPicPr>
        <p:blipFill>
          <a:blip r:embed="rId1"/>
          <a:stretch/>
        </p:blipFill>
        <p:spPr>
          <a:xfrm>
            <a:off x="1487520" y="1228680"/>
            <a:ext cx="6835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55800" y="11448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Computer Security Classifications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88480" y="1055520"/>
            <a:ext cx="699948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 Department of Defense outlines four divisions of computer security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Minimal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rovides discretionary protection through aud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ed in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fies cooperating users with the same level of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lows user-level acces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ll the properties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however each object may have unique sensitivity lab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ed in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Uses formal design and verification techniques to ensure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84200" y="1677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Example: Windows 7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26560" y="1064880"/>
            <a:ext cx="700740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 is based on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user accou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user has unique security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n to ID creates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security access to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s security ID for user, for use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groups, and special privile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ry process gets copy of to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checks token to determine if access allowed or den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a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subjec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odel to ensure access 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ubject tracks and manages permissions for each program that a user ru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object in Windows has a security attribute defined by a security descrip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example, a file has a security descriptor that indicates the access permissions for all 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84200" y="1677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Example: Windows 7 (Cont.)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95320" y="1064880"/>
            <a:ext cx="685656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 added mandatory integrity controls – assign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integrity labe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ach securable object and su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 must have access requested in discretionary access-control list to gain access to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attributes described by security descri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wner ID, group security ID, discretionary access-control list, system access-control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End of Chapter 15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71600" y="1947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ecurity Violation Method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47800" y="796680"/>
            <a:ext cx="7122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asquerad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reach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uthenti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ending to be an authorized user to escalate privile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eplay at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is or with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essage mod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an-in-the-middle at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uder sits in data flow, masquerading as sender to receiver and vice ver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ession hij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cept an already-established session to bypass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1120" y="182160"/>
            <a:ext cx="80056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tandard Security Attack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2589120" y="1008000"/>
            <a:ext cx="406584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64720" y="167760"/>
            <a:ext cx="78217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ecurity Measure Level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47440" y="1069920"/>
            <a:ext cx="704052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ssible to have absolute security, but make cost to perpetrator sufficiently high to deter most intru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must occur at four levels to be effec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centers, servers, connected termi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ocial engineer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 phish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 dumpster di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ion mechanisms, debu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cepted communications, interruption, 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is as weak as the weakest link in the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can too much security be a probl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84200" y="1267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gram Threat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7800" y="1082520"/>
            <a:ext cx="770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variations, many 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Trojan Ho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 segment that misuses its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its mechanisms for allowing programs written by users to be executed by other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pywa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 pop-up browser window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 covert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 to 80% of spam delivered by spyware-infected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Trap D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 user identifier or password that circumvents normal security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ld be included in a compi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detect th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23:43:38Z</dcterms:created>
  <dc:creator>Lucent End User</dc:creator>
  <dc:description/>
  <dc:language>en-US</dc:language>
  <cp:lastModifiedBy>Paige, Judi</cp:lastModifiedBy>
  <cp:lastPrinted>2013-09-10T17:57:57Z</cp:lastPrinted>
  <dcterms:modified xsi:type="dcterms:W3CDTF">2013-10-02T19:48:35Z</dcterms:modified>
  <cp:revision>184</cp:revision>
  <dc:subject/>
  <dc:title>2.01</dc:title>
</cp:coreProperties>
</file>