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A65EC4-47BB-4AD9-B75E-C0F66937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8F4012-DEFE-41C5-AD91-34767B792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D4B143-186C-4B5C-BED1-C7CDF2EEA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44C13F-A5D6-4C77-B0AA-70F16898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8C3EC6-DAAC-4413-ADA5-C0FC9C8CF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483AB4-1D9E-4456-B656-35C01938C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DBFC85-97A8-41A1-A2C1-8F6E1C308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F082A9-E1F9-4F1C-9C80-B7D579A42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BC1F70-8260-405A-A03C-DF7D794A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DB5789-9393-4C62-9983-D55446F1E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E5B0CC-68AD-46E7-A680-BC68C4027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14BF5D-02C2-466F-B273-AA8033854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D2F66D-5FC1-440E-8439-8373EC9D1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7C28D6-4B42-4489-809F-0E56BA6F6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7D88E8-85F3-4B4E-83EF-A46F1B978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09BE78-952F-4DD1-8750-481A53C60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0AAE97-90ED-4453-88AC-EE4E373EE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59B3F9-A0B6-4AF4-AFC7-672A1604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44D194-2C3A-4D3B-8DBB-1050F327F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7F1B9A-F17A-4D01-9DE6-4BAA40365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365D52-59AE-4426-B4FF-00A9CA216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DE4369-68CB-438C-9DCE-AF91AACC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BADBE9-9B3C-4BFD-A5CA-5803F82F4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4D500F-496D-4432-819B-246B69530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C7F308-6B44-4B13-9624-A7D909E05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DD69B8-B226-4B87-96CD-E884DF162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3752E9-3441-4163-AFAF-F04BCCB7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5C36E3-D50A-46A7-9664-C6700A294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4.</a:t>
            </a:r>
            <a:fld id="{0D817DA2-81B0-42D0-BC01-06F03B5F74FD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720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4:  Protec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s Benefits and Limi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06400" y="1233360"/>
            <a:ext cx="6494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/ hierarchical structure provided more than the basic kernel / user or root / normal use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complex -&gt; mor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 not allow strict need-to-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not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n every segment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4560" y="167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4800" y="1119240"/>
            <a:ext cx="68500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rotection as a matrix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s represen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 repres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(i, j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operations that a process executing in Domai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voke on Objec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1911240" y="3208320"/>
            <a:ext cx="4087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1120" y="167760"/>
            <a:ext cx="8005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ccess Matr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0400" y="1111320"/>
            <a:ext cx="678168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s to d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bj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in the acces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ho creates object can define access column for tha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ynamic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o add, delete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access r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of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op from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enoted by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–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an modify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– switch from domain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domai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6240" y="155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ccess Matrix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0040" y="1150560"/>
            <a:ext cx="693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eparates mechanism from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provides access-matrix +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nsures that the matrix is only manipulated by authorized agents and that rules are strictly en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ictates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can access what object and in wha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solve the general confinement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9160" y="150840"/>
            <a:ext cx="77468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ccess Matrix of Figure A with Domains as Object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" name="Picture 6" descr="14"/>
          <p:cNvPicPr/>
          <p:nvPr/>
        </p:nvPicPr>
        <p:blipFill>
          <a:blip r:embed="rId1"/>
          <a:stretch/>
        </p:blipFill>
        <p:spPr>
          <a:xfrm>
            <a:off x="1353960" y="1405080"/>
            <a:ext cx="6761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3120" y="1821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Copy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498760" y="1214280"/>
            <a:ext cx="42559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155160"/>
            <a:ext cx="778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Owner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3" name="Picture 5" descr="14"/>
          <p:cNvPicPr/>
          <p:nvPr/>
        </p:nvPicPr>
        <p:blipFill>
          <a:blip r:embed="rId1"/>
          <a:stretch/>
        </p:blipFill>
        <p:spPr>
          <a:xfrm>
            <a:off x="2838600" y="1219320"/>
            <a:ext cx="3565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1280" y="18216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ified Access Matrix of Figure B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301760" y="1392120"/>
            <a:ext cx="69534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140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9000" y="1092240"/>
            <a:ext cx="62769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a spars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 – Glob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ordered tripl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, object, rights-set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quested operation M on ob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&gt; search tab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 ∈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able could be large -&gt; 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fi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group objects (consider an object that all domains can 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3840" y="140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2640" y="1092240"/>
            <a:ext cx="6510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2 – Access lists fo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implemented as an access list for on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per-object list consists of ordered pai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, rights-set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all domains with non-empty set of access rights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extended to contain default set -&gt; If M ∈ default set, also allo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6776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4: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8600" y="1134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of Access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5732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74440" y="1233360"/>
            <a:ext cx="7040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= Access-control list for one obj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o can perform what operation</a:t>
            </a:r>
            <a:br>
              <a:rPr sz="18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 = Read, Wri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2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3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= Capability List (like a ke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domain, what operations allowed on wha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1 –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4 –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5 – Read, Write, Delete,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155160"/>
            <a:ext cx="7758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60400" y="1137960"/>
            <a:ext cx="697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3 – Capability list fo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object-based, list is domain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apability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domain is list of objects together with operations allows o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represented by its name or address, called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operation M on object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rocess requests operation and specifies capability as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sion of capability means access is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bility list associated with domain but never directly accessible by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, protected object, maintained by OS and accessed in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e po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 can be extended up to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8800" y="277920"/>
            <a:ext cx="7758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60040" y="750600"/>
            <a:ext cx="65502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4 – Lock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access lists and capabilit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list of unique bit patterns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omain as list of unique bit patterns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n a domain can only access object if domain has key that matches one of th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7040" y="12672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arison of Implementation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0400" y="109656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rade-offs to cons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ble is simple, but can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lists correspond to needs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set of access rights for domain non-localized so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access to an object must be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bjects and access rights -&gt;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 lists useful for localizing information for a give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evocation capabilities can be in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key effective and flexible, keys can be passed freely from domain to domain, easy re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6280" y="15516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arison of Implementation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0400" y="1110960"/>
            <a:ext cx="6632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use combination of access lists and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cess to an object -&gt; access list sea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owed, capability created and attached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ccesses need not be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ast access, capability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file system with ACLs p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0480" y="126720"/>
            <a:ext cx="7996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0800" y="1096920"/>
            <a:ext cx="43099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an be applied to non-fi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Solaris 10 provid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le-based access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B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vile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ight to execute system call or use an option within a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ssigned t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assign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access to privileges and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role via password to gain its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cces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5826240" y="1365120"/>
            <a:ext cx="2268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2320" y="12672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vocation of Access Right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440" y="1050840"/>
            <a:ext cx="69721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 to remove the access right of a domain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vs. 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vs.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vs.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vs. perma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Lis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elete access rights from acces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arch access list and remov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2320" y="12672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vocation of Access Righ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60400" y="1064880"/>
            <a:ext cx="7383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pability Lis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cheme required to locate capability in the system before capability can be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qui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eriodic delete, with require and denial if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-poin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pointers from each object to all capabilities of that object (Mul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pability points to global table entry which points to object – delete entry from global table, not selective (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bits associated with capability, generated when capabil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key associated with object, key matches master key f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– create new mast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decision of who can create and modify keys – object owner or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126720"/>
            <a:ext cx="772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pability-Based Systems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47800" y="1050480"/>
            <a:ext cx="69991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set of access rights known to and interpreted by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read, write, or execute each memory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an declare othe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uxiliary righ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gister those with protec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ing process must hold capability and know name of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ights ampl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ed by trustworthy  procedures for a specific 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retation of user-defined rights performed solely by user's program; system provides access protection for use of these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 on objects defined procedurally – procedures are objects accessed indirectly by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blem of mutually suspicious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library of prewritten security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4800" y="126720"/>
            <a:ext cx="772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pability-Based Systems (Cont.)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88840" y="1092240"/>
            <a:ext cx="661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CAP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r but 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cap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s standard read, write, execute of individual storage segments associated with object – implemented in micro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ware cap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terpretation left to the subsystem, through its protecte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has access to its ow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must learn principles and techniqu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50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goals and principles of protection in a modern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rotection domains combined with an access matrix are used to specify the resources a process ma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capability and language-based prote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7200" y="155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nguage-Based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7440" y="1179360"/>
            <a:ext cx="6467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protection in a programming language allows the high-level description of policies for the allocation and use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mplementation can provide software for protection enforcement when automatic hardware-supported checking is un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protection specifications to generate calls on whatever protection system is provided by the hardware and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1520" y="167760"/>
            <a:ext cx="8045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 in Java 2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3400" y="1164960"/>
            <a:ext cx="67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is handled by the 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protection domain when it is load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ection domain indicates what operations the class can (and cannot) 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ibrar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voked that performs a privileged operation, the stack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sp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nsure the operation can be performed by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Java’s load-time and run-time checks enforc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ype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 effective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ncapsu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rotect data and methods from oth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958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ck Insp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843200" y="1346040"/>
            <a:ext cx="5933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4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42480" y="18216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oals of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04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protection model,  computer consists of a collection of objects, hardware o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a unique name and can be accessed through a well-defined set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problem - ensure that each object is accessed correctly and only by those processes that are allowed to do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4560" y="140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nciples of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7800" y="1069560"/>
            <a:ext cx="67262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principle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nciple of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, users and systems should be given just enoug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erform thei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damage if entity has a bug, get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tatic (during life of system, during life of proce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ynamic (changed by process as needed)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main swi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 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kno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imilar concept regarding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4560" y="167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nciples of Protec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3400" y="1069920"/>
            <a:ext cx="6672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-grained  privilege management easier, simpler, but least privilege now done in large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raditional Unix processes either have abilities of the associated user, or of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-grained management more complex, more overhead, but more prot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ACL lists, R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an be user, process,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535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right =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all valid operations that can be performed on the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set of access-righ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255680" y="3024360"/>
            <a:ext cx="5913360" cy="13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144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Implementation (UNIX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096560"/>
            <a:ext cx="695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user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associated with it a domain bit (setuid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le is executed and setuid = on, then user-id is set to owner of the file being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xecution completes user-id is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temporarily switches to another us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omain when other dom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ssword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ing via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prefix executes specified command in another domain (if original domain has privilege or password gi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000" y="1821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Implementation (MULTICS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3080" y="1100160"/>
            <a:ext cx="73692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y two domain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979640" y="2211480"/>
            <a:ext cx="4772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09-29T14:19:39Z</dcterms:modified>
  <cp:revision>180</cp:revision>
  <dc:subject/>
  <dc:title>2.01</dc:title>
</cp:coreProperties>
</file>