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20.jpeg" ContentType="image/jpeg"/>
  <Override PartName="/ppt/media/image18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EFAFFE6-059B-42CF-87A3-89407CB1B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918D615-F0C3-483F-B39D-6A568C97A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03128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3.</a:t>
            </a:r>
            <a:fld id="{B158FFF2-C1C2-42A9-B941-00554F404E9C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94400" y="6621480"/>
            <a:ext cx="26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– 9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4440" y="6613560"/>
            <a:ext cx="26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 – 9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0680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71160" y="18316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Chapter 3:  Processes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828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PU Switch From Process to Proces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9" name="Picture 9" descr=""/>
          <p:cNvPicPr/>
          <p:nvPr/>
        </p:nvPicPr>
        <p:blipFill>
          <a:blip r:embed="rId1"/>
          <a:stretch/>
        </p:blipFill>
        <p:spPr>
          <a:xfrm>
            <a:off x="1384200" y="1104840"/>
            <a:ext cx="69692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1120" y="136080"/>
            <a:ext cx="7645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read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87480" y="1093680"/>
            <a:ext cx="697536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far, process has a single thread of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having multiple program counters 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locations can execute a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hreads of control -&gt;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then have storage for thread details, multiple program counters in P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next 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0480" y="144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Representation in Linux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ed by the C stru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ask_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id t_pid; /* process identifier */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ong state; /* state of the process */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int time_slice /* scheduling information */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task_struct *parent; /* this process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 parent */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list_head children; /* this process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 children */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files_struct *files; /* list of open files */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mm_struct *mm; /* address space of this process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C:\Users\as668\Desktop\in-3_1.jpg"/>
          <p:cNvPicPr/>
          <p:nvPr/>
        </p:nvPicPr>
        <p:blipFill>
          <a:blip r:embed="rId1"/>
          <a:stretch/>
        </p:blipFill>
        <p:spPr>
          <a:xfrm>
            <a:off x="1627200" y="4111560"/>
            <a:ext cx="58658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1120" y="136080"/>
            <a:ext cx="7645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87400" y="1168560"/>
            <a:ext cx="697536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ize CPU use, quickly switch processes onto CPU for time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cess schedul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s among available processes for next execution on 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cheduling queu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Job queu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et of all processes in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ady queu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et of all processes residing in main memory, ready and waiting to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evice queu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et of processes waiting for an I/O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migrate among the various que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4880" y="236520"/>
            <a:ext cx="7983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Ready Queue And Various I/O Device Queues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1768320" y="1214280"/>
            <a:ext cx="58230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Representation of Process Scheduling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0" name="Picture 4" descr="3"/>
          <p:cNvPicPr/>
          <p:nvPr/>
        </p:nvPicPr>
        <p:blipFill>
          <a:blip r:embed="rId1"/>
          <a:stretch/>
        </p:blipFill>
        <p:spPr>
          <a:xfrm>
            <a:off x="1487520" y="1967040"/>
            <a:ext cx="6546960" cy="3781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808200" y="1303200"/>
            <a:ext cx="697536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Queueing diagra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s queues, resources, flow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cheduler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87400" y="1108080"/>
            <a:ext cx="745344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Short-term scheduler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CPU schedul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– selects which process should be executed next and allocates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the only scheduler in a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rt-term scheduler is invoked frequently (milliseconds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must be fa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Long-term scheduler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job schedul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– selects which processes should be brought into the ready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-term scheduler is invoked  infrequently (seconds, minutes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may be sl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long-term scheduler controls the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degree of multi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can be described as eith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I/O-bound proc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spends more time doing I/O than computations, many short CPU bur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CPU-bound proces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spends more time doing computations; few very long CPU bur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-term scheduler strives for good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cess m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576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ddition of Medium Term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1"/>
          <a:stretch/>
        </p:blipFill>
        <p:spPr>
          <a:xfrm>
            <a:off x="1031760" y="2827440"/>
            <a:ext cx="7328160" cy="26654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806400" y="1160640"/>
            <a:ext cx="72010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edium-term scheduler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added if degree of multiple programming needs to decre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Remove process from memory, store on disk, bring back in from disk to continue execution: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  <a:ea typeface="MS PGothic"/>
              </a:rPr>
              <a:t>swapp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190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ultitasking in Mobile Syste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122480"/>
            <a:ext cx="73598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mobile systems (e.g., early version of iOS)  allow only one process to run, others sus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e to screen real estate, user interface limits iOS provides for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oreg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- controlled via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ackg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es– in memory, running, but not on the display, and with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s include single, short task, receiving notification of events, specific long-running tasks like audio play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oid runs foreground and background, with fewer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 process uses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r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perform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can keep running even if background process is sus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has no user interface, small memory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ntext Switch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53920" y="1108080"/>
            <a:ext cx="69976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PU switches to another process, the system must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ave the st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old process and load th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aved st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new process via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ontext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ontex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 process represented in the P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-switch time is overhead; the system does no useful work while sw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re complex the OS and the PCB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longer the context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ependent on hardwar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hardware provides multiple sets of registers per CPU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ltiple contexts loaded a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44120" y="182160"/>
            <a:ext cx="63802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hapter 3:  Process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6400" y="1120320"/>
            <a:ext cx="737064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 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ocess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IPC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in Client-Serv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rations on Process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4804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must provide mechanisms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re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termin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o on as detailed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Cre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53920" y="1170000"/>
            <a:ext cx="691848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r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reat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hildr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, which, in turn create other processes, forming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ly, process identified and managed via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cess identifi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sharing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and children share al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share subset of paren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and child share no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and children execute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waits until children 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 Tree of Processes in Linux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6" name="Picture 1" descr="3_08.pdf"/>
          <p:cNvPicPr/>
          <p:nvPr/>
        </p:nvPicPr>
        <p:blipFill>
          <a:blip r:embed="rId1"/>
          <a:stretch/>
        </p:blipFill>
        <p:spPr>
          <a:xfrm>
            <a:off x="1182600" y="1352520"/>
            <a:ext cx="706140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9920" y="151920"/>
            <a:ext cx="7616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Creation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70120" y="1060200"/>
            <a:ext cx="7154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 duplicate of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 has a program loaded into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k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 creates new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 used after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k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place the proc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mory space with a new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3"/>
          <p:cNvPicPr/>
          <p:nvPr/>
        </p:nvPicPr>
        <p:blipFill>
          <a:blip r:embed="rId1"/>
          <a:stretch/>
        </p:blipFill>
        <p:spPr>
          <a:xfrm>
            <a:off x="1496880" y="3798720"/>
            <a:ext cx="6419880" cy="16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6840" y="161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 Program Forking Separate Proces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1" name="Picture 5" descr="Screen Shot 2012-12-04 at 11.21.10 AM.png"/>
          <p:cNvPicPr/>
          <p:nvPr/>
        </p:nvPicPr>
        <p:blipFill>
          <a:blip r:embed="rId1"/>
          <a:stretch/>
        </p:blipFill>
        <p:spPr>
          <a:xfrm>
            <a:off x="1735200" y="969840"/>
            <a:ext cx="6038640" cy="56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8432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reating a Separate Process via Windows API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3" name="Picture 1" descr="Screen Shot 2012-12-04 at 11.23.48 AM.png"/>
          <p:cNvPicPr/>
          <p:nvPr/>
        </p:nvPicPr>
        <p:blipFill>
          <a:blip r:embed="rId1"/>
          <a:stretch/>
        </p:blipFill>
        <p:spPr>
          <a:xfrm>
            <a:off x="2408400" y="963720"/>
            <a:ext cx="436536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Termin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170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executes last statement and then asks the operating system to delete it using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system c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 status data from child to parent (vi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ait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ources are deallocated by 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may terminate the execution of children processes  using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bort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system call.  Some reasons for doing 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 has exceeded allocate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assigned to child is no longer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rent is exiting and the operating systems does not allow  a child to continue if its parent termi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Termin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57240" y="1042920"/>
            <a:ext cx="7369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perating systems do not allow child to exists if its parent has terminated.  If a process terminates, then all its children must also be termin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cading termination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hildren, grandchildren, etc.  are  termin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rmination is initiated by the operating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rent process may wait for termination of a child process by using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ait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ll returns status information and the pid of the terminat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id = wait(&amp;status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parent waiting (did not invok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ait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is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zomb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arent terminated without invok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process is a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orp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5440" y="150480"/>
            <a:ext cx="79977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Multiprocess Architecture – Chrome Browser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06040" y="1233360"/>
            <a:ext cx="7512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web browsers ran as single process (some still 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one web site causes trouble, entire browser can hang or cr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gle Chrome Browser is multiprocess with 3 different types of process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row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 manages user interface, disk and network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nder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 renders web pages, deals with HTML, Javascript. A new renderer created for each website o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s i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andb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tricting disk and network I/O, minimizing effect of security explo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lug-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for each type of plug-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" descr="in-3_2.pdf"/>
          <p:cNvPicPr/>
          <p:nvPr/>
        </p:nvPicPr>
        <p:blipFill>
          <a:blip r:embed="rId1"/>
          <a:stretch/>
        </p:blipFill>
        <p:spPr>
          <a:xfrm>
            <a:off x="1473120" y="4925880"/>
            <a:ext cx="629280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82800" y="167760"/>
            <a:ext cx="770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terprocess Communi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85600" y="1153800"/>
            <a:ext cx="7484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within a system may b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ope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perating process can affect or be affected by other processes, including shar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for cooperating proce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 speed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perating processes ne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terprocess communic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P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models of I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har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essage pa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7720" y="1137960"/>
            <a:ext cx="682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ntroduce the notion of a process -- a program in execution, which forms the basis of all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the various features of processes, including scheduling, creation and termination, and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ore interprocess communication using shared memory and message pa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communication in client-serv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mmunications Models 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4" name="Picture 1" descr="3_12.pdf"/>
          <p:cNvPicPr/>
          <p:nvPr/>
        </p:nvPicPr>
        <p:blipFill>
          <a:blip r:embed="rId1"/>
          <a:stretch/>
        </p:blipFill>
        <p:spPr>
          <a:xfrm>
            <a:off x="1623960" y="1725480"/>
            <a:ext cx="6100920" cy="43243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969840" y="1143000"/>
            <a:ext cx="63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) Message passing.  (b) shared memory.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0560" y="277920"/>
            <a:ext cx="76262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operating Process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529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 cannot affect or be affected by the execution of anoth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opera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 can affect or be affected by the execution of anoth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 of process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sha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 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8800" y="247320"/>
            <a:ext cx="7937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ducer-Consumer Proble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43120" y="1185480"/>
            <a:ext cx="66672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digm for cooperating processe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duc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 produces information that is consumed by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nbounded-buff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s no practical limit on the size of the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ounded-buff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s that there is a fixed buffer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6160" y="299880"/>
            <a:ext cx="80740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Bounded-Buffer – Shared-Memory Solution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95560" y="1203120"/>
            <a:ext cx="713088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red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BUFFER_SIZE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struc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 it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tem buffer[BUFFER_SIZE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n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out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 is correct, but can only use BUFFER_SIZE-1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202680"/>
            <a:ext cx="7569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ounded-Buffer – Producer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603080" y="1014120"/>
            <a:ext cx="69404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 next_produce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le (tru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* produce an item in next produced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le (((in + 1) % BUFFER_SIZE) == ou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/* do nothing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[in] = next_produce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= (in + 1) % BUFFER_SIZ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7167600" indent="0">
              <a:spcBef>
                <a:spcPts val="612"/>
              </a:spcBef>
              <a:buNone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ounded Buffer – Consumer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49160" y="1219320"/>
            <a:ext cx="68943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tem next_consume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true)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in == ou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/* do nothing */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_consumed = buffer[out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ut = (out + 1) % BUFFER_SIZE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 consume the item in next consumed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57320" y="954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Arial"/>
              </a:rPr>
              <a:t>Interprocess Communication –  Shared Memory</a:t>
            </a:r>
            <a:endParaRPr b="1" lang="en-US" sz="2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98200" y="1233360"/>
            <a:ext cx="6621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ea of memory shared among the processes that wish to commun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munication is under the control of the users processes not the operating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 issues is to provide mechanism that will allow the user processes to synchronize their actions when they access shared mem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ation is discussed in great details in Chapter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57320" y="1267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Arial"/>
              </a:rPr>
              <a:t>Interprocess Communication – Message Passing</a:t>
            </a:r>
            <a:endParaRPr b="1" lang="en-US" sz="2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85600" y="1201680"/>
            <a:ext cx="6933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 for processes to communicate and to synchronize their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system – processes communicate with each other without resorting to shar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C facility provides two oper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ze is either fixed or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6840" y="107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Arial"/>
              </a:rPr>
              <a:t>Message Passing (Cont.)</a:t>
            </a:r>
            <a:endParaRPr b="1" lang="en-US" sz="2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01800" y="1015920"/>
            <a:ext cx="7694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roces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sh to communicate, they nee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messages via send/rece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iss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are links establish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 link be associated with more than two process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links can there be between every pair of communicating process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capacity of a lin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size of a message that the link can accommodate fixed or vari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link unidirectional or bi-direction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3480" y="123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Arial"/>
              </a:rPr>
              <a:t>Message Passing (Cont.)</a:t>
            </a:r>
            <a:endParaRPr b="1" lang="en-US" sz="2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01800" y="785520"/>
            <a:ext cx="7694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of communication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or indi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or asynchron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or explicit buff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76440" y="166320"/>
            <a:ext cx="61070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Concep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28800" y="1177560"/>
            <a:ext cx="73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perating system executes a variety of progra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ch system –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-shared systems –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ser program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book uses the term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o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most interchange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 program in execution; process execution must progress in sequential fash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gram code, also call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ext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activity including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progr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ou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rocessor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ta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ing temporar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parameters, return addresses, local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ata s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ing global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He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ing memory dynamically allocated during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77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rect Communi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85960" y="1137960"/>
            <a:ext cx="76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must name each other explici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, 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send a message to proces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, 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receive a message from process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ies of communication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s are established automa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nk is associated with exactly one pair of communicat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each pair there exists exactly one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nk may be unidirectional, but is usually bi-dire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direct Communi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53920" y="1166760"/>
            <a:ext cx="7391520" cy="41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are directed and received from mailboxes (also referred to as por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ailbox has a uniqu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can communicate only if they share a mail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ies of communication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established only if processes share a common mail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nk may be associated with many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air of processes may share several communication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may be unidirectional or bi-dire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272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direct Communi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135080"/>
            <a:ext cx="758052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mailbox (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and receive messages through mail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 a mail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itives are defined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, 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send a message to mailbox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, 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receive a message from mailbox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6240" y="182160"/>
            <a:ext cx="7810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direct Communi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2360" y="1126800"/>
            <a:ext cx="663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box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are mailbox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nds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e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gets the mess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a link to be associated with at most two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only one process at a time to execute a receive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the system to select arbitrarily the receiver.  Sender is notified who the receiver w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ynchroniz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31680" y="1050480"/>
            <a:ext cx="726732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passing may be either blocking or non-b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onsider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ynchron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ing se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nder is blocked until the message is rece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ing rece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ceiver is  blocked until a message i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Non-b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onsider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synchron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blocking s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 the sender sends the message and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blocking rece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 the receiver rece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341280">
              <a:spcBef>
                <a:spcPts val="788"/>
              </a:spcBef>
              <a:buClr>
                <a:srgbClr val="0099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alid message, 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341280">
              <a:spcBef>
                <a:spcPts val="788"/>
              </a:spcBef>
              <a:buClr>
                <a:srgbClr val="0099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combination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both send and receive are blocking, we have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  <a:ea typeface="MS PGothic"/>
              </a:rPr>
              <a:t>rendezv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ynchronization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0920" y="1203480"/>
            <a:ext cx="659952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1000"/>
          </a:bodyPr>
          <a:p>
            <a:pPr marL="72000" indent="-720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r-consumer becomes trivi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 next_produce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true)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/* produce an item in next produced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nd(next_produced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1558800" y="3598920"/>
            <a:ext cx="637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sage next_consumed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(next_consumed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 consume the item in next consumed *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uffer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88840" y="1233360"/>
            <a:ext cx="7121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 of messages attached to the 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ed in one of three 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ro capacity – no messages are queued on a link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must wait for receiver (rendezv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ed capacity – finite length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ssag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must wait if link f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bounded capacity – infinite lengt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never wa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66960" y="186840"/>
            <a:ext cx="7850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s of IPC Systems - POSIX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11160" y="1233360"/>
            <a:ext cx="75772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X Shar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first creates shared memory segm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hm_fd = shm_open(name, O CREAT | O RDWR, 066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used to open an existing segment to share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size of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truncate(shm fd, 4096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he process could write to the shar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printf(shared memory, "Writing to shared memory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36720" y="173160"/>
            <a:ext cx="78501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PC POSIX Producer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2" name="Picture 1" descr="Screen Shot 2013-03-14 at 6.46.57 PM.png"/>
          <p:cNvPicPr/>
          <p:nvPr/>
        </p:nvPicPr>
        <p:blipFill>
          <a:blip r:embed="rId1"/>
          <a:stretch/>
        </p:blipFill>
        <p:spPr>
          <a:xfrm>
            <a:off x="2481120" y="903240"/>
            <a:ext cx="375444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6720" y="186840"/>
            <a:ext cx="7850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PC POSIX Consumer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4" name="Picture 1" descr="Screen Shot 2013-03-12 at 1.38.41 PM.png"/>
          <p:cNvPicPr/>
          <p:nvPr/>
        </p:nvPicPr>
        <p:blipFill>
          <a:blip r:embed="rId1"/>
          <a:stretch/>
        </p:blipFill>
        <p:spPr>
          <a:xfrm>
            <a:off x="2206800" y="892080"/>
            <a:ext cx="452088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76440" y="155160"/>
            <a:ext cx="61070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Concept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33120" y="1041120"/>
            <a:ext cx="71643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ity stored on disk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xecutable f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process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becomes process when executable file loaded int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of program started via GUI mouse clicks, command line entry of its name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program can be several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multiple users executing the sam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38320" y="155160"/>
            <a:ext cx="7548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s of IPC Systems - Mach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853920" y="1076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 communication is message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system calls are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ask gets two mailboxes at creation- Kernel and Not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three system calls needed for messa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sg_send(), msg_receive(), msg_rpc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boxes needed for commuication, created 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_allocat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and receive are flexible, for example four options if mailbox ful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 indefini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 at most n milli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immedia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orarily cache a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5708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Examples of IPC Systems – Windows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69760" y="1153800"/>
            <a:ext cx="6949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-passing centric vi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dvanced local procedure ca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P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works between processes on the sam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ports (like mailboxes) to establish and maintain communication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works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ient opens a handle to the subsystem’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nection p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ient sends a connection requ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rver creates two privat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mmunication por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eturns the handle to one of them to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ient and server use the corresponding port handle to send messages or callbacks and to listen for repl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2564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ocal Procedure Calls in Window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0" name="Picture 4" descr="3"/>
          <p:cNvPicPr/>
          <p:nvPr/>
        </p:nvPicPr>
        <p:blipFill>
          <a:blip r:embed="rId1"/>
          <a:stretch/>
        </p:blipFill>
        <p:spPr>
          <a:xfrm>
            <a:off x="1379520" y="1830240"/>
            <a:ext cx="65674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28880" y="123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ommunications in Client-Server Systems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88840" y="1233360"/>
            <a:ext cx="6794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Procedure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Method Invocation (Ja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cke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1880" y="1153800"/>
            <a:ext cx="697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ock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defined as an endpoint for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tenation of IP address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 number included at start of message packet to differentiate network services on a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ck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1.25.19.8:16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fers to por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ho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1.25.19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consists between a pair of s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orts below 1024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ell kn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used for standar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IP address 127.0.0.1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oopb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to refer to system on which process is r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7080" y="151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cket Communi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1"/>
          <a:stretch/>
        </p:blipFill>
        <p:spPr>
          <a:xfrm>
            <a:off x="1782720" y="1166760"/>
            <a:ext cx="57945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ckets in Java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3419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types of s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nection-orient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C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nectionl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D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lticastSock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ss– data can be sent to multiple recip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is “Date” serv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" descr="Screen Shot 2012-12-04 at 1.11.28 PM.png"/>
          <p:cNvPicPr/>
          <p:nvPr/>
        </p:nvPicPr>
        <p:blipFill>
          <a:blip r:embed="rId1"/>
          <a:stretch/>
        </p:blipFill>
        <p:spPr>
          <a:xfrm>
            <a:off x="4087800" y="1125360"/>
            <a:ext cx="496728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mote Procedure Call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01440" y="1138320"/>
            <a:ext cx="682308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procedure call (RPC) abstracts procedure calls between processes on network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 uses ports for service differen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tub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lient-side proxy for the actual procedure on th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ient-side stub locates the server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rsha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rver-side stub receives this message, unpacks the marshalled parameters, and performs the procedure on th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Windows, stub code compile from specification written 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soft Interface Definition Langu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D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30240" y="229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mote Procedure Call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74800" y="777960"/>
            <a:ext cx="68184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representation handled vi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xternal Data Represent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D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mat to account for different archite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ig-endi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ittle-e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communication has more failure scenarios than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can be deliver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actly o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her th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t mo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typically provides a rendezvous (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chmak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service to connect client and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ecution of RPC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5" name="Picture 6" descr="3"/>
          <p:cNvPicPr/>
          <p:nvPr/>
        </p:nvPicPr>
        <p:blipFill>
          <a:blip r:embed="rId1"/>
          <a:stretch/>
        </p:blipFill>
        <p:spPr>
          <a:xfrm>
            <a:off x="2284560" y="1015920"/>
            <a:ext cx="442116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in Memor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2739960" y="1254240"/>
            <a:ext cx="291168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ip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74800" y="1153800"/>
            <a:ext cx="6945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s as a conduit allowing two processes to commun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communication unidirectional or bidirection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ase of two-way communication, is it half or full-duple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there exist a relationship (i.e.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rent-chi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between the communicating process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the pipes be used over a networ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inary pipes – cannot be accessed  from outside the process that created it. Typically, a parent process creates a pipe and uses it to communicate with a child process that it cre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d pipes – can be accessed without a parent-child relationsh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rdinary Pip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21880" y="1138320"/>
            <a:ext cx="7612200" cy="49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inary Pi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communication in standard producer-consumer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r writes to one end (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rite-e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pi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reads from the other end (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ad-e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pi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inary pipes are therefore unidire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 parent-child relationship between communicat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calls thes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onymous p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Unix and Windows code samples in text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1792440" y="3313080"/>
            <a:ext cx="55926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3040" y="151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amed Pip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06040" y="1233360"/>
            <a:ext cx="7061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d Pipes are more powerful than ordinary p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is bidire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arent-child relationship is necessary between the communicat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processes can use the named pipe for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on both UNIX and Window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End of Chapter 3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0440" y="182160"/>
            <a:ext cx="62517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Stat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6400" y="1246320"/>
            <a:ext cx="7370640" cy="32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process executes, it change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The process is being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Instructions are being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The process is waiting for some event to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The process is waiting to be assigned to a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The process has finished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9440" y="182160"/>
            <a:ext cx="7947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agram of Process Stat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1555920" y="1308240"/>
            <a:ext cx="663552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66400" y="136080"/>
            <a:ext cx="75200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Control Block (PCB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06400" y="1041120"/>
            <a:ext cx="457992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associated with each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lso call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ask control b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state – running, waiting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counter – location of instruction to next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registers – contents of all process-centric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scheduling information- priorities, scheduling queue po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management information – memory allocated to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unting information – CPU used, clock time elapsed since start, time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status information – I/O devices allocated to process, list of open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1"/>
          <a:stretch/>
        </p:blipFill>
        <p:spPr>
          <a:xfrm>
            <a:off x="5740560" y="1393920"/>
            <a:ext cx="279540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23:43:38Z</dcterms:created>
  <dc:creator>Lucent End User</dc:creator>
  <dc:description/>
  <dc:language>en-US</dc:language>
  <cp:lastModifiedBy>Silberschatz, Avi</cp:lastModifiedBy>
  <cp:lastPrinted>2013-10-02T18:16:40Z</cp:lastPrinted>
  <dcterms:modified xsi:type="dcterms:W3CDTF">2013-10-05T12:15:50Z</dcterms:modified>
  <cp:revision>280</cp:revision>
  <dc:subject/>
  <dc:title>2.01</dc:title>
</cp:coreProperties>
</file>