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401652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00240" y="70452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42AA92D-0EA0-4F7A-B389-2E00AEA83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DB3992E-B6FC-4910-A25C-B2A96F7B2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CB60649-F0A9-4CFC-8C50-43ABAEE46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80BBBDF-85B0-45B4-9598-4672043BA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C8B2B95-F620-41B1-B2EF-12EE4A844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53EE2B1-004C-4E37-9A1E-E0A10DADC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BC22B7C-1873-4508-B324-29D5F1570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B11E48E-0171-4C29-9E8E-29EB46D08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9E017EA-68EA-4210-AFB1-69F501F9E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CA8D338-C7A2-4758-A966-D05DA195A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09B89FF-CD6B-4042-8C6A-AEA120FE4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166077E-328F-4D0D-808A-BA75CAAFD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91E5FDA-509D-46A2-B884-A765EEF8F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46698EF-1683-4335-8FA8-AE0D41568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B26A670-196A-4EBA-9520-E23E653E3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F96AAA3-4F0D-4E7F-ADC8-0FBC93ABE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7FD642C-2F56-448A-90AE-6C0848125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C59A9C8-9239-45D1-9080-5BE3C6287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FA53287-5870-475A-B5AE-B92842F0C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82691B6-649C-4518-8718-9339E62B6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BC863EF-B6BD-4C96-976E-C79230652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2DE53F3-693D-4793-829A-CA0FB3A1C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A5A25A7-CF22-436C-9613-C01341E25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9E99623-89F5-49AA-8B52-A7F662654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0AE3F0A-4910-4611-B995-40A032F65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9EDB9BA-E059-42A7-BB05-18C8F0630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377222E-8721-4C6F-85A4-A5CB62029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A4EA841-0FCC-48CE-85FB-2843A8F37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5A20376-A66C-4A00-9B78-1D03B588B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F19E5CB-14C1-4EC5-AE49-CEEFDF1E0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D37140A-0494-42D7-A193-B287397FF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47D5F2B-CF3E-4F4C-A8E2-147CEF125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65AAB71-EBEB-43CC-8757-9C74AAFAB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B1F3799-5C15-4ADD-9F71-E00D10E87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BF0FF71-192A-4D31-BD98-E0262A5E6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3B5213D-CA38-46E7-88D6-37F6B7707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1E17DC9-4DDF-4330-8429-F5558D650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74213DA-CD9F-497E-A607-858E15895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0039DB3-C299-4912-85F0-09A72E919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C066ECB-F856-47AA-840C-C690D2532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643C809-58C8-4C1E-B41B-8C5246EE1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29E8B3B-7743-42B2-A905-6A8EA403F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48D45C5-DB82-4990-90EA-E1991FC16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27DF9B5-9211-4656-A3AC-526C2628A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EC62924-1C3C-4489-BFD0-6F27CD9A0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93D57A0-903E-498F-BCB9-9E2F7675A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03128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7.</a:t>
            </a:r>
            <a:fld id="{32E052AE-2302-439B-83DF-B2A1B3901DC7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94400" y="662148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440" y="661356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6796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7:  Deadlocks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33560" y="272880"/>
            <a:ext cx="8378640" cy="47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Resource Allocation Graph With A Deadlock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3013200" y="1212840"/>
            <a:ext cx="27810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41280" y="304920"/>
            <a:ext cx="79552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raph With A Cycle But No Deadlock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2" name="Picture 4" descr="7"/>
          <p:cNvPicPr/>
          <p:nvPr/>
        </p:nvPicPr>
        <p:blipFill>
          <a:blip r:embed="rId1"/>
          <a:stretch/>
        </p:blipFill>
        <p:spPr>
          <a:xfrm>
            <a:off x="3216240" y="1208160"/>
            <a:ext cx="29527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sic Fac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65080" y="1217520"/>
            <a:ext cx="628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graph contains no cycle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graph contains a cyc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nly one instance per resource type, then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everal instances per resource type, possibility of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09520" y="213840"/>
            <a:ext cx="75772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ethods for Handling Deadlock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82720" y="1198080"/>
            <a:ext cx="615312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that the system will 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ne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er a deadlock st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avo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the system to enter a deadlock state and then re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e the problem and pretend that deadlocks never occur in the system; used by most operating systems, including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5600" y="198000"/>
            <a:ext cx="7800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adlock Preven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60280" y="1633680"/>
            <a:ext cx="6522840" cy="38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t required for sharable resources (e.g., read-only files); must hold for non-sharabl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and 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ust guarantee that whenever a process requests a resource, it does not hold any oth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 process to request and be allocated all its resources before it begins execution, or allow process to request resources only when the process has none allocate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resource utilization; starvat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28"/>
          <p:cNvSpPr/>
          <p:nvPr/>
        </p:nvSpPr>
        <p:spPr>
          <a:xfrm>
            <a:off x="855000" y="1115280"/>
            <a:ext cx="42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ain the ways request can be ma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2960" y="166320"/>
            <a:ext cx="7683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adlock Preven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076040"/>
            <a:ext cx="670572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Preem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rocess that is holding some resources requests another resource that cannot be immediately allocated to it, then all resources currently being held are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empted resources are added to the list of resources for which the process i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will be restarted only when it can regain its old resources, as well as the new ones that it is requ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rcular 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impose a total ordering of all resource types, and require that each process requests resources in an increasing order of enum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2960" y="103320"/>
            <a:ext cx="76834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adlock Examp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5400" y="1076040"/>
            <a:ext cx="6746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thread one runs in this function *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*do_work_one(void *param)</a:t>
            </a:r>
            <a:br>
              <a:rPr sz="14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mutex_lock(&amp;first_mutex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mutex_lock(&amp;second_mutex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* * Do some work */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hread_mutex_unlock(&amp;second_mutex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mutex_unlock(&amp;first_mutex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exit(0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thread two runs in this function *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*do_work_two(void *param)</a:t>
            </a:r>
            <a:br>
              <a:rPr sz="14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mutex_lock(&amp;second_mutex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mutex_lock(&amp;first_mutex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* * Do some work */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hread_mutex_unlock(&amp;first_mutex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mutex_unlock(&amp;second_mutex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exit(0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85640" y="122400"/>
            <a:ext cx="77245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Deadlock Example with Lock Ordering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1060200"/>
            <a:ext cx="763884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transaction(Account from, Account to, double amoun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utex lock1, lock2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ck1 = get_lock(from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ck2 = get_lock(to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quire(lock1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quire(lock2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draw(from, amount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posit(to, amount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lease(lock2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lease(lock1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181160" y="4618080"/>
            <a:ext cx="70484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 1 and 2 execute concurrently.  Transaction  1 transfers $25 from account A to account B, and Transaction 2 transfers $50 from account B to account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23760" y="198000"/>
            <a:ext cx="77630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adlock Avoidan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96800" y="1814040"/>
            <a:ext cx="6629400" cy="37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st and most useful model requires that each process decla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ximum numb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resources of each type that it may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adlock-avoidance algorithm dynamically examines the resource-allocation state to ensure that there can never be a circular-wait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-alloc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efined by the number of available and allocated resources, and the maximum demands of th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154160" y="1098000"/>
            <a:ext cx="77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that the system has some additiona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afe Stat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8720" y="1165320"/>
            <a:ext cx="73580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rocess requests an available resource, system must decide if immediate allocation leaves the system in a saf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s 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afe stat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exists a sequence 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of ALL the  processes  in the systems such that  for each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resources that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ill request can be satisfied by currently available resources + resources held by all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ith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ource needs are not immediately available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wait until a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finished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obtain needed resources, execute, return allocated resources, and 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rminate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obtain its needed resources, and so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06400" y="150480"/>
            <a:ext cx="7880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7:  Deadlock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7560" y="1131480"/>
            <a:ext cx="758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Charac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for Handling Dead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Det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from Dead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sic Fac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21960" y="1190520"/>
            <a:ext cx="659772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ystem is in safe stat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 deadlock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ystem is in unsafe stat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sibility of dead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a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sure that a system will never enter an unsafe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46000" y="150480"/>
            <a:ext cx="7840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afe, Unsafe, Deadlock State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13437" t="1570" r="13685" b="2195"/>
          <a:stretch/>
        </p:blipFill>
        <p:spPr>
          <a:xfrm>
            <a:off x="2446200" y="1308240"/>
            <a:ext cx="40230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1120" y="166320"/>
            <a:ext cx="7645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voidance Algorith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6120" y="1171080"/>
            <a:ext cx="665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instance of a resourc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resource-allocation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instances of a resourc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bank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23560" y="198000"/>
            <a:ext cx="7831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source-Allocation Graph Schem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58960" y="1155240"/>
            <a:ext cx="6989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laim edg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ed that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request resour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represented by a dashed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edge converts to request edge when a process requests a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edge converted to an assignment edge when the  resource is allocated to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resource is released by a process, assignment edge reconverts to a claim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must be claim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0880" y="281160"/>
            <a:ext cx="8224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Resource-Allocation Graph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1" name="Picture 4" descr="7"/>
          <p:cNvPicPr/>
          <p:nvPr/>
        </p:nvPicPr>
        <p:blipFill>
          <a:blip r:embed="rId1"/>
          <a:stretch/>
        </p:blipFill>
        <p:spPr>
          <a:xfrm>
            <a:off x="2668680" y="1409760"/>
            <a:ext cx="368136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31840" y="260280"/>
            <a:ext cx="82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Unsafe State In Resource-Allocation Graph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3" name="Picture 4" descr="7"/>
          <p:cNvPicPr/>
          <p:nvPr/>
        </p:nvPicPr>
        <p:blipFill>
          <a:blip r:embed="rId1"/>
          <a:stretch/>
        </p:blipFill>
        <p:spPr>
          <a:xfrm>
            <a:off x="2971800" y="1282680"/>
            <a:ext cx="33606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03200" y="150480"/>
            <a:ext cx="7656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Resource-Allocation Graph Algorithm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33120" y="1186920"/>
            <a:ext cx="59626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proces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s a resour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quest can be granted only if converting the request edge to an assignment edge does not result in the formation of a cycle in the resource allocation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1821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nker’s Algorith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58600" y="1128240"/>
            <a:ext cx="675612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instan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must a priori claim maximum u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rocess requests a resource it may have to wait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rocess gets all its resources it must return them in a finite amount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74920" y="326880"/>
            <a:ext cx="758664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Data Structures for the Banker</a:t>
            </a:r>
            <a:r>
              <a:rPr b="1" lang="ja-JP" sz="2800" spc="-1" strike="noStrike">
                <a:solidFill>
                  <a:srgbClr val="006699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 Algorithm 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92320" y="1654200"/>
            <a:ext cx="737064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Vector of leng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If available 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re a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ances of resource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n x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trix. 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request at mos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s of resource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 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trix.  If Allocation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urrently allocat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anc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 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trix.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ne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re instanc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mplete it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,j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950400" y="1107360"/>
            <a:ext cx="69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umber of processes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number of resources typ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afety Algorith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7560" y="1157400"/>
            <a:ext cx="73724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vectors of length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spectively.  Initializ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fal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, 1, …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bo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su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s, go to step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tr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ste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 system is in a saf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82360" y="1233360"/>
            <a:ext cx="59626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a description of deadlocks, which prevent sets of concurrent processes from completing thei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esent a number of different methods for preventing or avoiding deadlocks in a comput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72960" y="23184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Resource-Request Algorithm for Process </a:t>
            </a:r>
            <a:r>
              <a:rPr b="1" i="1" lang="en-US" sz="2800" spc="-1" strike="noStrike">
                <a:solidFill>
                  <a:srgbClr val="006699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6699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1880" y="1114200"/>
            <a:ext cx="7642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quest vector for proce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proce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nt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ances of resource typ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step 2.  Otherwise, raise error condition, since process has exceeded its maximum 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go to step 3.  Otherwi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must wait, since resources are not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end to allocate requested resource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modifying the state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vailabl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Nee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af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resources are allocated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unsaf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wait, and the old resource-allocation state is res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22400" y="151920"/>
            <a:ext cx="7664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of Banker</a:t>
            </a:r>
            <a:r>
              <a:rPr b="1" lang="ja-JP" sz="3200" spc="-1" strike="noStrike">
                <a:solidFill>
                  <a:srgbClr val="00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 Algorith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2120" y="1360440"/>
            <a:ext cx="792324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proces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resource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0 instances),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5instances)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7 insta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shot at ti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oc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B 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A B 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1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7 5 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3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0 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 2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0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9 0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1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2 2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4 3 3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31680" y="1136520"/>
            <a:ext cx="772452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452680"/>
                <a:tab algn="ctr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tent of the matrix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efined to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452680"/>
                <a:tab algn="ctr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452680"/>
                <a:tab algn="ctr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452680"/>
                <a:tab algn="ctr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452680"/>
                <a:tab algn="ctr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4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452680"/>
                <a:tab algn="ctr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2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452680"/>
                <a:tab algn="ctr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0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452680"/>
                <a:tab algn="ctr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452680"/>
                <a:tab algn="ctr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3 1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452680"/>
                <a:tab algn="ctr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is in a safe state since the sequence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satisfies safety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17200" y="21384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:  </a:t>
            </a:r>
            <a:r>
              <a:rPr b="1" i="1" lang="en-US" sz="3200" spc="-1" strike="noStrike">
                <a:solidFill>
                  <a:srgbClr val="006699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0066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Request (1,0,2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96400" y="1103040"/>
            <a:ext cx="776628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at Reques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vailable (that is, (1,0,2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3,3,2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oc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B 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B 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 B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1 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4 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3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3 0 2             0 2 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0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 0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1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 3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ng safety algorithm shows that sequence &l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satisfies safet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quest for (3,3,0)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gran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quest for (0,2,0)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gran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1200" y="198000"/>
            <a:ext cx="7421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adlock Det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01440" y="1233360"/>
            <a:ext cx="7391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system to enter deadlock stat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ion algorith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-141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ingle Instance of Each Resource Type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1173240"/>
            <a:ext cx="75852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ait-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s ar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j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waiting fo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ally invoke an algorithm that searches for a cycle in the graph. If there is a cycle, there exists a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lgorithm to detect a cycle in a graph requires an order o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, whe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number of vertices in 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36240" y="266760"/>
            <a:ext cx="77518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Resource-Allocation Graph and  Wait-for Graph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652400" y="529344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815360" y="529344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ing wait-for grap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6" descr="7"/>
          <p:cNvPicPr/>
          <p:nvPr/>
        </p:nvPicPr>
        <p:blipFill>
          <a:blip r:embed="rId1"/>
          <a:stretch/>
        </p:blipFill>
        <p:spPr>
          <a:xfrm>
            <a:off x="1876320" y="1257480"/>
            <a:ext cx="593748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8840" y="16200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veral Instances of a Resource Typ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82720" y="1187280"/>
            <a:ext cx="701496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 vector of leng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es the number of available resources of each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rix defines the number of resources of each type currently allocated to each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rix indicates the current request  of each process. 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proces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equestin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re instances of resource typ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6960" y="151920"/>
            <a:ext cx="7899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tection Algorith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5040" y="1233360"/>
            <a:ext cx="7753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vectors of leng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spectively Initializ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,2, …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]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= 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otherwise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]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n index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bo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suc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s, go to step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28240" y="213840"/>
            <a:ext cx="75582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tection Algorithm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47520" y="1171080"/>
            <a:ext cx="7218360" cy="22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step 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[i] == 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or so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 system is in deadlock state. Moreover,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ead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52480" y="3824640"/>
            <a:ext cx="7694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lgorithm requires an order of O(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m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 n</a:t>
            </a:r>
            <a:r>
              <a:rPr b="1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) operations to detect whether the system is in deadlocked st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ystem Mode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1040" y="115848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onsists of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typ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 . 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PU cycles, memory space, I/O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esource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utilizes a resource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22400" y="213840"/>
            <a:ext cx="7664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of Detection Algorith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1800" y="1108080"/>
            <a:ext cx="803736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process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roug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resource typ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(7 instances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 instances)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6 insta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shot at ti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oc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ques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B 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A B 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0 1 0             0 0 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0 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2 0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3 0 3             0 0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1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 0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0 0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&lt;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will result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[i] = tr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82120" cy="50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s an additional instance of typ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0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0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of syst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claim resources held by proce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insufficient resources to fulfill other processes;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exists, consisting of process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00160" y="229680"/>
            <a:ext cx="7586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tection-Algorithm Usag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70120" y="1122120"/>
            <a:ext cx="7107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, and how often, to invoke depend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often a deadlock is likely to occ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processes will need to be rolled ba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or each disjoint cyc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etection algorithm is invoked arbitrarily, there may be many cycles in the resource graph and so we would not be able to tell which of the many deadlocked processes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dead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4040" y="228600"/>
            <a:ext cx="85881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Recovery from Deadlock:  Process Termination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63720" y="1107720"/>
            <a:ext cx="7694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rt all deadlocked proces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rt one process at a time until the deadlock cycle is elimina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ich order should we choose to abo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process has computed, and how much longer to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the process ha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process needs to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processes will need to be termin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process interactive or bat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7680" y="255600"/>
            <a:ext cx="8020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Recovery from Deadlock:  Resource Preemption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58600" y="1150560"/>
            <a:ext cx="6802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ng a victi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minimize co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l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return to some safe state, restart process for that st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v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same process may always be picked as victim, include number of rollback in cost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81396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7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8800" y="182160"/>
            <a:ext cx="7937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adlock Characteriz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4880" y="1541160"/>
            <a:ext cx="669132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utual exclu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nly one process at a time can use a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Hold and wa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 process holding at least one resource is waiting to acquire additional resources held by other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o preemp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 resource can be released only voluntarily by the process holding it, after that process has completed it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ircular wa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re exists a set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of waiting processes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waiting for a resource that is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waiting for a resource that is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waiting for a resource that is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waiting for a resource that is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825480" y="1048680"/>
            <a:ext cx="63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can arise if four conditions hold simultaneous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8800" y="182160"/>
            <a:ext cx="7937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adlock with Mutex Lock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44560" y="1141560"/>
            <a:ext cx="77421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s can occur via system calls, lock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example box in text page 318 for mutex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2960" y="166320"/>
            <a:ext cx="7683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source-Allocation Graph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4040" y="1557000"/>
            <a:ext cx="680868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is partitioned into two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, the set consisting of all the processes in the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, the set consisting of all resource types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quest edg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directed ed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signment edg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directed ed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816480" y="1034280"/>
            <a:ext cx="470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verti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set of edg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28600" y="182160"/>
            <a:ext cx="7810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source-Allocation Graph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85600" y="1137960"/>
            <a:ext cx="7343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Type with 4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s instanc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holding an instanc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4143240" y="1494000"/>
            <a:ext cx="495360" cy="495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3876840" y="5316480"/>
            <a:ext cx="495000" cy="495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3860640" y="3914640"/>
            <a:ext cx="495360" cy="495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Group 12" descr=""/>
          <p:cNvPicPr/>
          <p:nvPr/>
        </p:nvPicPr>
        <p:blipFill>
          <a:blip r:embed="rId1"/>
          <a:stretch/>
        </p:blipFill>
        <p:spPr>
          <a:xfrm>
            <a:off x="4218120" y="2852640"/>
            <a:ext cx="463320" cy="439920"/>
          </a:xfrm>
          <a:prstGeom prst="rect">
            <a:avLst/>
          </a:prstGeom>
          <a:ln w="0">
            <a:noFill/>
          </a:ln>
        </p:spPr>
      </p:pic>
      <p:pic>
        <p:nvPicPr>
          <p:cNvPr id="121" name="Group 13" descr=""/>
          <p:cNvPicPr/>
          <p:nvPr/>
        </p:nvPicPr>
        <p:blipFill>
          <a:blip r:embed="rId2"/>
          <a:stretch/>
        </p:blipFill>
        <p:spPr>
          <a:xfrm>
            <a:off x="4681440" y="3968640"/>
            <a:ext cx="463680" cy="438120"/>
          </a:xfrm>
          <a:prstGeom prst="rect">
            <a:avLst/>
          </a:prstGeom>
          <a:ln w="0">
            <a:noFill/>
          </a:ln>
        </p:spPr>
      </p:pic>
      <p:sp>
        <p:nvSpPr>
          <p:cNvPr id="122" name="Line 19"/>
          <p:cNvSpPr/>
          <p:nvPr/>
        </p:nvSpPr>
        <p:spPr>
          <a:xfrm>
            <a:off x="4365720" y="4181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4755960" y="4380120"/>
            <a:ext cx="331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Group 21" descr=""/>
          <p:cNvPicPr/>
          <p:nvPr/>
        </p:nvPicPr>
        <p:blipFill>
          <a:blip r:embed="rId3"/>
          <a:stretch/>
        </p:blipFill>
        <p:spPr>
          <a:xfrm>
            <a:off x="4657680" y="5370480"/>
            <a:ext cx="463680" cy="439920"/>
          </a:xfrm>
          <a:prstGeom prst="rect">
            <a:avLst/>
          </a:prstGeom>
          <a:ln w="0">
            <a:noFill/>
          </a:ln>
        </p:spPr>
      </p:pic>
      <p:sp>
        <p:nvSpPr>
          <p:cNvPr id="125" name="Line 27"/>
          <p:cNvSpPr/>
          <p:nvPr/>
        </p:nvSpPr>
        <p:spPr>
          <a:xfrm flipH="1">
            <a:off x="4343040" y="5526000"/>
            <a:ext cx="47628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4724280" y="5753520"/>
            <a:ext cx="331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6040" y="208080"/>
            <a:ext cx="8150040" cy="5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xample of a Resource Allocation Graph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8" name="Picture 1032" descr=""/>
          <p:cNvPicPr/>
          <p:nvPr/>
        </p:nvPicPr>
        <p:blipFill>
          <a:blip r:embed="rId1"/>
          <a:srcRect l="25287" t="925" r="25287" b="1531"/>
          <a:stretch/>
        </p:blipFill>
        <p:spPr>
          <a:xfrm>
            <a:off x="2941560" y="1316160"/>
            <a:ext cx="27417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Silberschatz, Avi</cp:lastModifiedBy>
  <cp:lastPrinted>2013-09-10T17:57:57Z</cp:lastPrinted>
  <dcterms:modified xsi:type="dcterms:W3CDTF">2013-10-01T15:23:39Z</dcterms:modified>
  <cp:revision>194</cp:revision>
  <dc:subject/>
  <dc:title>2.01</dc:title>
</cp:coreProperties>
</file>