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3.jpeg" ContentType="image/jpe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9D7482-2724-4B1D-8E6E-1BBC5E4F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90694A-EDB4-4AB5-992B-24103278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72794C-EF70-4A5F-8648-79647B9D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C4877B-1587-494F-A58C-F3CBADB2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53D419-854F-414F-AE8D-16AD006C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4D4727-EE3F-44CE-A2D1-3873CD324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41AAD7-56B4-4C8C-BD8D-BB150EB1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4008A4-0024-4F95-A7CE-8D8793E6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BA497E-911B-4685-826C-241DF528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042C17-FBF2-4056-AC79-103CD228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118231-698D-4970-82F8-D38B2350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5EA285-E4C8-4BB0-902C-C1F13131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33F54C-66EE-4825-9D86-3B7EE632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69C21A-62E3-43A4-9225-6FD443AF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2FAC11-AC61-4926-8926-642A0209D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135BD0-EADF-48B4-925F-D0FF53E8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7CAE82-3987-49F4-A1B9-B17819C5B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B441D6-6325-48E6-8735-5DBEED4C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5DF089-C630-4F0D-9BB0-CDF402D9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F51BDC-0F16-4A25-8798-1EA34D91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F6E75E-C6BA-4C8A-BA50-578576F2D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BACA6D-E8C5-4991-941E-7327FCC9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927C33-7DE0-4A09-B5FA-2DD1B636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E7B274-E081-4350-9EC8-81B9D31C3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18D9B2-C23E-4CD9-8F50-7CC8F4F6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AC0F62-1ADE-4FCB-9AA6-8E956D45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3680" y="8853480"/>
            <a:ext cx="30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92F60CC7-714D-40E9-8A05-F47B5580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C229C2-DE23-4BF9-BCEE-59DBC343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9E2B9C-4CDE-4C2E-B01D-E3B0BAAF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C61921-1EB1-4F96-95FB-0D478D37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2974B4-AF04-4B75-B1F1-87309D1C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C23D5B-7762-47C0-8F92-39A9CC6B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4.</a:t>
            </a:r>
            <a:fld id="{B8F0C420-2B13-4AB2-B5D3-5AA11622CCD6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822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4:  Thread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1916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ngle and Multithreaded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1" descr="4_01.pdf"/>
          <p:cNvPicPr/>
          <p:nvPr/>
        </p:nvPicPr>
        <p:blipFill>
          <a:blip r:embed="rId1"/>
          <a:stretch/>
        </p:blipFill>
        <p:spPr>
          <a:xfrm>
            <a:off x="1809720" y="1295280"/>
            <a:ext cx="6885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mdahl’s Law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9760" y="1106280"/>
            <a:ext cx="7900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performance gains from adding additional cores to an application that has both serial and paralle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rial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ing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f application is 75% parallel / 25% serial, moving from 1 to 2 cores results in speedup of 1.6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infinity, speedup approaches 1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portion of an application has disproportionate  effect on performance gained by adding additional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 the law take into account contemporary multicore syst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Screen Shot 2012-12-04 at 7.54.07 PM.png"/>
          <p:cNvPicPr/>
          <p:nvPr/>
        </p:nvPicPr>
        <p:blipFill>
          <a:blip r:embed="rId1"/>
          <a:stretch/>
        </p:blipFill>
        <p:spPr>
          <a:xfrm>
            <a:off x="2778120" y="2676600"/>
            <a:ext cx="24303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6720" y="201240"/>
            <a:ext cx="7826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Threads and Kernel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thre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anagement done by user-level thread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primary thread libra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rnel threa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pported by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– virtually all general purpose operating system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hreading Mode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ny-to-On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4654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ser-level threads mapped to single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hread blocking causes all t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may not run in parallel on muticore system because only one may be in kernel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systems currently use th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laris Green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NU Portabl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4_05.pdf"/>
          <p:cNvPicPr/>
          <p:nvPr/>
        </p:nvPicPr>
        <p:blipFill>
          <a:blip r:embed="rId1"/>
          <a:stretch/>
        </p:blipFill>
        <p:spPr>
          <a:xfrm>
            <a:off x="5778360" y="2340000"/>
            <a:ext cx="27432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ne-to-On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5772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user-level thread maps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user-level thread creates a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currency than many-to-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hreads per process sometimes restricted due to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9 an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4_06.pdf"/>
          <p:cNvPicPr/>
          <p:nvPr/>
        </p:nvPicPr>
        <p:blipFill>
          <a:blip r:embed="rId1"/>
          <a:stretch/>
        </p:blipFill>
        <p:spPr>
          <a:xfrm>
            <a:off x="4229280" y="3048120"/>
            <a:ext cx="44751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ny-to-Many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155600"/>
            <a:ext cx="444852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any user level threads to be mapped to many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 operating system to create a sufficient number of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prior to vers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Fi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4_07.pdf"/>
          <p:cNvPicPr/>
          <p:nvPr/>
        </p:nvPicPr>
        <p:blipFill>
          <a:blip r:embed="rId1"/>
          <a:stretch/>
        </p:blipFill>
        <p:spPr>
          <a:xfrm>
            <a:off x="5240160" y="2451240"/>
            <a:ext cx="31593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9880" y="1155600"/>
            <a:ext cx="644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:M, except that it allows a user thread to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8 an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4_08.pdf"/>
          <p:cNvPicPr/>
          <p:nvPr/>
        </p:nvPicPr>
        <p:blipFill>
          <a:blip r:embed="rId1"/>
          <a:stretch/>
        </p:blipFill>
        <p:spPr>
          <a:xfrm>
            <a:off x="4495680" y="1976400"/>
            <a:ext cx="3778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Libra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06040" y="1233360"/>
            <a:ext cx="6559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d libra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programmer with API for creating and managing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rimary ways of implem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entirely in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-level library supported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0167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provided either as user-level or kernel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IX standard (IEEE 1003.1c) API for thread creation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specifies behavior of the thread library, implementation is up to development of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UNIX operating systems (Solaris, Linux, Mac 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4: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or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s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" name="Picture 1" descr="Screen Shot 2012-12-04 at 8.50.38 PM.png"/>
          <p:cNvPicPr/>
          <p:nvPr/>
        </p:nvPicPr>
        <p:blipFill>
          <a:blip r:embed="rId1"/>
          <a:stretch/>
        </p:blipFill>
        <p:spPr>
          <a:xfrm>
            <a:off x="1374840" y="1090440"/>
            <a:ext cx="65293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s Examp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871640" y="995400"/>
            <a:ext cx="579600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840" y="175680"/>
            <a:ext cx="7793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threads Code for Joining 10 Thread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852560" y="1447920"/>
            <a:ext cx="5438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842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 Multithreaded C Progra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1" name="Picture 1" descr="Screen Shot 2012-12-04 at 9.06.58 PM.png"/>
          <p:cNvPicPr/>
          <p:nvPr/>
        </p:nvPicPr>
        <p:blipFill>
          <a:blip r:embed="rId1"/>
          <a:stretch/>
        </p:blipFill>
        <p:spPr>
          <a:xfrm>
            <a:off x="1871640" y="939960"/>
            <a:ext cx="530712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00320" y="175680"/>
            <a:ext cx="7780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 Multithreaded C Program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1" descr="Screen Shot 2012-12-04 at 9.08.08 PM.png"/>
          <p:cNvPicPr/>
          <p:nvPr/>
        </p:nvPicPr>
        <p:blipFill>
          <a:blip r:embed="rId1"/>
          <a:stretch/>
        </p:blipFill>
        <p:spPr>
          <a:xfrm>
            <a:off x="1703520" y="1197000"/>
            <a:ext cx="65228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Java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0720" y="1231560"/>
            <a:ext cx="70311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are managed by the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implemented using the threads model provided by underlying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may be created b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hrea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Runnable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Screen Shot 2012-12-04 at 9.09.28 PM.png"/>
          <p:cNvPicPr/>
          <p:nvPr/>
        </p:nvPicPr>
        <p:blipFill>
          <a:blip r:embed="rId1"/>
          <a:stretch/>
        </p:blipFill>
        <p:spPr>
          <a:xfrm>
            <a:off x="2098800" y="2676600"/>
            <a:ext cx="37735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Java Multithreaded Progra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705040" y="878040"/>
            <a:ext cx="420228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97000" y="163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Java Multithreaded Program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187280" y="866880"/>
            <a:ext cx="74566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icit Thread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8896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in popularity as numbers of threads increase, program correctness more difficult with explicit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and management of threads done by compilers and run-time libraries rather than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ethods expl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Central 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ethods include Microsoft Threading Building Blocks (TBB)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concurr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Poo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0120" y="1081080"/>
            <a:ext cx="68896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umber of threads in a pool where they awai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lightly faster to service a request with an existing thread than create a new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number of threads in the application(s) to be bound to the size of th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ng task to be performed from mechanics of creating task allows different strategies for running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Tasks could be scheduled to run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API supports thread p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Screen Shot 2012-12-04 at 9.17.42 PM.png"/>
          <p:cNvPicPr/>
          <p:nvPr/>
        </p:nvPicPr>
        <p:blipFill>
          <a:blip r:embed="rId1"/>
          <a:stretch/>
        </p:blipFill>
        <p:spPr>
          <a:xfrm>
            <a:off x="1411200" y="4743360"/>
            <a:ext cx="64389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040" y="1233360"/>
            <a:ext cx="6940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the notion of a thread—a fundamental unit of CPU utilization that forms the basis of multithreaded comput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APIs for the Pthreads, Windows, and Java threa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several strategies that provide implicit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issues related to multithreade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ver operating system support for threads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M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992160"/>
            <a:ext cx="356076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of compiler directives and an API for C, C++, FORTR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support for parallel programming in shared-memory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rallel reg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locks of code that can run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pragma omp parall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s many threads as there are 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pragma omp parallel for for(i=0;i&lt;N;i++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a[i] + b[i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for loop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08640" y="1473120"/>
            <a:ext cx="4483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nd Central Dispat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28800" y="1187280"/>
            <a:ext cx="72244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technology for Mac OS X and iOS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C, C++ languages, API, and run-tim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identification of parallel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most of the details of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in “^{ }” -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ˆ{ printf("I am a block"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placed in dispatch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 to available thread in thread pool when removed from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nd Central Dispat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28440" y="1203120"/>
            <a:ext cx="725004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dispatch que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– blocks removed in FIFO order, queue is per process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i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can create additional serial queues with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– removed in FIFO order but several may be remove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system wide queues with priorities low, default,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050920" y="4073400"/>
            <a:ext cx="55119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ing Issu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28440" y="11426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and 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ancellation of targ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or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-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7440" y="175680"/>
            <a:ext cx="756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mantics of fork() and exec(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597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 only the calling thread or all thr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NIXes have two versions of 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orks as normal – replace the running process including al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8560" y="189000"/>
            <a:ext cx="7518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 Hand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560" y="1145880"/>
            <a:ext cx="67042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ign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in UNIX systems to notify a process that a particular event has occur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ignal handl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process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generated by particula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delivered to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handled by one of two signal hand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ignal h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fault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kernel runs when handling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User-defined signal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n overri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r single-threaded, signal delivered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8560" y="189000"/>
            <a:ext cx="7518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 Hand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1145880"/>
            <a:ext cx="674244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ould a signal be delivered for multi-thread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the thread to which the signal a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every thread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certain threads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 specific thread to receive all signals for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Cancel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87040" y="1145880"/>
            <a:ext cx="7405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ng a thread before it ha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o be canceled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rg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eneral appro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 the target thread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target thread to periodically check if it should be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 code to create and cancel a thre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368440" y="4017960"/>
            <a:ext cx="3878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720" y="17568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Cancell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8720" y="1056960"/>
            <a:ext cx="72090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ing thread cancellation requests cancellation, but actual cancellation depends on threa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read has cancellation disabled, cancellation remains pending until thread enabl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type is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ation only occurs when thread reach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ncellatio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testcance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eanup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inux systems, thread cancellation is handled through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44880" y="1825560"/>
            <a:ext cx="50544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-Local Storag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2784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d-local sto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llows each thread to have its own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you do not have control over the thread creation process (i.e., when using a thread p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rom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 visible only during single function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 visible across function inv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 is unique to each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6040" y="1233360"/>
            <a:ext cx="68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applications are multi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run withi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sks with the application can be implemented by separat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 network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 is heavy-weight while thread creation is light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plify code, increas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s are generally multi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0640" y="163080"/>
            <a:ext cx="7526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duler Activ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6400" y="1017360"/>
            <a:ext cx="53164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M:M and Two-level models require communication to maintain the appropriate number of kernel threads allocated to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use an intermediate data structure between user and kernel threads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ghtweight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W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o be a virtual processor on which process can schedule user thread to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WP attached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WPs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 provid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pcall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communication mechanism from the kernel to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pcall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hread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munication allows an application to maintain the correct number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427800" y="1547640"/>
            <a:ext cx="232740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25640" y="163080"/>
            <a:ext cx="7673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469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2480" y="1130040"/>
            <a:ext cx="69962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mplements the Windows API – primary API for Win 98, Win NT, Win 2000, Win XP, and Wi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one-to-one mapping, kernel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hread co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et representing state of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user and kernel stacks for when thread runs in user mode or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ata storage area used by run-time libraries and dynamic link libraries (D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ster set, stacks, and private storage area are known a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Thread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560" y="1206000"/>
            <a:ext cx="68439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data structures of a thread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READ (executive thread block) – includes pointer to process to which thread belongs and to KTHREAD, in 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HREAD (kernel thread block) – scheduling and synchronization info, kernel-mode stack, pointer to TEB, in 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B (thread environment block) – thread id, user-mode stack, thread-local storage, in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2960" y="163080"/>
            <a:ext cx="7692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Threads Data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Picture 1" descr="4_14.pdf"/>
          <p:cNvPicPr/>
          <p:nvPr/>
        </p:nvPicPr>
        <p:blipFill>
          <a:blip r:embed="rId1"/>
          <a:stretch/>
        </p:blipFill>
        <p:spPr>
          <a:xfrm>
            <a:off x="2832120" y="1271520"/>
            <a:ext cx="40654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ux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7680" y="1092240"/>
            <a:ext cx="7173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refers to them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reation is done throug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 child task to share the address space of the parent task (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 contro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oints to process data structures (shared or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4_15.pdf"/>
          <p:cNvPicPr/>
          <p:nvPr/>
        </p:nvPicPr>
        <p:blipFill>
          <a:blip r:embed="rId1"/>
          <a:stretch/>
        </p:blipFill>
        <p:spPr>
          <a:xfrm>
            <a:off x="2468520" y="2992320"/>
            <a:ext cx="3787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48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4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8596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hreaded Server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Picture 1" descr="4_02.pdf"/>
          <p:cNvPicPr/>
          <p:nvPr/>
        </p:nvPicPr>
        <p:blipFill>
          <a:blip r:embed="rId1"/>
          <a:stretch/>
        </p:blipFill>
        <p:spPr>
          <a:xfrm>
            <a:off x="1481040" y="1442880"/>
            <a:ext cx="63975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1480" y="415440"/>
            <a:ext cx="695196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207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nes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allow continued execution if part of process is blocked, especially important for 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Shar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share resources of process, easier than shared memory or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than process creation, thread switching lower overhead than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ility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an take advantage of multiprocessor architec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12320" y="17568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ore Programm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82360" y="1207800"/>
            <a:ext cx="772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putting pressure on programmers, challeng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pl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and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ies a system can perform more than one task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orts more than one task making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rocessor / core, scheduler providing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12320" y="17568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ore Programm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06040" y="1233360"/>
            <a:ext cx="7156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paralle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ta 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istributes subsets of the same data across multiple cores, same operation on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sk parallelis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stributing threads across cores, each thread performing uniqu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# of threads grows, so does architectural support for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s have cores as well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rdwar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Oracle SPARC T4 with 8 cores, and 8 hardware threads p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6440" y="297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currency vs. Parallelis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635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execution on single-core syst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ism on a multi-core syst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" descr="4_03.pdf"/>
          <p:cNvPicPr/>
          <p:nvPr/>
        </p:nvPicPr>
        <p:blipFill>
          <a:blip r:embed="rId1"/>
          <a:stretch/>
        </p:blipFill>
        <p:spPr>
          <a:xfrm>
            <a:off x="1739880" y="1814400"/>
            <a:ext cx="6259680" cy="78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4_04.pdf"/>
          <p:cNvPicPr/>
          <p:nvPr/>
        </p:nvPicPr>
        <p:blipFill>
          <a:blip r:embed="rId2"/>
          <a:stretch/>
        </p:blipFill>
        <p:spPr>
          <a:xfrm>
            <a:off x="2695680" y="3772080"/>
            <a:ext cx="3946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10-05T12:15:45Z</dcterms:modified>
  <cp:revision>187</cp:revision>
  <dc:subject/>
  <dc:title>2.01</dc:title>
</cp:coreProperties>
</file>