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24352F-5EE7-4D84-9542-7898EF4F4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7EC90D-9CFB-4085-863A-8B4041B22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F5A005-8B31-40FE-8CD6-FAD496EE2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4B6556-3AAC-41B9-910E-D142413DD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F931D3-B55C-4C2B-8728-39B4DCA56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C8F551-B386-4ADB-BDCF-8EF82346F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43DF42-B756-4E21-9DBD-7F7406DA6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BE0981-8202-4B98-A340-2B3F8B0D1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BE450F-6C54-4826-91BF-D578D934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D7E8B8-1FCA-4C13-9D04-11E5F0DB3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A5763F-0F45-4ABC-9D5B-EAE0E474E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B558B8-A1B6-4C87-8CD3-9AF4A9E27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BBE1C4-819C-4D1F-A4B4-4244A0F4E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629580-4D43-4BCD-841F-E447D0AF3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16249A-A842-47C0-B687-0F057FB9C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642B12-35FA-42D6-8940-A6068BF9B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11A77C-6E9F-4A40-AD20-2F8345420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00421F-8159-4F3D-96F8-991AEFFE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606647-1E9C-493F-A323-EE9DD99E5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1166C2-3013-4BEC-890F-A2447F7D9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56CC98-DC78-4005-9AAF-D1999CC67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B24546-D84C-4A20-B225-01C269275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CDFF06-8980-4369-89E1-BDF6C42B1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9AF6AA-8541-4C95-A1FE-69C0B0460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343684-3659-487B-BDE6-CF8892552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28ADA8-9EB8-49FB-B715-FC190620D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083AE8-BEBC-47FE-BCDA-FEA201EAE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17CAA0-E23F-4067-B81A-0E39CF20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CA6308-2FA9-4EFA-B8A0-95F28A814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2F43AF-CE1E-401C-AE8D-825339CE9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09B9A0-8B6B-43EE-B7AC-2D9C1F787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9BF81D-53C6-4804-90F9-7B1409390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B38A3A-2BBC-4083-B70F-C62ABA763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FACE13-C824-4D08-BAAE-114C7B5A6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30D0C4-0054-4DC0-A21B-6FE64FEA7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0C5A25-8189-4DC1-8C81-AA2057C0B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0A0F0E-4C9E-4187-86F0-C4F70831B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9A3673-F27D-40D5-AF7A-0741057E6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2C4730-7B78-4B80-954A-DF7748D7E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EC28E0-2B95-4B8A-936D-1C58B816B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36B429-B5EE-4EEE-AB87-E6AB7E2D5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E3C4B9-5996-4786-8C94-B83C4B7B4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139454-0C04-43AF-8E47-1BB25EE79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B18C1B-D2FA-452A-B867-047D696A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90DE91-BAFA-409B-8CE1-B8BFD0229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1.</a:t>
            </a:r>
            <a:fld id="{81FDC7F2-94CA-48DF-BEDA-67CAFDF25532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296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420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1652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1:  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File-System Interface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720" y="178920"/>
            <a:ext cx="7605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Locking Example – Java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5840" y="1233360"/>
            <a:ext cx="7648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nio.channels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class LockingExample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EXCLUSIVE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SHARED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void main(String arsg[]) throws IOException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shared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exclusive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ry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RandomAccessFile raf = new RandomAccessFile("file.txt", "r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get the channel for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Channel ch = raf.getChan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this locks the first half of the file - exclu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 = ch.lock(0, raf.length()/2, EXCLUSIV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** Now modify the data . . 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147240"/>
            <a:ext cx="799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File Locking Example – Java API (Cont.)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2439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this locks the second half of the file -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 = ch.lock(raf.length()/2+1, raf.length(),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** Now read the data . . 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atch (java.io.IOException ioe)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ystem.err.println(io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finally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exclusive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shared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68320" y="165240"/>
            <a:ext cx="7818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Types – Name, Extens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15715" t="1186" r="15715" b="1186"/>
          <a:stretch/>
        </p:blipFill>
        <p:spPr>
          <a:xfrm>
            <a:off x="2498760" y="1209600"/>
            <a:ext cx="4336920" cy="463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360" y="15048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8880" y="1106280"/>
            <a:ext cx="6705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- sequence of words,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recor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e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able load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mulate last two with first method by inserting appropriate control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ec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quential-access Fi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58960" y="1359000"/>
            <a:ext cx="5946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5440" y="1211040"/>
            <a:ext cx="73436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ad after last 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Acces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fixed length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logical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lative block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block numbers allow OS to decide where file should be pla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allocation proble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h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5800" y="196560"/>
            <a:ext cx="830088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Simulation of Sequential Access on Direct-access File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1701720" y="1289160"/>
            <a:ext cx="61293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67802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uilt on top of bas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involve creation of an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dex in memory for fast determination of location of data to be operated on (consider UPC code plus record of data about that i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oo large, index (in memory) of the index (on di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indexed sequential-access method (I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master index, points to disk blocks of secondar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kept sorted on a define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one by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S operating system provides index and relative files as another example (see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516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Index and Relative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579680" y="1320840"/>
            <a:ext cx="59022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y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66960" y="1374480"/>
            <a:ext cx="73706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nodes containing information about al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2819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58128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434340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105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5867280" y="259092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819520" y="4267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581280" y="42670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343400" y="42670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105520" y="4267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867280" y="46483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383868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60958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5334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048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9"/>
          <p:cNvSpPr/>
          <p:nvPr/>
        </p:nvSpPr>
        <p:spPr>
          <a:xfrm>
            <a:off x="2538360" y="1962000"/>
            <a:ext cx="4186440" cy="147348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473480"/>
              <a:gd name="textAreaBottom" fmla="*/ 1473840 h 147348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20"/>
          <p:cNvSpPr/>
          <p:nvPr/>
        </p:nvSpPr>
        <p:spPr>
          <a:xfrm>
            <a:off x="2362320" y="3886200"/>
            <a:ext cx="4262400" cy="1600200"/>
          </a:xfrm>
          <a:custGeom>
            <a:avLst/>
            <a:gdLst>
              <a:gd name="textAreaLeft" fmla="*/ 0 w 4262400"/>
              <a:gd name="textAreaRight" fmla="*/ 4262760 w 42624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297800" y="2285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1437120" y="419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990720" y="5638680"/>
            <a:ext cx="760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the directory structure and the files reside on d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8400" y="193320"/>
            <a:ext cx="7929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1:  File-System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5705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nd 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61840" y="1120680"/>
            <a:ext cx="7043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an be subdivided in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s or partitions can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ed agains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or partition can be us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w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without a file system,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rmatte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s also known as minidisks, sl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containing file system known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olume containing file system also tracks that file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nfo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irector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 table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eneral-purpose file system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ecial-purpose fil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requently all within the same operating system or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6508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Typical File-system Organ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0" name="Picture 6" descr="10"/>
          <p:cNvPicPr/>
          <p:nvPr/>
        </p:nvPicPr>
        <p:blipFill>
          <a:blip r:embed="rId1"/>
          <a:stretch/>
        </p:blipFill>
        <p:spPr>
          <a:xfrm>
            <a:off x="1322280" y="1187280"/>
            <a:ext cx="691056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es of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6040" y="1134720"/>
            <a:ext cx="73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stly talk of general-purpos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ystems frequently have may file systems, some general- and some special-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olaris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pfs – memory-based volatile FS for fast, temporary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fs – interface into kernel memory to get kernel symbols for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fs – contract file system for managing daem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fs – loopback file system allows one FS to be accessed in place of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fs – kernel interface to proces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s, zfs – general purpos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376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ons Performed on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06400" y="10918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a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rse th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9000" y="241200"/>
            <a:ext cx="7743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irectory Organiza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0240" y="1626840"/>
            <a:ext cx="643896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– locating a fil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– convenient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users can have same name for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file can have several differen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– logical grouping of files by properties, (e.g., all Java programs, all gam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00000" y="1079640"/>
            <a:ext cx="71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y is organized logically  to obta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ngle-Level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990720"/>
            <a:ext cx="72756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directory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050840" y="3746520"/>
            <a:ext cx="4407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1744560" y="1577880"/>
            <a:ext cx="6100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-Level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48880" y="1120680"/>
            <a:ext cx="7869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irectory for each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53920" y="4111560"/>
            <a:ext cx="70027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the same file name for different u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rouping cap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1857240" y="1724040"/>
            <a:ext cx="64278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ee-Structured Direct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1533600" y="1239840"/>
            <a:ext cx="69152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0160" y="193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ee-Structured Directori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079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Capabi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irectory (working dire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d /spell/mail/p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06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ee-Structured Directories (Cont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63640" y="1136160"/>
            <a:ext cx="7370640" cy="29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l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th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file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m &lt;file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subdirectory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r &lt;dir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f in current directory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52480" y="5560920"/>
            <a:ext cx="742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ng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eting the entire subtree rooted by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2658960" y="4100400"/>
            <a:ext cx="313236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719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ction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nterfaces to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file-system design tradeoffs, including access methods, file sharing, file locking,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file-system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yclic-Graph Direct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10720" y="1093320"/>
            <a:ext cx="702972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hared subdirectories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10"/>
          <p:cNvPicPr/>
          <p:nvPr/>
        </p:nvPicPr>
        <p:blipFill>
          <a:blip r:embed="rId1"/>
          <a:stretch/>
        </p:blipFill>
        <p:spPr>
          <a:xfrm>
            <a:off x="2236680" y="1677960"/>
            <a:ext cx="49611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3608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yclic-Graph Directori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20680"/>
            <a:ext cx="7564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fferent names (alia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et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ngling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, so we can delete all point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size records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 using a daisy chain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-hold-cou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entr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other name (pointer) to an existin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olve the lin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follow pointer to locate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30320" y="178920"/>
            <a:ext cx="7656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eneral Graph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Picture 6" descr="10"/>
          <p:cNvPicPr/>
          <p:nvPr/>
        </p:nvPicPr>
        <p:blipFill>
          <a:blip r:embed="rId1"/>
          <a:stretch/>
        </p:blipFill>
        <p:spPr>
          <a:xfrm>
            <a:off x="1434960" y="1332000"/>
            <a:ext cx="66168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7640" y="178920"/>
            <a:ext cx="7707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eneral Graph Directory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61480" y="1134720"/>
            <a:ext cx="69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guarantee no cyc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links to file not sub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a new link is added use a cycle detection algorithm to determine whether it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68400" y="13608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Mount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48880" y="1120680"/>
            <a:ext cx="682164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system must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it can be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mounted file system (i.e., Fig. 11-11(b)) is mounted at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un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11_14.pdf"/>
          <p:cNvPicPr/>
          <p:nvPr/>
        </p:nvPicPr>
        <p:blipFill>
          <a:blip r:embed="rId1"/>
          <a:stretch/>
        </p:blipFill>
        <p:spPr>
          <a:xfrm>
            <a:off x="1589040" y="2300400"/>
            <a:ext cx="5910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unt Poi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214800" y="1266840"/>
            <a:ext cx="298440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5200" y="1106280"/>
            <a:ext cx="709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files on multi-user systems is desi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may be done through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istributed systems, files may be shared across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ile System (NFS) is a common distributed file-shar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ulti-us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s, allowing permissions and protections to be per-user</a:t>
            </a:r>
            <a:br>
              <a:rPr sz="1800"/>
            </a:b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roup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users to be in groups, permitting group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7240" y="208080"/>
            <a:ext cx="85312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Remote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67960" y="1095120"/>
            <a:ext cx="785340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networking to allow file system access betwe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via programs like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, seamlessly us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 automatically via the</a:t>
            </a:r>
            <a:r>
              <a:rPr b="1" lang="en-US" sz="1800" spc="-1" strike="noStrike">
                <a:solidFill>
                  <a:srgbClr val="99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ient-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llows clients to mount remote file systems from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an serve multiple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nd user-on-client identification is insecure or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UNIX client-server file shar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I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Window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operating system file calls are translated into remot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formation System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naming serv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as LDAP, DNS, NIS, Active Directory implement unified access to information needed for remo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12880" y="136080"/>
            <a:ext cx="7888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Failure Mod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8880" y="1177560"/>
            <a:ext cx="6916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ile systems have failure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corruption of directory structures or other non-user data,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file systems add new failure modes, due to network failure, serve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from failure can involv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e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status of each remot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e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s such as NFS v3 include all information in each request, allowing easy recovery but less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6960" y="186840"/>
            <a:ext cx="8501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Consistency Semantic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48880" y="1109520"/>
            <a:ext cx="72961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how multiple users are to access a shared fil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Ch 5 process synchronizat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 to be less complex due to disk I/O and network latency (for remot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File System (AFS) implemented complex remote file sharing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file system (UFS) imp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to an open file visible immediately to other users of the same ope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file pointer to allow multiple users to read and wri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S has session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only visible to sessions starting after the file is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Concep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61480" y="1120680"/>
            <a:ext cx="7648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 defined by file’s 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ext file, source file, executabl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5880" y="1091880"/>
            <a:ext cx="745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owner/creator should be able to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64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Lists and Group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5880" y="1091880"/>
            <a:ext cx="73422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of access:  read, write,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classes of users on Unix /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manager to create a group (unique name), say G, and add some users to th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particular file (sa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subdirectory, define an appropriate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798480" y="5643720"/>
            <a:ext cx="7029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a group to a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grp     G    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559320" y="4660920"/>
            <a:ext cx="25128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8000" y="90360"/>
            <a:ext cx="78645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indows 7 Access-Control List Managemen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3" name="Picture 2" descr="11_16.pdf"/>
          <p:cNvPicPr/>
          <p:nvPr/>
        </p:nvPicPr>
        <p:blipFill>
          <a:blip r:embed="rId1"/>
          <a:stretch/>
        </p:blipFill>
        <p:spPr>
          <a:xfrm>
            <a:off x="2841480" y="1120680"/>
            <a:ext cx="3533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48960" y="150480"/>
            <a:ext cx="7737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Sample UNIX Directory List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724" t="27066" r="724" b="27066"/>
          <a:stretch/>
        </p:blipFill>
        <p:spPr>
          <a:xfrm>
            <a:off x="1519200" y="1208160"/>
            <a:ext cx="66294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1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4840" y="1091880"/>
            <a:ext cx="7591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information kept in human-read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ique tag (number) identifies file within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eded for systems that support differe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ointer to file location 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urrent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trols who can do reading, writing,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date, and user iden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ata for protection, security, and usag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files are kept in the directory structure, which is maintained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variations, including extended file attributes such as file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kept in the 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info Window on Mac OS 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4" descr="11_01.pdf"/>
          <p:cNvPicPr/>
          <p:nvPr/>
        </p:nvPicPr>
        <p:blipFill>
          <a:blip r:embed="rId1"/>
          <a:stretch/>
        </p:blipFill>
        <p:spPr>
          <a:xfrm>
            <a:off x="3637080" y="1041480"/>
            <a:ext cx="192060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8880" y="1106280"/>
            <a:ext cx="677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i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rite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sition within file -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n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arch the directory structure on disk for ent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move the content of entry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se 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ove the content of e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mory to directory structure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5200" y="1120680"/>
            <a:ext cx="680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ieces of data are needed to manage open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pen-fil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cks ope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pointer:  pointer to last read/write location, per process that has the file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-open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unter of number of times a file is open – to allow removal of data from open-file table when last processes clos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location of the file: cache of data acc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: per-process access mo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 Lock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6040" y="1106280"/>
            <a:ext cx="7142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some operating systems an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eader-writer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ilar to reader lock – several processes can acquir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lusive 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writer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s access to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or advis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nd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ccess is denied depending on locks held and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dvis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esses can find status of locks and decide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>Lucent End User</dc:creator>
  <dc:description/>
  <dc:language>en-US</dc:language>
  <cp:lastModifiedBy>Silberschatz, Avi</cp:lastModifiedBy>
  <dcterms:modified xsi:type="dcterms:W3CDTF">2013-10-02T16:07:00Z</dcterms:modified>
  <cp:revision>107</cp:revision>
  <dc:subject/>
  <dc:title>1.01</dc:title>
</cp:coreProperties>
</file>