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7.wmf" ContentType="image/x-wmf"/>
  <Override PartName="/ppt/media/image25.png" ContentType="image/png"/>
  <Override PartName="/ppt/media/image1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34.png" ContentType="image/png"/>
  <Override PartName="/ppt/media/image1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5.png" ContentType="image/png"/>
  <Override PartName="/ppt/media/image4.wmf" ContentType="image/x-wmf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21.wmf" ContentType="image/x-wmf"/>
  <Override PartName="/ppt/media/image19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F8CB83-1832-434E-890A-C9D30E5ED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5401E9-AA6E-4EA7-A83F-AFDD4E30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7E652B-A920-4774-BCDF-985F6302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D58CBF-0838-499C-8236-C7417D5D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1C2A58-55A8-4096-A9D5-5D65BFB0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F5526A-427C-4C3E-8F76-CC91136D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C011B5-D8DA-4B99-A685-0AB4664B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BD667F-6E00-4466-87CC-33A441CA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1186D0-AC3D-4922-ABBA-48C6CAA9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4A2EC0-1184-41C7-8799-A5928C1E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8882C8-A964-4C33-B87A-151BA6EF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2C3228-CDBB-4A98-8163-F2D293CE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37ECA7-61C1-4E98-837C-CA0D4B44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E27699-C412-4086-BC2C-ECD4A3B7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2C4EDC-9A30-4CC4-9680-9BB71FF4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7EF38B-2775-4597-BDB8-EA817881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BE6893-8755-4E45-BF3B-3308DA66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E0B421C-3C6B-40EC-8172-97A036AC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D1432D-7229-4D46-BB7F-7FB90C8F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9095B8-A38F-4107-BA41-78A19551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5541DA-003A-4707-8AAD-C918BF50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F78D0F-04B5-49CF-A508-E157917C1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E6698A-9F27-45F1-B660-9E25005F9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B47A55-1E28-42D1-B13A-672E171B8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88267E-29E0-4730-A470-5A30A9A3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B710CF-8BEC-4139-BD1F-14F70C21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127BF9-1B14-4036-A048-282BD582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0FBAB8-BC1C-4D56-B1CA-84D148E3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E040F6-BDDF-47E1-8B66-B7B4AF14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7AEA73-CA46-4BC3-95EF-A8F1AFCF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74B0B3-83B4-4A0C-B6BE-38F5F1712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CD4EE2-178A-481A-A5CB-480775CC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450722-220B-4BBB-8757-89BC342D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8D135E-D2A1-4E0A-B28C-2D3BA8D5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EA5350-A196-4753-9180-15E93B66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660CA4-DDC1-442B-943B-F8D2EFB0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D523E7-37E2-4F95-B05C-DA1A902F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EA05BC-1361-492B-ADD5-0016A7C6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6622E8-7482-4905-9206-16E7C407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39BB54-8E6F-45F5-A66D-D5F82CE9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159CA1-95DC-496C-BADB-8BE1AED36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04E7F7-70F0-4206-9D5B-5CA71A759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31C4C9-DD09-4135-9950-FE2E4FAF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966F76-C246-4AAE-8097-1BB31E1D6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093E7B-D10A-4995-AA2C-13DEA22AD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80AE7A-22BA-4DDB-8AE3-8A0EBFB00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0213CA-1A4F-43ED-8EFC-F153FCAE6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CA13A1-2401-45DC-8AE6-4A5368C36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860230-3B6F-4ED9-BB72-D23897E09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0E1524-3EAE-4828-B4ED-F6B51D7F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6.</a:t>
            </a:r>
            <a:fld id="{98414795-8508-460C-886A-3C54E5F104B6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822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6:  CPU Scheduling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68200"/>
            <a:ext cx="7997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First- Come, First-Served (FCFS) Schedul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3040" y="1251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0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24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(0 + 24 + 27)/3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171440" y="3479760"/>
            <a:ext cx="69548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27792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CFS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7560" y="1233360"/>
            <a:ext cx="765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 (6 + 0 + 3)/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better than previou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voy eff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hort process behind l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one CPU-bound and many I/O-bou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1270080" y="2631960"/>
            <a:ext cx="7122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58400" y="189000"/>
            <a:ext cx="7704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ortest-Job-First (SJF)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7920" y="1233360"/>
            <a:ext cx="7143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with each process the length of its next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lengths to schedule the process with the short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optimal – gives minimum average waiting time for a given set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iculty is knowing the length of the next CPU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sk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SJF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v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scheduling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3 + 16 + 9 + 0) / 4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287360" y="4076640"/>
            <a:ext cx="6796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440" y="15372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rmining Length of Next CPU Burs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33360"/>
            <a:ext cx="74361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estimate the length – should be similar to the previou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ick process with shortest predicted next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y using the length of previous CPU bursts, using exponential ave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,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 version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ortest-remaining-time-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979640" y="3103560"/>
                <a:ext cx="44276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ual  length of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PU  burst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dicted value for the next CPU  burs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efine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3228840" y="4068720"/>
                <a:ext cx="2222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0400" y="-18000"/>
            <a:ext cx="82234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Prediction of the Length of the Next CPU Burs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1" descr="6_03.pdf"/>
          <p:cNvPicPr/>
          <p:nvPr/>
        </p:nvPicPr>
        <p:blipFill>
          <a:blip r:embed="rId1"/>
          <a:stretch/>
        </p:blipFill>
        <p:spPr>
          <a:xfrm>
            <a:off x="1841400" y="1282680"/>
            <a:ext cx="53881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1880" y="201240"/>
            <a:ext cx="745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Exponential Aver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7920" y="1233360"/>
            <a:ext cx="724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history does not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actual last CPU burs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expand the formula,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+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bo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(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less than or equal to 1, each successive term has less weight than its prede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2240" y="277920"/>
            <a:ext cx="7594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 of Shortest-remaining-time-firs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3160" y="1233360"/>
            <a:ext cx="7601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add the concepts of varying arrival times and preemption to th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emp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[(10-1)+(1-1)+(17-2)+5-3)]/4 = 26/4 = 6.5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446120" y="4284720"/>
            <a:ext cx="65358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3360" y="20124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2720" y="1233360"/>
            <a:ext cx="7423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number (integer) is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PU is allocated to the process with the highest priority (smallest inte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est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priority scheduling where priority is the inverse of predicted next CPU 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ow priority processes may never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g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s time progresses increase the 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6160" y="201240"/>
            <a:ext cx="728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Priority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337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scheduling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8.2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258920" y="4343400"/>
            <a:ext cx="60577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756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6: 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7160" y="1195200"/>
            <a:ext cx="733608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rocessor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ound Robin (RR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840" y="1231560"/>
            <a:ext cx="715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gets a small unit of CPU time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ant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usually 10-100 milliseconds.  After this time has elapsed, the process is preempted and added to the end of the ready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in the ready queue and the time quantu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each process gets 1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PU time in chunks of 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s at once.  No process waits more tha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every quantum to schedule nex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large with respect to context switch, otherwise overhead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9000" y="139320"/>
            <a:ext cx="7750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RR with Time Quantum = 4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4000" y="1193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is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higher average turnaround than SJF, but bet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should be large compared to context swit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usually 10ms to 100ms, context switch &lt; 10 u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398600" y="3227400"/>
            <a:ext cx="67705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3800" y="182520"/>
            <a:ext cx="782928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ime Quantum and Context Switch Tim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371600" y="1449360"/>
            <a:ext cx="6527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9800" y="266760"/>
            <a:ext cx="8535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Turnaround Time Varies With The Time Quantum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084400" y="1379520"/>
            <a:ext cx="5005440" cy="412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5937120" y="3745080"/>
            <a:ext cx="231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80% of CPU bursts should be shorter than q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2720" y="15408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44200" y="1068120"/>
            <a:ext cx="75373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queue is partitioned into separate queues, 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e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tera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ermanently in a give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queue has its own scheduling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–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must be done between the que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scheduling; (i.e., serve all from foreground then from background). 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– each queue gets a certain amount of CPU time which it can schedule amongst its processes; i.e., 80% to foreground in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to background in FC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0080" y="189000"/>
            <a:ext cx="7596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Queu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8" name="Picture 4" descr="5"/>
          <p:cNvPicPr/>
          <p:nvPr/>
        </p:nvPicPr>
        <p:blipFill>
          <a:blip r:embed="rId1"/>
          <a:stretch/>
        </p:blipFill>
        <p:spPr>
          <a:xfrm>
            <a:off x="1270080" y="1467000"/>
            <a:ext cx="66866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0240" y="239400"/>
            <a:ext cx="8026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Feedback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9200" y="14680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move between the various queues; aging can be implemented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level-feedback-queue scheduler defined by the following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 for ea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upgrad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demot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50400"/>
            <a:ext cx="771048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Multilevel Feedback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4065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que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RR with time quantum 8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RR time quantum 16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FC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ew job enters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ch is serve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t gains CPU, job receives 8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t does not finish in 8 milliseconds, job is moved to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ob is again served FCFS and receives 16 additional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t still does not complete, it is preempted and moved to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5"/>
          <p:cNvPicPr/>
          <p:nvPr/>
        </p:nvPicPr>
        <p:blipFill>
          <a:blip r:embed="rId1"/>
          <a:stretch/>
        </p:blipFill>
        <p:spPr>
          <a:xfrm>
            <a:off x="4971960" y="2158920"/>
            <a:ext cx="386244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44200" y="1272960"/>
            <a:ext cx="766116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on between user-level and kernel-lev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reads supported, threads scheduled, no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 and many-to-many models, thread library schedules user-level threads to run on 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-contention sco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cheduling competition is with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done via priority set by 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thread scheduled onto available CPU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-contention 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etition among all threads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9200" y="189000"/>
            <a:ext cx="7977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8680" y="1336320"/>
            <a:ext cx="697896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allows specifying either PCS or SCS during thread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SCOPE_PROCESS schedules threads using PC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SCOPE_SYSTEM schedules threads using SC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limited by OS – Linux and Mac OS X only allow PTHREAD_SCOPE_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46080" y="1233360"/>
            <a:ext cx="7283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CPU scheduling, which is the basis for multiprogrammed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various CPU-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evaluation criteria for selecting a CPU-scheduling algorithm for a parti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scheduling algorithms of several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38280" y="942840"/>
            <a:ext cx="6818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pthread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UM_THREADS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argv[]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scop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t tid[NUM THREADS]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t att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default attributes *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init(&amp;attr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first inquire on the current scope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getscope(&amp;attr, &amp;scope) != 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get scheduling scope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cope == PTHREAD_SCOPE_PROCES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THREAD_SCOPE_PROCESS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cope == PTHREAD_SCOPE_SYSTE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THREAD_SCOPE_SYSTEM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printf(stderr, "Illegal scope value.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5040" y="277920"/>
            <a:ext cx="7781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3080" y="1193760"/>
            <a:ext cx="73216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set the scheduling algorithm to PCS or SCS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setscope(&amp;attr, PTHREAD_SCOPE_SYSTEM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reate the threads */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create(&amp;tid[i],&amp;attr,runner,NULL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now join on each thread */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join(tid[i], NULL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Each thread will begin control in this function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runner(void *param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 some work ...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63360" y="16308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ple-Processor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5840" y="1122120"/>
            <a:ext cx="70344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more complex when multiple CPU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multi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only one processor accesses the system data structures, alleviating the need for data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mmetric multiproces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is self-scheduling, all processes in common ready queue, or each has its own private queue of read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, 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 affin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ocess has affinity for processor on which it is currently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s includ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8880" y="20124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UMA and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41560" y="5450040"/>
            <a:ext cx="590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 that memory-placement algorithms can also consider affini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" descr="6_09.pdf"/>
          <p:cNvPicPr/>
          <p:nvPr/>
        </p:nvPicPr>
        <p:blipFill>
          <a:blip r:embed="rId1"/>
          <a:stretch/>
        </p:blipFill>
        <p:spPr>
          <a:xfrm>
            <a:off x="1727280" y="1266840"/>
            <a:ext cx="62625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91960" y="10116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ultiple-Processor Scheduling – Load Balanc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0280" y="1233000"/>
            <a:ext cx="70088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P, need to keep all CPUs loaded fo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ad balanc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s to keep workload evenly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sh mig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eriodic task checks load on each processor, and if found pushes task from overloaded CPU to other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ll mig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dle processors pulls waiting task from busy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472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cesso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82360" y="1233360"/>
            <a:ext cx="6915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trend to place multiple processor cores on same physical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and consumes less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per core also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dvantage of memory stall to make progress on another thread while memory retrieve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96640" y="277920"/>
            <a:ext cx="7489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ed Multicor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Picture 4" descr="5"/>
          <p:cNvPicPr/>
          <p:nvPr/>
        </p:nvPicPr>
        <p:blipFill>
          <a:blip r:embed="rId1"/>
          <a:stretch/>
        </p:blipFill>
        <p:spPr>
          <a:xfrm>
            <a:off x="1089000" y="1401840"/>
            <a:ext cx="6781680" cy="16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1114560" y="3722760"/>
            <a:ext cx="68720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64720" y="277920"/>
            <a:ext cx="782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l-Time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06040" y="1233360"/>
            <a:ext cx="3552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present obvious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 real-time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no guarantee as to when critical real-time process will be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 real-tim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ask must be serviced by its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latencies affect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 latency – time from arrival of interrupt to start of routine that services 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 latency – time for schedule to take current process off CPU and switch to an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Screen Shot 2012-12-17 at 8.37.21 PM.png"/>
          <p:cNvPicPr/>
          <p:nvPr/>
        </p:nvPicPr>
        <p:blipFill>
          <a:blip r:embed="rId1"/>
          <a:stretch/>
        </p:blipFill>
        <p:spPr>
          <a:xfrm>
            <a:off x="4227480" y="1488960"/>
            <a:ext cx="4813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288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l-Time CPU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6400" y="1233360"/>
            <a:ext cx="263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phase of dispatch lat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on of any process running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by low-priority process of resources needed by high-priorit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6_14.pdf"/>
          <p:cNvPicPr/>
          <p:nvPr/>
        </p:nvPicPr>
        <p:blipFill>
          <a:blip r:embed="rId1"/>
          <a:stretch/>
        </p:blipFill>
        <p:spPr>
          <a:xfrm>
            <a:off x="3854520" y="1384200"/>
            <a:ext cx="45720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4720" y="277920"/>
            <a:ext cx="782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-base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22400" y="11952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l-time scheduling, scheduler must support preemptive, 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only guarantees soft 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ard real-time must also provide ability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have new characteristics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eriod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s require CPU at constant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processing tim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ad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periodic task is 1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Screen Shot 2012-12-17 at 8.41.54 PM.png"/>
          <p:cNvPicPr/>
          <p:nvPr/>
        </p:nvPicPr>
        <p:blipFill>
          <a:blip r:embed="rId1"/>
          <a:stretch/>
        </p:blipFill>
        <p:spPr>
          <a:xfrm>
            <a:off x="1833480" y="4075200"/>
            <a:ext cx="5837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0960" y="1274400"/>
            <a:ext cx="39783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PU utilization obtained with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–I/O Burst Cycle – Process execution consists of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PU execution and I/O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PU bur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burst distribution is of main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6_01.pdf"/>
          <p:cNvPicPr/>
          <p:nvPr/>
        </p:nvPicPr>
        <p:blipFill>
          <a:blip r:embed="rId1"/>
          <a:stretch/>
        </p:blipFill>
        <p:spPr>
          <a:xfrm>
            <a:off x="5381640" y="1143000"/>
            <a:ext cx="23605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ization an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33480" y="1233360"/>
            <a:ext cx="639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 software schedules multiple guests onto CPU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uest doing its own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knowing it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own the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ffect time-of-day clocks in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do good scheduling algorithm efforts of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te Montonic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is assigned based on the inverse of its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periods = higher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eriods =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higher priority tha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147680" y="3659040"/>
            <a:ext cx="6867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400" y="82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ssed Deadlines with Rate Monotonic Schedul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rcRect l="661" t="40080" r="664" b="40050"/>
          <a:stretch/>
        </p:blipFill>
        <p:spPr>
          <a:xfrm>
            <a:off x="1130400" y="1746360"/>
            <a:ext cx="73310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81080" y="16308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arliest Deadline First Scheduling (EDF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0640" y="1257120"/>
            <a:ext cx="7353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assigned according to deadlin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the deadline, the higher the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r the deadline, the lower th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rcRect l="712" t="40188" r="712" b="39868"/>
          <a:stretch/>
        </p:blipFill>
        <p:spPr>
          <a:xfrm>
            <a:off x="1333440" y="2994120"/>
            <a:ext cx="6772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4560" y="20124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portional Shar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84240" y="1298160"/>
            <a:ext cx="69278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are allocated among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rece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&lt;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nsures each application will rece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otal processo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2760" y="2271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SIX Real-Tim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0120" y="1184040"/>
            <a:ext cx="7486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IX.1b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provides functions for managing real-tim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wo scheduling classes for real-time thr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_FIFO - threads are scheduled using a FCFS strategy with a FIFO queue. There is no time-slicing for threads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_RR - similar to SCHED_FIFO except time-slicing occurs for threads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wo functions for getting and setting scheduling poli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getsched_policy(pthread_attr_t *attr, int *poli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setsched_policy(pthread_attr_t *attr, int poli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1040" y="277920"/>
            <a:ext cx="774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SIX Real-Time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06400" y="1066320"/>
            <a:ext cx="7702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pthread.h&g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UM_THREADS 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argv[]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policy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t_tid[NUM_THREADS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t att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default attributes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init(&amp;attr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current scheduling policy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getschedpolicy(&amp;attr, &amp;policy) != 0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get policy.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olicy == SCHED_OTHER) printf("SCHED_OTHER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policy == SCHED_RR) printf("SCHED_RR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policy == SCHED_FIFO) printf("SCHED_FIFO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04480" y="175680"/>
            <a:ext cx="8039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OSIX Real-Time Scheduling API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702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set the scheduling policy - FIFO, RR, or OTHER */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setschedpolicy(&amp;attr, SCHED_FIFO) != 0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set policy.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reate the threads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create(&amp;tid[i],&amp;attr,runner,NULL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now join on each thread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join(tid[i], NULL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Each thread will begin control in this function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runner(void *param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 some work ...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38320" y="17568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109520"/>
            <a:ext cx="6843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31920" y="138240"/>
            <a:ext cx="784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inux Scheduling Through Version 2.5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2880" y="1123920"/>
            <a:ext cx="7402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kernel version 2.5, ran variation of standard UNIX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2.5 moved to constant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chedul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emptive, priority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riority ranges: time-sharing and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from 0 to 99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from 100 to 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into  global priority with numerically lower values indicating high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ority gets larger 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run-able as long as time left in time slice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 time left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xp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not run-able until all other tasks use their 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un-able tasks tracked in per-CPU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unque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riority arrays (active, exp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 indexed by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o more active, arrays are ex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d well, but poor response times for interactiv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75680"/>
            <a:ext cx="7620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stogram of CPU-burst Ti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1614600" y="1525680"/>
            <a:ext cx="57211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2240" y="175680"/>
            <a:ext cx="7594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inux Scheduling in Version 2.6.23 +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123560"/>
            <a:ext cx="7517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tely Fair Schedu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cheduling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has specific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r picks highest priority task in highest scheduling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her than quantum based on fixed time allotments, based on proportion of CPU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scheduling classes included, others can be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3976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3976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calculated based o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nice val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-20 to +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value is higher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s </a:t>
            </a: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target lat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interval of time during which task should run at leas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latency can increase if say number of active tasks incr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S scheduler maintains per task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irtual run 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d with decay factor based on priority of task – lower priority is higher deca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default priority yields virtual run time = actual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cide next task to run, scheduler picks task with lowest virtual ru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138240"/>
            <a:ext cx="7859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FS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Picture 4" descr="Screen Shot 2012-12-17 at 9.25.06 PM.png"/>
          <p:cNvPicPr/>
          <p:nvPr/>
        </p:nvPicPr>
        <p:blipFill>
          <a:blip r:embed="rId1"/>
          <a:stretch/>
        </p:blipFill>
        <p:spPr>
          <a:xfrm>
            <a:off x="2576520" y="1077840"/>
            <a:ext cx="43894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82360" y="1144440"/>
            <a:ext cx="779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cheduling according to POSIX.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asks have static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lus normal map into global 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 of -20 maps to global priorit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 of +19 maps to priority 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Screen Shot 2012-12-17 at 9.28.34 PM.png"/>
          <p:cNvPicPr/>
          <p:nvPr/>
        </p:nvPicPr>
        <p:blipFill>
          <a:blip r:embed="rId1"/>
          <a:stretch/>
        </p:blipFill>
        <p:spPr>
          <a:xfrm>
            <a:off x="1727280" y="3198960"/>
            <a:ext cx="60814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20880" y="1144440"/>
            <a:ext cx="664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uses priority-based preemptiv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-priority thread runs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patch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runs until (1) blocks, (2) uses time slice, (3) preempted by higher-priority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hreads can preempt non-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level 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ariable 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1-15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l-time 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0 is memory-managemen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for each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un-able thread, ru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dl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Priority Cla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06040" y="1233360"/>
            <a:ext cx="765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32 API identifies several priority classes to which a process can be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TIME_PRIORITY_CLASS, HIGH_PRIORITY_CLASS, ABOVE_NORMAL_PRIORITY_CLASS,NORMAL_PRIORITY_CLASS, BELOW_NORMAL_PRIORITY_CLASS, IDLE_PRIORITY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re variable except REAL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hread within a given priority class has a relative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_CRITICAL, HIGHEST, ABOVE_NORMAL, NORMAL, BELOW_NORMAL, LOWEST, 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lass and relative priority combine to give numeric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priority is NORMAL within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quantum expires, priority lowered, but never below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8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Priority Classe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06400" y="941040"/>
            <a:ext cx="781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ait occurs, priority boosted depending on what was wait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window given 3x priority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add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-mode schedu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create and manage threads independent of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rge number of threads, much 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 schedulers come from programming language libraries like                                         C++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current Run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RT)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85600" y="1756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Priorit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1" descr="6_22.pdf"/>
          <p:cNvPicPr/>
          <p:nvPr/>
        </p:nvPicPr>
        <p:blipFill>
          <a:blip r:embed="rId1"/>
          <a:stretch/>
        </p:blipFill>
        <p:spPr>
          <a:xfrm>
            <a:off x="1442880" y="1384200"/>
            <a:ext cx="6616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33480" y="1080720"/>
            <a:ext cx="718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class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haring (default) (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(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(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S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Share (F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(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read can be in one clas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has its own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haring is multi-level feedback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able table configurable by sys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163080"/>
            <a:ext cx="7859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Dispatch Tabl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" descr="6_23.pdf"/>
          <p:cNvPicPr/>
          <p:nvPr/>
        </p:nvPicPr>
        <p:blipFill>
          <a:blip r:embed="rId1"/>
          <a:stretch/>
        </p:blipFill>
        <p:spPr>
          <a:xfrm>
            <a:off x="2527200" y="1254240"/>
            <a:ext cx="4605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" descr="6_24.pdf"/>
          <p:cNvPicPr/>
          <p:nvPr/>
        </p:nvPicPr>
        <p:blipFill>
          <a:blip r:embed="rId1"/>
          <a:stretch/>
        </p:blipFill>
        <p:spPr>
          <a:xfrm>
            <a:off x="3166920" y="1206360"/>
            <a:ext cx="2835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0124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chedul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3480" y="1169640"/>
            <a:ext cx="7067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ort-term schedu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from among the processes in ready queue, and allocates the CPU to on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may be ordered in various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decisions may take place when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wait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r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under 1 and 4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cheduling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ccess to 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preemption while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nterrupts occurring during crucial O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87320" y="1195200"/>
            <a:ext cx="7251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converts class-specific priorities into a per-thread glob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with highest priority runs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until (1) blocks, (2) uses time slice, (3) preempted by higher-priority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at same priority selected via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9920" y="20124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gorithm Evalu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0280" y="1116000"/>
            <a:ext cx="756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elect CPU-scheduling algorithm for an 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criteria, then evaluate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terministic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naly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 particular predetermined workload and defines the performance of each algorithm  for that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5 processes arriving at time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" descr="Screen Shot 2012-12-17 at 9.44.14 PM.png"/>
          <p:cNvPicPr/>
          <p:nvPr/>
        </p:nvPicPr>
        <p:blipFill>
          <a:blip r:embed="rId1"/>
          <a:stretch/>
        </p:blipFill>
        <p:spPr>
          <a:xfrm>
            <a:off x="2401920" y="3821040"/>
            <a:ext cx="18972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9920" y="277920"/>
            <a:ext cx="7616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rministic Evalu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382760"/>
            <a:ext cx="756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algorithm, calculate minimum average wai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nd fast, but requires exact numbers for input, applies only to those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CS is 28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n-preemptive SFJ is 13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R is 23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Screen Shot 2012-12-17 at 9.47.12 PM.png"/>
          <p:cNvPicPr/>
          <p:nvPr/>
        </p:nvPicPr>
        <p:blipFill>
          <a:blip r:embed="rId1"/>
          <a:stretch/>
        </p:blipFill>
        <p:spPr>
          <a:xfrm>
            <a:off x="1935000" y="2720880"/>
            <a:ext cx="4445280" cy="82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Screen Shot 2012-12-17 at 9.47.18 PM.png"/>
          <p:cNvPicPr/>
          <p:nvPr/>
        </p:nvPicPr>
        <p:blipFill>
          <a:blip r:embed="rId2"/>
          <a:stretch/>
        </p:blipFill>
        <p:spPr>
          <a:xfrm>
            <a:off x="1893960" y="3852720"/>
            <a:ext cx="4529160" cy="7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Screen Shot 2012-12-17 at 9.47.24 PM.png"/>
          <p:cNvPicPr/>
          <p:nvPr/>
        </p:nvPicPr>
        <p:blipFill>
          <a:blip r:embed="rId3"/>
          <a:stretch/>
        </p:blipFill>
        <p:spPr>
          <a:xfrm>
            <a:off x="1898640" y="4902120"/>
            <a:ext cx="4444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Queueing Mod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07920" y="1233360"/>
            <a:ext cx="710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the arrival of processes, and CPU and I/O bursts probabilis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exponential, and described by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 average throughput, utilization, waiting ti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ystem described as network of servers, each with queue of wai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arrival rates and servic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 utilization, average queue length, average wait ti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ttle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Formul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94960" y="1169640"/>
            <a:ext cx="727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queu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waiting time i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arrival rate into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aw – in steady state, processes leaving queue must equal processes arriving, thu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 for any scheduling algorithm and arriv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on average 7 processes arrive per second, and normally 14 processes in queue, then average wait time per process = 2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mul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 model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model of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statistics  indicating algorithm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o drive simulation gathered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number generator according to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 defined mathematically or empir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 tapes record sequences of real events in re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30480" y="16632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valuation of CPU Schedulers by Simul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3" name="Picture 1" descr="6_25.pdf"/>
          <p:cNvPicPr/>
          <p:nvPr/>
        </p:nvPicPr>
        <p:blipFill>
          <a:blip r:embed="rId1"/>
          <a:stretch/>
        </p:blipFill>
        <p:spPr>
          <a:xfrm>
            <a:off x="1587600" y="1379520"/>
            <a:ext cx="6367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4720" y="189000"/>
            <a:ext cx="6824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851040" y="1208160"/>
            <a:ext cx="7530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simulations have limited accura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implement new scheduler and test in real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igh cost, high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nvironments v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flexible schedulers can be modified per-site or per-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PIs to modify prior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gain environments v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550880" indent="-325440">
              <a:lnSpc>
                <a:spcPct val="10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6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6520" y="1177560"/>
            <a:ext cx="6724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 module gives control of the CPU to the process selected by the short-term scheduler; this invo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patch late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ime it takes for the dispatcher to stop one process and start anoth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ing Criteri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33120" y="1246320"/>
            <a:ext cx="71564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uti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keep the CPU as bus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# of processes that complete their execution per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around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to execute a particula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a process has been waiting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it takes from when a request was submitted until the first response is produced, not output  (for time-shar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53760" y="138240"/>
            <a:ext cx="7513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cheduling Algorithm Optimization Criteria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2480" y="1174320"/>
            <a:ext cx="6114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turnaroun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wait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09-30T22:20:21Z</dcterms:modified>
  <cp:revision>184</cp:revision>
  <dc:subject/>
  <dc:title>2.01</dc:title>
</cp:coreProperties>
</file>