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jpeg" ContentType="image/jpeg"/>
  <Override PartName="/ppt/media/image19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16.jpeg" ContentType="image/jpeg"/>
  <Override PartName="/ppt/media/image10.png" ContentType="image/png"/>
  <Override PartName="/ppt/media/image7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401652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00240" y="70452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89E8449-C6CC-4D1A-94F2-37CB267CD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1CF5ABA-7E56-4122-8E37-7562F6DD9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53FA2A8-0F83-4B4D-9F4F-4C5406199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03D5E99-CDDF-4172-965A-AAA8F86AB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0549830-80FC-4B18-A084-0FB139498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68DF882-4BE6-41E8-8E37-80D4B0A76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1F8D85E-64A6-48DD-B005-F71F99804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FE1E7C3-5FEF-4C2A-84FB-91595C706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1B962B3-02FD-4C9F-8460-5E9F25900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A3BDBBA-B195-4179-8E73-1D91A1EB3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B37D63C-6DF4-425A-8D36-426F3F787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CA8916C-D775-4267-8737-0C622A2A7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A4A3EDF-D713-40E4-9879-C96863A93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95472C1-5AE5-41F1-A73D-670A78C6C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492C296-8D02-4ACD-A4D2-BD6D74025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5A69E50-49C7-4AC4-97DC-1696D3F32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AFCEF1C-8E1F-4D0D-B0C5-BCB9C8E88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018F96D-3FE2-4FBC-8A0E-F653ACD4C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D156DDF-33CF-48D5-8F81-224A32E83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5628C46-4F11-4E47-A6E9-9210B0D8D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605ED62-65AE-4DED-93EE-CA829B292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DA491BC-3814-4EC6-AEBB-A8FBF6AA4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60F1D26-30CC-421E-A523-48442C727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E918F3B-B5FF-4CA2-A3B7-D5C5216F6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042BECD-2EE3-4CBD-B2C7-AFBDBE03B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AD661C4-7EDF-4787-8BA0-D69EE47FC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EC17DE1-FB0D-4509-AB11-B4827F156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DC22A90-C59B-4E4C-81DB-772FB2444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9D80947-4DC5-4A24-9DB0-F8FBED113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4EF77C8-20C7-464D-9708-2F0FB81BB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8C29FF8-CD22-4D5F-8DF1-E47C7EA39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639C541-71E4-4F82-8399-3198837A4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4254CE7-30D5-4E0D-B24C-31168B8B9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997CF9F-460A-45C7-9264-54DA79FC9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A303795-3D8E-45EA-A134-63F281375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6E90806-1DB0-458D-AA14-B32F1E4BE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F503D27-E5C1-41B0-B9FB-538B88394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FE86C60-E290-4B77-B17F-E29F02852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431AECE-4A60-4796-89E6-19AE44036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27381E5-D611-4AAD-964E-745F73BDD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E61C6F7-B7E7-458E-91CB-EB74C2DC8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EDB17C3-42AE-4792-8E34-206B80CEF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99636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13.</a:t>
            </a:r>
            <a:fld id="{D40C2360-DAE1-4CA8-91A4-2BF39574982A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94400" y="662148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440" y="661356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17200"/>
            <a:ext cx="7772400" cy="21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13:  I/O Systems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rrup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2840" y="1069560"/>
            <a:ext cx="76550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ing can happen in 3 instruction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status, logical-and to extract status bit, branch if not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be more efficient if non-zero infrequent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terrupt-request 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iggered by I/O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ed by processor after each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terrupt handler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s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ask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ignore or delay some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terrupt vec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patch interrupt to correct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 switch at start and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onmask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 chaining if more than one device at same interrup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89120" y="167760"/>
            <a:ext cx="7897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rrupt-Driven I/O Cyc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2220840" y="1160640"/>
            <a:ext cx="505944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60160" y="150480"/>
            <a:ext cx="7661160" cy="56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Intel Pentium Processor Event-Vector Table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806480" y="1160640"/>
            <a:ext cx="585972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rrupt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60400" y="1164960"/>
            <a:ext cx="6864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 mechanism also used f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 process, crash system due to hardware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 executes when memory access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 executes vi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r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rigger kernel to execut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CPU systems can process interrupt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perating system designed to handl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for time-sensitive processing, frequent, must be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rect Memory Acces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026720"/>
            <a:ext cx="768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avoi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grammed I/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ne byte at a time) for large data m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passes CPU to transfer data directly between I/O device and mem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writes DMA command block into mem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destination addr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or write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 of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s location of command block to DMA 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 mastering of DMA controller – grabs bus from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Cycle steal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CPU but still much more effic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done, interrupts to signal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that is aware of virtual addresses can be even more efficient -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V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05080" y="236520"/>
            <a:ext cx="7711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ix Step Process to Perform DMA Transfer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8" name="Picture 1" descr="13_05.pdf"/>
          <p:cNvPicPr/>
          <p:nvPr/>
        </p:nvPicPr>
        <p:blipFill>
          <a:blip r:embed="rId1"/>
          <a:stretch/>
        </p:blipFill>
        <p:spPr>
          <a:xfrm>
            <a:off x="1801800" y="1179360"/>
            <a:ext cx="612936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4560" y="126720"/>
            <a:ext cx="7751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pplication I/O Interfa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3040" y="1028520"/>
            <a:ext cx="7737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system calls encapsulate device behaviors in generic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-driver layer hides differences among I/O controllers from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evices talking already-implemented protocols need no extra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S has its own I/O subsystem structures and device driver frame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s vary in many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haracter-stre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quent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andom-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ynchron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asynchron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bo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har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d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peed of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ad-wri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ad on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rit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 Kernel I/O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843200" y="1270080"/>
            <a:ext cx="5738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6400" y="163080"/>
            <a:ext cx="7772400" cy="5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racteristics of I/O Devic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897200" y="1206360"/>
            <a:ext cx="59385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42720" y="167760"/>
            <a:ext cx="7689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racteristics of I/O Device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06040" y="1233360"/>
            <a:ext cx="6999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leties of devices handled by devic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ly I/O devices can be grouped by the OS 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 I/O (Stre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pped fil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irect manipulation of I/O device specific characteristics, usually an escape / back 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octl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to send arbitrary bits to a device control register and data to device data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2880" y="155160"/>
            <a:ext cx="7783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13:  I/O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47440" y="1082520"/>
            <a:ext cx="7218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/O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I/O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ing I/O Requests to Hardwar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46000" y="155160"/>
            <a:ext cx="7840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lock and Character Devic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3400" y="1150560"/>
            <a:ext cx="6864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devices include disk d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include read, write, se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aw I/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direct I/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file-system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pped file acces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mapped to virtual memory and clusters brought via demand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 devices include keyboards, mice, serial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inclu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ies layered on top allow line e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etwork Devic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796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ying enough from block and character to have ow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, Unix, Windows and many others includ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ock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s network protocol from network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ect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aches vary widely (pipes, FIFOs, streams, queues, mailbox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ocks and Timer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0800" y="1150560"/>
            <a:ext cx="6548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current time, elapsed time, 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resolution about 1/60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ystems provide higher-resolution ti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grammable interval timer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for timings, periodic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octl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n UNIX) covers odd aspects of I/O such as clocks and ti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5480" y="182160"/>
            <a:ext cx="7800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onblocking and Asynchronous I/O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0440" y="1150560"/>
            <a:ext cx="687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lock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cess suspended until I/O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use and 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fficient for some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onb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I/O call returns as much a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, data copy (buffered I/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d via multi-th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quickly with count of bytes read or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(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nd if data ready t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ynchron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ocess runs while I/O exec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subsystem signals process when I/O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wo I/O Metho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2716200" y="4981680"/>
            <a:ext cx="173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429160" y="5000760"/>
            <a:ext cx="308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550880" y="1382760"/>
            <a:ext cx="6201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85600" y="167760"/>
            <a:ext cx="7800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ectored I/O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3040" y="1137960"/>
            <a:ext cx="687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ectored I/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ne system call to perform multiple I/O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Uni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ve(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a vector of multiple buffers to read into or write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catter-gather method better than multiple individual I/O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s context switching and system call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versions provide atom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 for example worry about multiple threads changing data as reads / writes occur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56800" y="182160"/>
            <a:ext cx="7829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Kernel I/O Sub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47440" y="1001520"/>
            <a:ext cx="762804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I/O request ordering via per-device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Ss try fair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implement Quality Of Service (i.e. IPQ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uffe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store data in memory while transferring between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pe with device speed mis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pe with device transfer size mis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intain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semanti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ouble buffer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two copies of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and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ying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 / being processed and not-full / being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-on-write can be used for efficiency in som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23760" y="140760"/>
            <a:ext cx="77630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vice-status Tab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4" name="Picture 4" descr="13"/>
          <p:cNvPicPr/>
          <p:nvPr/>
        </p:nvPicPr>
        <p:blipFill>
          <a:blip r:embed="rId1"/>
          <a:stretch/>
        </p:blipFill>
        <p:spPr>
          <a:xfrm>
            <a:off x="1771560" y="1593720"/>
            <a:ext cx="607536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1880" y="132840"/>
            <a:ext cx="80182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un Enterprise 6000 Device-Transfer Rates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6" name="Picture 1" descr="13_10.pdf"/>
          <p:cNvPicPr/>
          <p:nvPr/>
        </p:nvPicPr>
        <p:blipFill>
          <a:blip r:embed="rId1"/>
          <a:stretch/>
        </p:blipFill>
        <p:spPr>
          <a:xfrm>
            <a:off x="2143080" y="1184400"/>
            <a:ext cx="478620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77600" y="167760"/>
            <a:ext cx="7908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Kernel I/O Sub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47800" y="1164960"/>
            <a:ext cx="7601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aching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aster device holding copy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just a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to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combined with buff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poo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hold output for a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evice can serve only one request at a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Pr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 reservation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vides exclusive access to a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for allocation and de-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 out for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47800" y="1150560"/>
            <a:ext cx="678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the structure of an operating syste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I/O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principles of I/O hardware and its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details of the performance aspects of I/O hardware an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rror Hand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959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can recover from disk read, device unavailable, transient write fail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y a read or write, fo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ystems more advanced – Solaris FMA, A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 error frequencies, stop using device with increasing frequency of retry-able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return an error number or code when I/O request f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error logs hold problem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/O Prot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6400" y="1242720"/>
            <a:ext cx="683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process may accidentally or purposefully attempt to disrupt normal operation via illegal I/O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/O instructions defined to be privile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must be performed via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pped and I/O port memory locations must be protected t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01320" y="167760"/>
            <a:ext cx="7704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se of a System Call to Perform I/O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4" name="Picture 1" descr="13_11.pdf"/>
          <p:cNvPicPr/>
          <p:nvPr/>
        </p:nvPicPr>
        <p:blipFill>
          <a:blip r:embed="rId1"/>
          <a:stretch/>
        </p:blipFill>
        <p:spPr>
          <a:xfrm>
            <a:off x="2573280" y="1214280"/>
            <a:ext cx="343368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821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Kernel Data Structur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0440" y="1150560"/>
            <a:ext cx="7026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keeps state info for I/O components, including open file tables, network connections, character devic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, many complex data structures to track buffers, memory allocation,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t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use object-oriented methods and message passing to implement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uses message pa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with I/O information passed from user mode into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modified as it flows through to device driver and back to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 / c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7840" y="167760"/>
            <a:ext cx="7878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NIX I/O Kernel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8" name="Picture 1" descr="13_12.pdf"/>
          <p:cNvPicPr/>
          <p:nvPr/>
        </p:nvPicPr>
        <p:blipFill>
          <a:blip r:embed="rId1"/>
          <a:stretch/>
        </p:blipFill>
        <p:spPr>
          <a:xfrm>
            <a:off x="1589040" y="1184400"/>
            <a:ext cx="559764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7600" y="182160"/>
            <a:ext cx="7908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ower Manag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60040" y="1042920"/>
            <a:ext cx="7110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strictly domain of I/O, but much is I/O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s and devices use electricity, generate heat, frequently require c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es can help manage and improv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 computing environments move virtual machines betwee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end up evacuating whole systems and shutting them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computing has power management as first class OS a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77600" y="182160"/>
            <a:ext cx="7908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ower Management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60400" y="1110960"/>
            <a:ext cx="701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xample, Android imp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-level pow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stands relationship between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device tree representing physical device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bus -&gt; I/O subsystem -&gt; {flash, USB storage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 driver tracks state of device, whether in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used component – turn it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devices in tree branch unused – turn off bra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ke locks – like other locks but prevent sleep of device when lock is h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collapse – put a device into very deep 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ower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awake enough to respond to external stimuli (button press, incoming ca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19120" y="182160"/>
            <a:ext cx="7662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/O Requests to Hardware Opera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6040" y="1137960"/>
            <a:ext cx="6945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reading a file from disk for a proc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device holding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 name to device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ly read data from disk into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ata available to reques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control to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25200" y="155160"/>
            <a:ext cx="7761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ife Cycle of An I/O Reques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6" name="Picture 4" descr="13"/>
          <p:cNvPicPr/>
          <p:nvPr/>
        </p:nvPicPr>
        <p:blipFill>
          <a:blip r:embed="rId1"/>
          <a:stretch/>
        </p:blipFill>
        <p:spPr>
          <a:xfrm>
            <a:off x="2951280" y="1201680"/>
            <a:ext cx="32749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98480" y="114480"/>
            <a:ext cx="78883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REA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0400" y="1150560"/>
            <a:ext cx="6864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RE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full-duplex communication channel between a user-level process and a device in Unix System V and bey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REAM consists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head interfaces with the us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 end interfaces with th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ro or more STREAM modules between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odule contain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que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rite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passing is used to communicate between que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low contr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to indicate available or 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internally, synchronous where user process communicates with stream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20440" y="1164960"/>
            <a:ext cx="7257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management is a major component of operating system design and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aspect of computer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devices vary grea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methods to control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ypes of devices frequ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s, busses, device controllers connect to various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 driv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apsulate device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uniform device-access interface to I/O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27160" y="177840"/>
            <a:ext cx="7772400" cy="54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TREAMS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2948040" y="1201680"/>
            <a:ext cx="40194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erforman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62895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a major factor in system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s CPU to execute device driver, kernel I/O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 switches due to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op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traffic especially str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3120" y="155160"/>
            <a:ext cx="7753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rcomputer Communica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4" name="Picture 1" descr="13_15.pdf"/>
          <p:cNvPicPr/>
          <p:nvPr/>
        </p:nvPicPr>
        <p:blipFill>
          <a:blip r:embed="rId1"/>
          <a:stretch/>
        </p:blipFill>
        <p:spPr>
          <a:xfrm>
            <a:off x="2784600" y="1150920"/>
            <a:ext cx="380340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44640" y="140760"/>
            <a:ext cx="7742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mproving Performan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3040" y="1110960"/>
            <a:ext cx="7069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number of context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data cop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interrupts by using large transfers, smart controllers, p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marter hardware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CPU, memory, bus, and I/O performance for highest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user-mode processes / daemons to kernel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68400" y="1677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vice-Functionality Progress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8" name="Picture 1" descr="13_16.pdf"/>
          <p:cNvPicPr/>
          <p:nvPr/>
        </p:nvPicPr>
        <p:blipFill>
          <a:blip r:embed="rId1"/>
          <a:stretch/>
        </p:blipFill>
        <p:spPr>
          <a:xfrm>
            <a:off x="1558800" y="1328760"/>
            <a:ext cx="632160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13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1280" y="114480"/>
            <a:ext cx="79851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/O Hardwa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0800" y="1055520"/>
            <a:ext cx="75866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dible variety of I/O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man-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concepts – signals from I/O devices interface with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Por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connection point for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B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daisy chain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shared direct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P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s common in PCs and servers, PCI Express (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PCI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expan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b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nects relatively slow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Controll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host adap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– electronics that operate port, bus,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integr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separate circuit board (host adap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ins processor, microcode, private memory, bus controller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talk to per-device controller with bus controller, microcode, memory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8880" y="126720"/>
            <a:ext cx="79279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 Typical PC Bus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0" name="Picture 1030" descr=""/>
          <p:cNvPicPr/>
          <p:nvPr/>
        </p:nvPicPr>
        <p:blipFill>
          <a:blip r:embed="rId1"/>
          <a:stretch/>
        </p:blipFill>
        <p:spPr>
          <a:xfrm>
            <a:off x="1817640" y="1228680"/>
            <a:ext cx="57276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/O Hardware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20440" y="1069920"/>
            <a:ext cx="7026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instructions contro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s usually have registers where device driver places commands, addresses, and data to write, or read data from registers after command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-in register, data-out register, status register, control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1-4 bytes, or FIFO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s have addresses, us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/O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mory-mapped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data and command registers mapped to processor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ly for large address spaces (graph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8160" y="126720"/>
            <a:ext cx="76201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Device I/O Port Locations on PCs (partial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1909800" y="1228680"/>
            <a:ext cx="602136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ol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88480" y="1014120"/>
            <a:ext cx="773604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byte of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busy bit from status register until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sets read or write bit and if write copies data into data-ou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sets command-ready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r sets busy bit, executes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r clears busy bit, error bit, command-ready bit when transfer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i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usy-wa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 to wait for I/O from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able if device is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nefficient if device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switches to other tas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f miss a cycle data overwritten /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Silberschatz, Avi</cp:lastModifiedBy>
  <cp:lastPrinted>2013-09-10T17:57:57Z</cp:lastPrinted>
  <dcterms:modified xsi:type="dcterms:W3CDTF">2013-09-29T13:37:08Z</dcterms:modified>
  <cp:revision>176</cp:revision>
  <dc:subject/>
  <dc:title>2.01</dc:title>
</cp:coreProperties>
</file>