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.jpeg" ContentType="image/jpeg"/>
  <Override PartName="/ppt/media/image27.jpeg" ContentType="image/jpeg"/>
  <Override PartName="/ppt/media/image6.png" ContentType="image/png"/>
  <Override PartName="/ppt/media/image12.jpeg" ContentType="image/jpeg"/>
  <Override PartName="/ppt/media/image3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30.wmf" ContentType="image/x-wmf"/>
  <Override PartName="/ppt/media/image7.jpeg" ContentType="image/jpeg"/>
  <Override PartName="/ppt/media/image31.wmf" ContentType="image/x-wmf"/>
  <Override PartName="/ppt/media/image32.png" ContentType="image/png"/>
  <Override PartName="/ppt/media/image1.jpeg" ContentType="image/jpeg"/>
  <Override PartName="/ppt/media/image4.jpeg" ContentType="image/jpeg"/>
  <Override PartName="/ppt/media/image25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2.jpeg" ContentType="image/jpeg"/>
  <Override PartName="/ppt/media/image18.wmf" ContentType="image/x-wmf"/>
  <Override PartName="/ppt/media/image21.wmf" ContentType="image/x-wmf"/>
  <Override PartName="/ppt/media/image19.png" ContentType="image/png"/>
  <Override PartName="/ppt/media/image20.jpeg" ContentType="image/jpeg"/>
  <Override PartName="/ppt/media/image22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9A861D-3ABA-47DD-B0A6-6ECFDD39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43DE6E-9E1A-4161-9C70-3B067B770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1D5A8C3-AF95-4B33-A3A1-DCA2C7B52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8F9D6F-B11A-4EDB-90C5-E02B869D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D63E45-3DA9-42A2-B1BE-703C59313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5306CB-0281-4393-9C01-19017C376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72C00E-6F52-440C-B10E-81654467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2D7967-CD2E-42F2-9089-427E038F3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A248EF-8D81-4517-A184-716C969D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D9153FA-6A22-4496-9D38-1E90FD9AB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2EE28A-F5E4-441E-8549-18EAA5AD4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BA63EB-405F-469C-9817-5D18C9BF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9E8CC4-D65D-4356-ADF5-DF04C56F9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D2BB07-2270-48AA-87F8-2E10AB3F3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39C9B2-137F-4CF7-9F7F-8A9A528B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3A0876-160A-467C-96CD-CD83F9059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C745F6-CE49-48FD-83B5-15C0B346A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483E93-0E1C-4D5F-985C-AD879A12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4AC8630-498C-4863-8ED6-6C2F9059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9B96D8-C443-425F-AB44-524C11413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C57688-252C-4134-9F5E-EFAF163B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E20A1B-02DA-4C1A-B54C-95A58BED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80526D-146A-43A1-96A4-DB32980B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E6EEA3-2D58-4206-AD37-7F1CEED46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E8DFA7-1CAD-491E-8184-C43203D1F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EB5C3A0-2552-4B34-8BAF-544E487B8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496154-0FFB-4E60-998D-DAD056A4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FDB710-B99D-4143-9F0B-B345DE60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2771DC-A714-49CC-801C-66B10720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AF2598-6D00-488F-AB52-4A3C3148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0148B7-0EC3-4A55-9A0C-34F896DD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DF5698-39A9-4F94-BB88-473726CF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394BC5-FF29-4199-A84C-D1DDF079F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5CAE23-445B-4495-848C-804F47C3C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B5FE15-0DFD-4EC6-ADEF-7418A3FF0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D50125-3CA8-4D10-B4D8-3FBE79101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466305-F842-4297-A15A-7F941E99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0E8197E-AE5E-4E4F-9DDF-543ECD490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9CE6C5-ADA2-4F63-B251-7988D297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6FF80C-8ABE-4979-8704-F4C5DA81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49F4ED-D17A-41CF-8481-4778A5DEF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13D2D9-FD6F-49B1-9A11-112A48A7B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5582D4-83B0-4A4A-8DE1-06743850B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C448C8-B2CA-4556-A6AD-261B3D3F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3F8E3D4-3807-466E-B943-E256B7BA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C443B4-E815-458D-897B-AD0ACE09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CCA147-A8E0-4D4B-9C3C-435DBE349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BA86504-D3C3-4F10-A1F3-0B4A0C9E5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F659BB-2CBC-4B38-BE3A-1B287253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C797A4-5648-45EC-B086-57E47FEE4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4ECAA1-36A4-4E33-AAF6-DB4FF5EA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8BD6C8-B3B9-4C27-8022-BCF9559A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0D7DF7-2F70-4E88-BA7E-BB44FB795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0BB1C0-6996-46A7-9023-A974AA8CD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E20CCD-621A-4607-80CE-D7FE3668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D4985C-B56B-4EC6-BB7A-82C308CDE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E54DDA-F18E-4CFF-98DC-7AB80D51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76F974-FC88-44DB-B2B1-8F3EACF1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7114FA-8709-48A8-AD5E-2B116EEFC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D44094-1BA5-40EC-9C75-2C19E0486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02F79B-C4FA-48CF-8582-2DA8D1E7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7883AB-2AE8-4E31-BFC8-E77D3C4F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7C4543-A523-40F7-AB31-86D7B928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141C30-92CE-45CF-9BA9-BD3224B6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0F57F7-D9E7-4676-96D7-2DBBD3D44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9807CF-63BC-4647-8371-FBF202F99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1E8A0A-25C1-43A7-81AF-EBFD1491F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7A73E3-A490-45C1-AF60-D5D0995A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40921E-0F6C-4F27-B7C1-7179C5729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328636-027A-458A-9920-43935F43E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FDC572-FAFA-4A62-A7AA-D76E9D40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9.</a:t>
            </a:r>
            <a:fld id="{38850FDB-3AE2-40CE-8C08-B7E084AF6ACF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060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9:  Virtual Memory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4880" y="960120"/>
            <a:ext cx="41846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ring entire process into memory at loa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bring a page into memory only when it i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I/O needed, no unnecessary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memory nee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paging system with swapping (diagram on 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is neede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ference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-in-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ring 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Lazy swapper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ever swaps a page into memory unless page will b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per that deals with pages is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9"/>
          <p:cNvPicPr/>
          <p:nvPr/>
        </p:nvPicPr>
        <p:blipFill>
          <a:blip r:embed="rId1"/>
          <a:stretch/>
        </p:blipFill>
        <p:spPr>
          <a:xfrm>
            <a:off x="4892760" y="1701720"/>
            <a:ext cx="387828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6040" y="1144440"/>
            <a:ext cx="7512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wapping, pager guesses which pages will be used before swapping ou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pager brings in only those pages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termine that set of p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ew MMU functionality to implement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s needed are alread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fference from non demand-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 needed and not memory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detect and load the page into memory from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changing program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programmer needing to chang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-Invalid Bi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20880" y="1046160"/>
            <a:ext cx="7410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page table entry a valid–invalid bit is associ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-memory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mory res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-in-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valid–invalid bit is set t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ll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page table snapshot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MMU address translation, if valid–invalid bit in page table entry i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784600" y="2238480"/>
            <a:ext cx="282888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1880" y="139680"/>
            <a:ext cx="8296200" cy="5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Page Table When Some Pages Are Not in Main Memory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7" name="Picture 4" descr="9"/>
          <p:cNvPicPr/>
          <p:nvPr/>
        </p:nvPicPr>
        <p:blipFill>
          <a:blip r:embed="rId1"/>
          <a:stretch/>
        </p:blipFill>
        <p:spPr>
          <a:xfrm>
            <a:off x="1917720" y="1174680"/>
            <a:ext cx="4967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Faul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7040" y="905040"/>
            <a:ext cx="7139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a reference to a page, first reference to that page will trap to opera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looks at another table to dec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not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fre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page into frame via scheduled disk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tables to indicate page now in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validation bit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instruction that caused the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0480" y="189000"/>
            <a:ext cx="7996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eps in Handling a Page Faul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4" descr="9"/>
          <p:cNvPicPr/>
          <p:nvPr/>
        </p:nvPicPr>
        <p:blipFill>
          <a:blip r:embed="rId1"/>
          <a:stretch/>
        </p:blipFill>
        <p:spPr>
          <a:xfrm>
            <a:off x="1739880" y="1217520"/>
            <a:ext cx="580068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spects of Demand 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57160" y="1081080"/>
            <a:ext cx="7740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 case – start proces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sets instruction pointer to first instruction of process, non-memory-resident -&gt;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or every other process pages on firs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re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, a given instruction could access multiple pages -&gt; multiple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fetch and decode of instruction which adds 2 numbers from memory and stores result back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 decreased because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ity of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support needed for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with valid / invalid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memory (swap device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wap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struction Restar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38160" y="115740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n instruction that could access several different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ove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increment/decrem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whole op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source and destination over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452760" y="1911240"/>
            <a:ext cx="15638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7200" y="20124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 of Demand 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82360" y="1081080"/>
            <a:ext cx="7791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in Demand Paging (worse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p to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the user registers and process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that the interrupt was a page 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that the page reference was legal and determine the location of the page on the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a read from the disk to a free fr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in a queue for this device until the read request is servi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the device seek and/or latenc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the transfer of the page to a free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waiting, allocate the CPU to some other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 an interrupt from the disk I/O subsystem (I/O comple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the registers and process state for the other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that the interrupt was from the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the page table and other tables to show page is now 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the CPU to be allocated to this process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ore the user registers, process state, and new page table, and then resume the interrupt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12"/>
              </a:spcBef>
              <a:buNone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05000" y="189000"/>
            <a:ext cx="7942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 of Demand Pag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4560" y="1118880"/>
            <a:ext cx="8299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jo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the interrupt – careful coding means just several hundred instruction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page – lot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process – again just a small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Rate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no page fa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, every reference is a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Access Time (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age faul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2800" y="19476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9:  Virtual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123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ng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4560" y="21384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7160" y="1068120"/>
            <a:ext cx="77155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ccess time = 200 nano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age-fault service time = 8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p) x 200 + p (8 millisecon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1 – p  x 200 + p x 8,000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00 + p x 7,999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access out of 1,000 causes a page fault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8.2 micro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lowdown by a factor of 40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ant performance degradation &lt; 10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 &gt; 200 + 7,999,800 x 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&gt; 7,999,800 x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&lt; .0000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one page fault in every 400,000 memory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056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 Optimiz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6040" y="1028880"/>
            <a:ext cx="75754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 space I/O faster than file system I/O even if on the sa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 allocated in larger chunks, less management needed than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entire process image to swap space at process loa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ge in and out of swap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older BSD 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page in from program binary on disk, but discard rather than paging out when freeing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Solaris and current B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need to write to swap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not associated with a file (like stack and heap) –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nonymo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modified in memory but not yet written back to the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don’t support sw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demand page from file system and reclaim read-only pages (such as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py-on-Wri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0120" y="1106280"/>
            <a:ext cx="73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opy-on-Wri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W) allows both parent and child processes to initiall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ame pages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ither process modifies a shared page, only then is the page co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W allows more efficient process creation as only modified pages are co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free pages are allocated from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ool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zero-fill-on-dem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l should always have free frames for fast demand page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’t want to have to free a frame as well as other processing on pag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zero-out a page before allocating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fork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tion 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all has parent suspend and child using copy-on-write address space of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have child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3880" y="227160"/>
            <a:ext cx="7791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efore Process 1 Modifies Page 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8" name="Picture 4" descr="9"/>
          <p:cNvPicPr/>
          <p:nvPr/>
        </p:nvPicPr>
        <p:blipFill>
          <a:blip r:embed="rId1"/>
          <a:stretch/>
        </p:blipFill>
        <p:spPr>
          <a:xfrm>
            <a:off x="1282680" y="1353960"/>
            <a:ext cx="73389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8840" y="13824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fter Process 1 Modifies Page 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0" name="Picture 4" descr="9"/>
          <p:cNvPicPr/>
          <p:nvPr/>
        </p:nvPicPr>
        <p:blipFill>
          <a:blip r:embed="rId1"/>
          <a:stretch/>
        </p:blipFill>
        <p:spPr>
          <a:xfrm>
            <a:off x="1638360" y="1319040"/>
            <a:ext cx="64040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31480" y="14400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hat Happens if There is no Free Frame?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2480" y="1133640"/>
            <a:ext cx="73008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up by proces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 demand from the kernel, I/O buffer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to allocate to e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– find some page in memory, but not really in use, page i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– terminate? swap out? replace the p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– want an algorithm which will result in minimum number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ge may be brought into memory sever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1920" y="189000"/>
            <a:ext cx="7724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5320" y="1233360"/>
            <a:ext cx="6508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ver-al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emory by modifying page-fault service routine to include 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dif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b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overhead of page transfers – only modified pages ar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completes separation between logical memory and physical memory – large virtual memory can be provided on a smaller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3600" y="189000"/>
            <a:ext cx="7693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ed For 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6" name="Picture 4" descr="9"/>
          <p:cNvPicPr/>
          <p:nvPr/>
        </p:nvPicPr>
        <p:blipFill>
          <a:blip r:embed="rId1"/>
          <a:stretch/>
        </p:blipFill>
        <p:spPr>
          <a:xfrm>
            <a:off x="1727280" y="1192320"/>
            <a:ext cx="6192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16308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7920" y="1122480"/>
            <a:ext cx="7653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ocation of the desired page on d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ree fra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a free frame, use 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no free frame, use a page replacement algorithm to select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cti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ame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victim frame to disk if dir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 the desired page into the (newly) free frame; update the page and frame tab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he process by restarting the instruction that caused the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now potentially 2 page transfers for page fault – increasing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2400" y="17568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1841400" y="1224000"/>
            <a:ext cx="626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8440" y="1233360"/>
            <a:ext cx="687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benefits of a virtual mem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concepts of demand paging, page-replacement algorithms, and allocation of pag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principle of the working-se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relationship between shared memory and memory-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how kernel memory i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9480" y="163080"/>
            <a:ext cx="7675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age and Frame Replacement Algorithm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0120" y="1133640"/>
            <a:ext cx="74865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ame-allocation algorith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frames to give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frames to 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replacemen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lowest page-fault rate on both first access and re-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lgorithm by running it on a particular string of memory references (reference string) and computing the number of page faults on that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is just page numbers, not ful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 access to the same page does not cause a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depend on number of fram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our examples,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ference str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ferenced page number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,0,1,2,0,3,0,4,2,3,0,3,0,3,2,1,2,0,1,7,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840" y="9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Graph of Page Faults Versus The Number of Frame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574640" y="1238400"/>
            <a:ext cx="60454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41040" y="17568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rst-In-First-Out (FIFO)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7920" y="1052280"/>
            <a:ext cx="72835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tring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,0,1,2,0,3,0,4,2,3,0,3,0,3,2,1,2,0,1,7,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rames (3 pages can be in memory at a time per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vary by reference string: consider 1,2,3,4,1,2,5,1,2,3,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more frames can cause more page faul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elady</a:t>
            </a:r>
            <a:r>
              <a:rPr b="1" lang="ja-JP" sz="18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track ages of pag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use a FIFO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342080" y="3548160"/>
            <a:ext cx="161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age fa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684440" y="1854360"/>
            <a:ext cx="53276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8560" y="213840"/>
            <a:ext cx="7734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FO Illustrating Belady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Anomal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Picture 1" descr="9_13.pdf"/>
          <p:cNvPicPr/>
          <p:nvPr/>
        </p:nvPicPr>
        <p:blipFill>
          <a:blip r:embed="rId1"/>
          <a:stretch/>
        </p:blipFill>
        <p:spPr>
          <a:xfrm>
            <a:off x="1633680" y="1303200"/>
            <a:ext cx="56768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8800" y="138240"/>
            <a:ext cx="7937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timal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5320" y="1118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age that will not be used for longest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is optimal for th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read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measuring how well your algorithm per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612800" y="3159000"/>
            <a:ext cx="62596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8000" y="16308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east Recently Used (LRU)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88480" y="727200"/>
            <a:ext cx="74552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ast knowledge rather than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age that has not been used in the most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time of last use with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faults – better than FIFO but worse than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good algorithm and frequent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ow to impl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9"/>
          <p:cNvPicPr/>
          <p:nvPr/>
        </p:nvPicPr>
        <p:blipFill>
          <a:blip r:embed="rId1"/>
          <a:stretch/>
        </p:blipFill>
        <p:spPr>
          <a:xfrm>
            <a:off x="1525680" y="2363760"/>
            <a:ext cx="69022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RU Algorithm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5320" y="950400"/>
            <a:ext cx="752472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age entry has a counter; every time page is referenced through this entry, copy the clock into the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ge needs to be changed, look at the counters to find small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rough tabl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stack of page numbers in a double link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ferenc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 to 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6 pointers to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ach update more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arch for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and OPT are cases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ck algorith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have Belad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103320"/>
            <a:ext cx="7626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Use Of A Stack to Record Most Recent Page Referenc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Picture 1" descr="9_16.pdf"/>
          <p:cNvPicPr/>
          <p:nvPr/>
        </p:nvPicPr>
        <p:blipFill>
          <a:blip r:embed="rId1"/>
          <a:stretch/>
        </p:blipFill>
        <p:spPr>
          <a:xfrm>
            <a:off x="2077920" y="1141560"/>
            <a:ext cx="4702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504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RU Approximation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8720" y="982800"/>
            <a:ext cx="7371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needs special hardware and still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page associate a bit, initiall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age is referenced bit set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any with reference bit = 0 (if one ex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 not know the order, how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ond-chanc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FIFO, plus hardware-provided 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 to be replaced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bit = 0 -&gt; replac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bit = 1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22392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eference bit 0, leave pag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22392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next page, subject to sam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7000" y="177840"/>
            <a:ext cx="801072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econd-Chance (clock) Page-Replacement Algorithm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Picture 1" descr="9_17.pdf"/>
          <p:cNvPicPr/>
          <p:nvPr/>
        </p:nvPicPr>
        <p:blipFill>
          <a:blip r:embed="rId1"/>
          <a:stretch/>
        </p:blipFill>
        <p:spPr>
          <a:xfrm>
            <a:off x="2168640" y="1092240"/>
            <a:ext cx="440208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1840" y="1110960"/>
            <a:ext cx="7213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needs to be in memory to execute, but entire program rar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code, unusual routines, larg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program code not needed at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bility to execute partially-load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o longer constrained by limits of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gram takes less memory while running -&gt; more programs run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CPU utilization and throughput with no increase in response time or turnarou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I/O needed to load or swap programs into memory -&gt; each user program runs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5920" y="13824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nhanced Second-Chance Algorith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120" y="1071720"/>
            <a:ext cx="71578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algorithm by using reference bit and modify bit (if available) in conc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ordered pair (reference, modif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 0) neither recently used not modified – best page to 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 1) not recently used but modified – not quite as good, must write out befor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 0) recently used but clean – probably will be used again 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 1) recently used and modified – probably will be used again soon and need to write out befor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age replacement called for, use the clock scheme  but use the four classes replace page in lowest non-empty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need to search circular queue sever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unting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5840" y="1155240"/>
            <a:ext cx="73771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er of the number of references that have been made to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omm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ease Frequently U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F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replaces page with smallest 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st Frequently U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F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ased on the argument that the page with the smallest count was probably just brought in and has yet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-Buffering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70120" y="1093320"/>
            <a:ext cx="72324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pool of free frames,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rame available when needed, not found at faul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page into free frame and select victim to evict and add to fre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nvenient, evict 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, keep list of modified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backing store otherwise idle, write pages there and set to non-di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, keep free frame contents intact and note what is i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ferenced again before reused, no need to load contents again from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useful to reduce penalty if wrong victim frame selec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1960" y="138240"/>
            <a:ext cx="7867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pplications and Page Replacemen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95320" y="1131480"/>
            <a:ext cx="70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se algorithms have OS guessing about future pa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pplications have better knowledge – i.e.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intensive applications can cause double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keeps copy of page in memory as I/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keeps page in memory for its ow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an given direct access to the disk, getting out of the way of th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es buffering, lockin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7840" y="163080"/>
            <a:ext cx="7878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of Fram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0280" y="11203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nee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 of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BM 370 – 6 pages to handle SS MOVE instr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is 6 bytes, might span 2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 is total fram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jor alloc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8000" y="189000"/>
            <a:ext cx="7948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x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1440" y="1082160"/>
            <a:ext cx="72262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allocation – For example, if there are 100 frames (after allocating frames for the OS) and 5 processes, give each process 20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some as free frame buffe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al allocation – Allocate according to the size o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s degree of multiprogramming, process sizes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76400" y="3630600"/>
                <a:ext cx="285768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ize of process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number of frame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llocation for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Line 5"/>
          <p:cNvSpPr/>
          <p:nvPr/>
        </p:nvSpPr>
        <p:spPr>
          <a:xfrm>
            <a:off x="1782720" y="3792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1782720" y="41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782720" y="4989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776240" y="4456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5945040" y="3425760"/>
                <a:ext cx="150660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66880" y="201240"/>
            <a:ext cx="7819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ority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20880" y="1190520"/>
            <a:ext cx="68515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proportional allocation scheme using priorities rather than s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es a page faul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one of its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a frame from a process with lower priorit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30320" y="189000"/>
            <a:ext cx="7656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lobal vs. Local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7680" y="1116000"/>
            <a:ext cx="69577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lobal replacemen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rocess selects a replacement frame from the set of all frames; one process can take a frame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n process execution time can vary grea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reater throughput so more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 replacemen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 selects from only its own set of allocat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sistent per-proces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possibly underutiliz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n-Uniform Memory Ac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95320" y="1080720"/>
            <a:ext cx="716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far all memory accessed eq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ar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U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ed of access to memory v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ystem boards containing CPUs and memory, interconnected over a system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performance comes from allocating memory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PU on which the thread is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difying the scheduler to schedule the thread on the same system board whe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d by Solaris by creat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to track CPU / Memory low latenc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my schedule and p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ossible schedule all threads of a process and allocate all memory for that process within the l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ash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88840" y="1131480"/>
            <a:ext cx="73533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does not hav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, the page-fault rate is ver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to ge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exist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quickly need replaced frame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thinking that it needs to increase the degree of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process added to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ash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rocess is busy swapping pages in an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8880" y="1063800"/>
            <a:ext cx="7177320" cy="45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memo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paration of user logical memory from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part of the program needs to be in memory for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ddress space can therefore be much larger than physical address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address spaces to be shared by several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 more efficient process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ograms running concurr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I/O needed to load or swap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44280" y="163080"/>
            <a:ext cx="6923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ash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2" name="Picture 4" descr="9"/>
          <p:cNvPicPr/>
          <p:nvPr/>
        </p:nvPicPr>
        <p:blipFill>
          <a:blip r:embed="rId1"/>
          <a:stretch/>
        </p:blipFill>
        <p:spPr>
          <a:xfrm>
            <a:off x="1181160" y="1206360"/>
            <a:ext cx="66787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2160" y="189000"/>
            <a:ext cx="71596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 and Thrashing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37800" y="1083960"/>
            <a:ext cx="71010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 demand paging work?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igrates from one locality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ties may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 thrashing occur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of locality &gt; total memory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effects by using local or priority 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7840" y="12492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Locality In A Memory-Reference Patter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1" descr="9_19.pdf"/>
          <p:cNvPicPr/>
          <p:nvPr/>
        </p:nvPicPr>
        <p:blipFill>
          <a:blip r:embed="rId1"/>
          <a:stretch/>
        </p:blipFill>
        <p:spPr>
          <a:xfrm>
            <a:off x="2735280" y="1017720"/>
            <a:ext cx="3770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orking-Set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7560" y="979560"/>
            <a:ext cx="75740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-set window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fixed number of page referen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10,000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orking set of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number of pages referenced in the most recen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aries in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o small will not encompass entire lo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o large will encompass several loc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encompass entir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tal demand fra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ion of lo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ra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m, then sus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 or swap out one of the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641600" y="4546440"/>
            <a:ext cx="670716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9480" y="163080"/>
            <a:ext cx="7742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eping Track of the Working Se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0120" y="1118880"/>
            <a:ext cx="7743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with interval timer + a 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s after every 5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 memory 2 bits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ever a timer interrupts copy and sets the values of all reference bits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of the bits in memory =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 in work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is not completely accur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= 10 bits and interrupt every 1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97040" y="163080"/>
            <a:ext cx="7889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-Fault Frequenc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26640" y="1049400"/>
            <a:ext cx="660420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irect approach than W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fault freque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and use local replacemen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low, process lose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high, process gain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9_21.pdf"/>
          <p:cNvPicPr/>
          <p:nvPr/>
        </p:nvPicPr>
        <p:blipFill>
          <a:blip r:embed="rId1"/>
          <a:stretch/>
        </p:blipFill>
        <p:spPr>
          <a:xfrm>
            <a:off x="1778040" y="2954160"/>
            <a:ext cx="5103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38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orking Sets and Page Fault Ra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6" name="Picture 4" descr="9"/>
          <p:cNvPicPr/>
          <p:nvPr/>
        </p:nvPicPr>
        <p:blipFill>
          <a:blip r:embed="rId1"/>
          <a:stretch/>
        </p:blipFill>
        <p:spPr>
          <a:xfrm>
            <a:off x="1663560" y="2684520"/>
            <a:ext cx="5802480" cy="26445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907920" y="1042920"/>
            <a:ext cx="7194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irect relationship between working set of a process and its page-fault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orking set changes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eaks and valleys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-Mapped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94960" y="1080720"/>
            <a:ext cx="72961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I/O allows file I/O to be treated as routine memory access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pp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k block to a pag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initially read using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ge-sized portion of the file is read from the file system into a physic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equent reads/writes to/from the file are treated as ordinary memory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s and speeds file access by driving file I/O through memory rather th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rit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s several processes to map the same file allowing the pages in memory to be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hen does written data make it to di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and / or at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when the pager scans for dirty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96880" y="138240"/>
            <a:ext cx="74311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emory-Mapped File Technique for all I/O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20880" y="1042560"/>
            <a:ext cx="7696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Ses  uses memory mapped files for standard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an explicitly request memory mapping a file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map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file mapped into process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andard I/O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pen(), read(), write(), clos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mmap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p file into kerne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ill does read() and wri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data to and from kernel space and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fficient memory management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needing separate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W can be used for read/write non-shared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pped files can be  used for shared memory (although again via separate system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pped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" descr="9_22.pdf"/>
          <p:cNvPicPr/>
          <p:nvPr/>
        </p:nvPicPr>
        <p:blipFill>
          <a:blip r:embed="rId1"/>
          <a:stretch/>
        </p:blipFill>
        <p:spPr>
          <a:xfrm>
            <a:off x="2133720" y="1173240"/>
            <a:ext cx="51498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4800" y="1037880"/>
            <a:ext cx="68342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ogical view of how process is store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start at address 0, contiguous addresses until end of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while, physical memory organized in page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U must map logical to phy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can be implemented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pag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103320"/>
            <a:ext cx="76579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hared Memory via Memory-Mapped I/O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" descr="9_23.pdf"/>
          <p:cNvPicPr/>
          <p:nvPr/>
        </p:nvPicPr>
        <p:blipFill>
          <a:blip r:embed="rId1"/>
          <a:stretch/>
        </p:blipFill>
        <p:spPr>
          <a:xfrm>
            <a:off x="1611360" y="1320840"/>
            <a:ext cx="6070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8428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Memory in Windows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5320" y="1131480"/>
            <a:ext cx="7385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reate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mapp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le to be m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establish a view of the mapped file in process’s virtu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producer / 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create shared-memory object using memory mapping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ile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File(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ing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apping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FileMapping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amed shared-memory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ViewOfFi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code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63360" y="16308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ng Kernel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95320" y="1093680"/>
            <a:ext cx="7677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differently from user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allocated from a free-memory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requests memory for structures of varying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kernel memory needs to be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for devic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uddy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7920" y="1042920"/>
            <a:ext cx="785520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memory from fixed-size segment consisting of physically-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llocated us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ower-of-2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requests in units sized as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rounded up to next highest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maller allocation needed than is available, current chunk split into two buddies of next-lower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ntil appropriate sized chunk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ssume 256KB chunk available, kernel requests 21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into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128KB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urther divided into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urther into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32KB each – one used to satisfy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 – quickl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ales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used chunks into larger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 -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3360" y="20124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uddy System Allocato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Picture 1" descr="9_26.pdf"/>
          <p:cNvPicPr/>
          <p:nvPr/>
        </p:nvPicPr>
        <p:blipFill>
          <a:blip r:embed="rId1"/>
          <a:stretch/>
        </p:blipFill>
        <p:spPr>
          <a:xfrm>
            <a:off x="2387520" y="1111320"/>
            <a:ext cx="45896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o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70120" y="1080720"/>
            <a:ext cx="706752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lab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e or more physically 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one or more 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ache for each unique kernel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ache filled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bject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nstantiations of the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ache created, filled with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tructures stored,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lab is full of used objects, next object allocated from empty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empty slabs, new slab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include no fragmentation, fast memory reques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50480" y="16308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Picture 1" descr="9_27.pdf"/>
          <p:cNvPicPr/>
          <p:nvPr/>
        </p:nvPicPr>
        <p:blipFill>
          <a:blip r:embed="rId1"/>
          <a:stretch/>
        </p:blipFill>
        <p:spPr>
          <a:xfrm>
            <a:off x="1994040" y="1182600"/>
            <a:ext cx="51289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or in 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5320" y="1065240"/>
            <a:ext cx="770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process descriptor is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 1.7KB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sk -&gt; allocate new struct from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use existing fre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b can be in three possibl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– all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– all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– mix of free and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request, slab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free struct in partial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ne, takes one from empty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empty slab, create new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or in Linux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69760" y="1103400"/>
            <a:ext cx="7321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b started in Solaris, now wide-spread for both kernel mode and user memory in various 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 2.2 had SLAB, now has both SLOB and SLUB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B for systems with limit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List of Blocks – maintains 3 list objects for small, medium, larg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UB is performance-optimized SLAB removes per-CPU queues, metadata stored in pag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45720" y="189000"/>
            <a:ext cx="7791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Considerations -- Pre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77680" y="1104480"/>
            <a:ext cx="7427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large number of page faults that occurs at process star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e all or some of the pages a process will need, before they are refer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prepaged pages are unused, I/O and memory was w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 are prepaged and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ages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s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*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pages faults &gt; or &lt; than the cost of prepag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* (1-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pag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ze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paging l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802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Virtual Memory That is Larger Than Physical Memory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Picture 5" descr="9"/>
          <p:cNvPicPr/>
          <p:nvPr/>
        </p:nvPicPr>
        <p:blipFill>
          <a:blip r:embed="rId1"/>
          <a:stretch/>
        </p:blipFill>
        <p:spPr>
          <a:xfrm>
            <a:off x="2171880" y="1185840"/>
            <a:ext cx="5360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5680" y="163080"/>
            <a:ext cx="7431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Page Siz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20520" y="1069560"/>
            <a:ext cx="728964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OS designers have a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if running on custom-built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selection must take into consid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s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size and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power of 2, usually in the rang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,096 bytes) to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,194,304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verage, growing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2160" y="17568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TLB Reach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0280" y="1165320"/>
            <a:ext cx="76309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- The amount of memory accessible from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= (TLB Size) X (Page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the working set of each process is stored in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ere is a high degree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lead to an increase in fragmentation as not all applications require a larg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ultiple Pag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applications that require larger page sizes the opportunity to use them without an increase in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8880" y="163080"/>
            <a:ext cx="7605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Progra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8040" y="1104840"/>
            <a:ext cx="754848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128,128]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is stored in one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j = 0; j &lt;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ta[i,j] = 0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x 128 = 16,384 page fault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for (j = 0; j &lt; 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data[i,j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85600" y="15048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I/O interlock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26920" y="1193400"/>
            <a:ext cx="4176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/O Inter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ages must sometimes be locked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I/O - Pages that are used for copying a file from a device must be locked from being selected for eviction by a page replacemen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i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ages to lock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5600880" y="1677960"/>
            <a:ext cx="291456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6240" y="17568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6920" y="14346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82360" y="1017360"/>
            <a:ext cx="729612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emand paging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us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ustering brings in pages surrounding the faulting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assign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king set minimu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minimum is the minimum number of pages the process is guaranteed to hav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may be assigned as many pages up to its 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mount of free memory in the system falls below a threshold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utomatic working set trimm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erformed to restore the amount of fre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trimming removes pages from processes that have pages in excess of their working set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0120" y="1030320"/>
            <a:ext cx="73339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free pages to assign faul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t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(amount of free memory) to begin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increasing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in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being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is perform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ns pages using modified clock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rate at which pages are scanned. This rang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low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ast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alled more frequently depending upon the amount of free memor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ority pag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priority to process cod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2 Page Scann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Picture 1" descr="9_29.pdf"/>
          <p:cNvPicPr/>
          <p:nvPr/>
        </p:nvPicPr>
        <p:blipFill>
          <a:blip r:embed="rId1"/>
          <a:stretch/>
        </p:blipFill>
        <p:spPr>
          <a:xfrm>
            <a:off x="1854360" y="1189080"/>
            <a:ext cx="54543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9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42480" y="175680"/>
            <a:ext cx="7743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-address Sp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816520" y="1274760"/>
            <a:ext cx="2063880" cy="4568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811080" y="1119240"/>
            <a:ext cx="43704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design logical address space for stack to start at Max logical address and grow “down” while heap grows “up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ximizes address space u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Unused address space between the two is h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550880" indent="-3254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o physical memory needed until heap or stack grows to a given new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par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spaces with holes left for growth, dynamically linked libraries, et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libraries shared via mapping into virtual address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memory by mapping pages read-write into virtual address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can be shared dur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speeding process cre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92120" y="189000"/>
            <a:ext cx="7561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Library Using Virtual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574640" y="1255680"/>
            <a:ext cx="629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10T17:57:57Z</cp:lastPrinted>
  <dcterms:modified xsi:type="dcterms:W3CDTF">2013-10-02T16:20:14Z</dcterms:modified>
  <cp:revision>198</cp:revision>
  <dc:subject/>
  <dc:title>2.01</dc:title>
</cp:coreProperties>
</file>