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56093F-E62E-4036-81F5-AAC6F647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942F30-72ED-4E49-B7A4-8EDA40BED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ABB7DE-A1A1-482C-AA84-548B239A8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6C7B46-72EA-48C2-8AE6-2FBFB7AD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0D11DA-AA7C-4473-894B-0B037A4E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61A02D-8B7C-42C1-9747-C66D25DD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F8AA76-34B1-4544-A1E9-11238867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E861D8-E308-429F-86EB-CE6E51EC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70D787-5596-4F14-8B51-A874997E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6438FA-59F6-4EB6-8D49-DB951676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42C47A-7141-4556-9CCD-5A9EBE33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EDE318-E70B-4FF6-ACBC-2C78CA01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8FB576-E32B-4404-92F1-76428F28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1AA7EB-98E0-4477-B6A9-142D597D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7C1BD4-2E72-4784-BFA9-A57B5A35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29443B-5745-4223-850C-BF2AFB941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7FB8AC-5678-44DC-921E-06CA19346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60256A-75C2-4B65-9B9D-F0F568C6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1F3F76-0672-424E-8F5D-68C7ECE3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FB0C22-E3A1-4857-91CF-0A7B46F8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A55426-E40A-4BE3-8474-EEA31F8D6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FB00CD-CE23-4D59-9F9B-AC164791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926ADC-1FCE-4986-8BA4-8177F51C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F2E422-991A-476A-9FBB-8AAC9E07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7F5DEC-F9B5-4F6C-8DF5-5F08CEAA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42400B-B042-4736-9BF2-DB1930620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A8C041-8EA3-4308-BCFC-4ACECD04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5C089F-5A40-4CCD-9567-7493245FE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6E3B12-9EC5-4A80-819F-7DEE2F79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536D01-93A8-4800-8F7F-4E6E53BA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CC10CC-8776-482C-86BB-B4AD9AA9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540CD0-E49B-4CCA-9C7F-760E3558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8CB984-907D-42AE-8174-6AF61B968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D51250-29D1-4716-B7C2-778481C68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F261B4-E1F9-4758-960E-200204A2B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84D80B-1415-41B4-A04E-F1658538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50055F-97FC-48A3-BAAC-FD1C97FFD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0A8C8E-1921-4430-A55F-2C82FC677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B4B95A-7CDE-48F7-AF2A-7B8F829A1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1FBB70-2AD6-465F-8276-0ED696F6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E306B8-0880-476C-82E0-DBFCB113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0D3189-B50E-46DD-B904-EEBEB8A8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242C35-D8BA-4B76-BA34-F38D00F8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23D4A8-A8C7-4349-97A3-B93E9DE0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BBA138-D5C0-498A-8A58-747780D1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354E9B-BDBD-4848-B124-3487D3A2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C5510C-0977-47C9-AF12-B620E280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965819-5CB3-4E85-A74C-2C851E97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88CCA7-D294-40BB-8959-E006D396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2.</a:t>
            </a:r>
            <a:fld id="{211D7A3C-A33B-4BC1-95B6-4580E8639A27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2:  File System Implementa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70120" y="107604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fi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C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many details ab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, permissions, size,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TS stores into in master file table  using relational DB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28760" y="3110040"/>
            <a:ext cx="35100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5440" y="182160"/>
            <a:ext cx="7762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table storing file system mounts, mount points, file 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the necessary file system structures provided by the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a) refers to opening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b) refers to reading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buffers hold data blocks from secondary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returns a file handle for subsequ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read eventually copied to specified user process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1080" y="19800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446120" y="1276200"/>
            <a:ext cx="61232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rtitions and Moun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85600" y="1108080"/>
            <a:ext cx="74228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can be a volume containing a file system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st a sequence of blocks with no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 block can point to boot volume or boot loader set of blocks that contain enough code to know how to load the kernel from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boot management program for multi-os b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ot part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e OS, other partitions can hold other Oses, other file systems, or be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ed at boo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artitions can mount automatically or 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unt time, file system consistency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ll metadata corr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fix it,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to mount table, allo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5320" y="182160"/>
            <a:ext cx="674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153800"/>
            <a:ext cx="717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File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Unix provide an object-oriented way of implementing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allows the same system call interface (the API) to be used for different types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file-system generic operations from implementation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an be one of many file systems types, or network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hold inodes or network fil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ispatches operation to appropriate file system implementation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5320" y="182160"/>
            <a:ext cx="674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69760" y="901800"/>
            <a:ext cx="70434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I is to the VFS interface, rather than any specific type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176560" y="2211480"/>
            <a:ext cx="44924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5080" y="182160"/>
            <a:ext cx="7745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70120" y="1153800"/>
            <a:ext cx="75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Linux has four objec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, file, superblock, d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defines set of operations on the objects that must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bject has a pointer to a func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able has addresses of routines to implement that function on tha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pen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Ope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ose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Close an already-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size t read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Read from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size t write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rite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map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Memory-map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19800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9760" y="1153800"/>
            <a:ext cx="70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keep ordered alphabetically via linked list or use B+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good if entries are fixed size, or use chained-overflow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4440" y="198000"/>
            <a:ext cx="773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Contiguo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7640" y="1233360"/>
            <a:ext cx="707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iguous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set of contigu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erformance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 finding space for file, knowing file size, external fragmentation, need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mpaction off-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wn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304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38448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2655720" y="2129040"/>
            <a:ext cx="1917720" cy="1382400"/>
            <a:chOff x="2655720" y="2129040"/>
            <a:chExt cx="1917720" cy="1382400"/>
          </a:xfrm>
        </p:grpSpPr>
        <p:sp>
          <p:nvSpPr>
            <p:cNvPr id="141" name="Text Box 4"/>
            <p:cNvSpPr/>
            <p:nvPr/>
          </p:nvSpPr>
          <p:spPr>
            <a:xfrm>
              <a:off x="2655720" y="2586240"/>
              <a:ext cx="126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3768480" y="2129040"/>
              <a:ext cx="8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3825720" y="3145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 flipV="1">
              <a:off x="3675240" y="2436840"/>
              <a:ext cx="3092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3711600" y="2954520"/>
              <a:ext cx="272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6" name="Rectangle 10"/>
          <p:cNvSpPr/>
          <p:nvPr/>
        </p:nvSpPr>
        <p:spPr>
          <a:xfrm>
            <a:off x="635040" y="3740040"/>
            <a:ext cx="40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975200" y="1623960"/>
            <a:ext cx="3576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7320" y="213840"/>
            <a:ext cx="804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2: 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AF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42480" y="19800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tent-Based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85600" y="1233360"/>
            <a:ext cx="696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er file systems (i.e., Veritas File System) use a modified contiguous alloc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-based file systems allocate disk blocks i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ntiguous block of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s are allocated for fil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consists of one or more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Link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1060200"/>
            <a:ext cx="726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ed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file a linked list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ends at ni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contains pointer to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action,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management system called when new bloc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efficiency by clustering blocks into groups but increases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can b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ng a block can take many I/Os and disk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– Linke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06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(File Allocation Table)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volume has table, indexed by block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a linked list, but faster on disk and cache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lock alloc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277920"/>
            <a:ext cx="801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5772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is a linked list of disk blocks: blocks may be scattered anywher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2679480" y="1843200"/>
            <a:ext cx="2759400" cy="1500120"/>
            <a:chOff x="2679480" y="1843200"/>
            <a:chExt cx="2759400" cy="1500120"/>
          </a:xfrm>
        </p:grpSpPr>
        <p:sp>
          <p:nvSpPr>
            <p:cNvPr id="157" name="Rectangle 5"/>
            <p:cNvSpPr/>
            <p:nvPr/>
          </p:nvSpPr>
          <p:spPr>
            <a:xfrm>
              <a:off x="3938760" y="1843200"/>
              <a:ext cx="1500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3938760" y="2274840"/>
              <a:ext cx="1500120" cy="10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2679480" y="18756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     =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Rectangle 3"/>
          <p:cNvSpPr/>
          <p:nvPr/>
        </p:nvSpPr>
        <p:spPr>
          <a:xfrm>
            <a:off x="806400" y="3110040"/>
            <a:ext cx="73706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5800" y="4933800"/>
            <a:ext cx="78375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lock to be accessed is the Qth block in the linked chain of blocks representing the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isplacement into block = R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3228480" y="3937320"/>
            <a:ext cx="1376640" cy="982080"/>
            <a:chOff x="3228480" y="3937320"/>
            <a:chExt cx="1376640" cy="982080"/>
          </a:xfrm>
        </p:grpSpPr>
        <p:sp>
          <p:nvSpPr>
            <p:cNvPr id="163" name="Text Box 5"/>
            <p:cNvSpPr/>
            <p:nvPr/>
          </p:nvSpPr>
          <p:spPr>
            <a:xfrm>
              <a:off x="3228480" y="425304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4243320" y="3937320"/>
              <a:ext cx="36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44040" y="455328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 flipV="1">
              <a:off x="4049640" y="4178160"/>
              <a:ext cx="2588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4057560" y="4489560"/>
              <a:ext cx="2588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1384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576520" y="1308240"/>
            <a:ext cx="4543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8640" y="21384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870200" y="1233360"/>
            <a:ext cx="54813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Index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its ow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of pointers to its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195720" y="2843280"/>
            <a:ext cx="2286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4" descr="11"/>
          <p:cNvPicPr/>
          <p:nvPr/>
        </p:nvPicPr>
        <p:blipFill>
          <a:blip r:embed="rId1"/>
          <a:stretch/>
        </p:blipFill>
        <p:spPr>
          <a:xfrm>
            <a:off x="2224080" y="1230480"/>
            <a:ext cx="4967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8000" y="18216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370640" cy="32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ccess without external fragmentation, but have overhead of 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maximum size of 256K bytes and block size of 512 bytes.  We need only 1 block for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2988360" y="3695760"/>
            <a:ext cx="1377000" cy="982080"/>
            <a:chOff x="2988360" y="3695760"/>
            <a:chExt cx="1377000" cy="982080"/>
          </a:xfrm>
        </p:grpSpPr>
        <p:sp>
          <p:nvSpPr>
            <p:cNvPr id="180" name="Text Box 4"/>
            <p:cNvSpPr/>
            <p:nvPr/>
          </p:nvSpPr>
          <p:spPr>
            <a:xfrm>
              <a:off x="2988360" y="401184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03560" y="3695760"/>
              <a:ext cx="36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004280" y="431172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V="1">
              <a:off x="3809880" y="3936960"/>
              <a:ext cx="2584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3817800" y="4248000"/>
              <a:ext cx="2584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Rectangle 9"/>
          <p:cNvSpPr/>
          <p:nvPr/>
        </p:nvSpPr>
        <p:spPr>
          <a:xfrm>
            <a:off x="1457280" y="4960800"/>
            <a:ext cx="70293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25440" indent="-32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displacement into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440" indent="-32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displacement into bl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2720" y="27792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632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unbounded length (block size of 512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scheme – Link blocks of index table (no limit on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"/>
          <p:cNvGrpSpPr/>
          <p:nvPr/>
        </p:nvGrpSpPr>
        <p:grpSpPr>
          <a:xfrm>
            <a:off x="3227040" y="2750400"/>
            <a:ext cx="2364840" cy="882000"/>
            <a:chOff x="3227040" y="2750400"/>
            <a:chExt cx="2364840" cy="882000"/>
          </a:xfrm>
        </p:grpSpPr>
        <p:sp>
          <p:nvSpPr>
            <p:cNvPr id="189" name="Text Box 4"/>
            <p:cNvSpPr/>
            <p:nvPr/>
          </p:nvSpPr>
          <p:spPr>
            <a:xfrm>
              <a:off x="3227040" y="3019320"/>
              <a:ext cx="1626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/ (512 x 511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5185800" y="275040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5184720" y="32637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4791240" y="295740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4783320" y="319896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99216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=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s us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3671280" y="4101840"/>
            <a:ext cx="1625400" cy="882360"/>
            <a:chOff x="3671280" y="4101840"/>
            <a:chExt cx="1625400" cy="882360"/>
          </a:xfrm>
        </p:grpSpPr>
        <p:sp>
          <p:nvSpPr>
            <p:cNvPr id="196" name="Text Box 10"/>
            <p:cNvSpPr/>
            <p:nvPr/>
          </p:nvSpPr>
          <p:spPr>
            <a:xfrm>
              <a:off x="3671280" y="4368600"/>
              <a:ext cx="90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/ 51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4890600" y="410184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4889520" y="46155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V="1">
              <a:off x="4495680" y="4308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4487760" y="454968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Rectangle 15"/>
          <p:cNvSpPr/>
          <p:nvPr/>
        </p:nvSpPr>
        <p:spPr>
          <a:xfrm>
            <a:off x="99216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32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details of implementing local file systems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mplementation of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block allocation and free-block algorithms and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54000" y="277920"/>
            <a:ext cx="7732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index (4K blocks could store 1,024 four-byte pointers in outer index -&gt; 1,048,567 data blocks and file size of up to 4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"/>
          <p:cNvGrpSpPr/>
          <p:nvPr/>
        </p:nvGrpSpPr>
        <p:grpSpPr>
          <a:xfrm>
            <a:off x="3298320" y="2087280"/>
            <a:ext cx="2365200" cy="882360"/>
            <a:chOff x="3298320" y="2087280"/>
            <a:chExt cx="2365200" cy="882360"/>
          </a:xfrm>
        </p:grpSpPr>
        <p:sp>
          <p:nvSpPr>
            <p:cNvPr id="205" name="Text Box 4"/>
            <p:cNvSpPr/>
            <p:nvPr/>
          </p:nvSpPr>
          <p:spPr>
            <a:xfrm>
              <a:off x="3298320" y="2356200"/>
              <a:ext cx="1626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/ (512 x 512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5257440" y="208728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Text Box 6"/>
            <p:cNvSpPr/>
            <p:nvPr/>
          </p:nvSpPr>
          <p:spPr>
            <a:xfrm>
              <a:off x="5256360" y="260100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 flipV="1">
              <a:off x="4862520" y="229356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4854600" y="2535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841320" y="341964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= displacement into outer-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is us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3671280" y="4101840"/>
            <a:ext cx="1625400" cy="882360"/>
            <a:chOff x="3671280" y="4101840"/>
            <a:chExt cx="1625400" cy="882360"/>
          </a:xfrm>
        </p:grpSpPr>
        <p:sp>
          <p:nvSpPr>
            <p:cNvPr id="212" name="Text Box 10"/>
            <p:cNvSpPr/>
            <p:nvPr/>
          </p:nvSpPr>
          <p:spPr>
            <a:xfrm>
              <a:off x="3671280" y="4368600"/>
              <a:ext cx="90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/ 51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4890600" y="410184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4889520" y="46155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V="1">
              <a:off x="4495680" y="4308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4487760" y="454968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Rectangle 15"/>
          <p:cNvSpPr/>
          <p:nvPr/>
        </p:nvSpPr>
        <p:spPr>
          <a:xfrm>
            <a:off x="84132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277920"/>
            <a:ext cx="7657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979560" y="1312920"/>
            <a:ext cx="698004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9960" y="23004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bined Scheme:  UNIX UFS </a:t>
            </a:r>
            <a:br>
              <a:rPr sz="2800"/>
            </a:b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336760" y="1684440"/>
            <a:ext cx="5175360" cy="3887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819000" y="5788080"/>
            <a:ext cx="793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index blocks than can be addressed with 32-bit file 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811080" y="1111320"/>
            <a:ext cx="75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K bytes per block, 32-bit addr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70120" y="113796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method depends on file acces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great for sequential and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good for sequential, not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ccess type at creation -&gt; select either contiguous or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lock access could require 2 index block reads then data block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can help improve throughput, reduce CPU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137960"/>
            <a:ext cx="747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instructions to the execution path to save one disk I/O is reas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Core i7 Extreme Edition 990x (2011) at 3.46Ghz = 159,000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Instructions_per_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disk drive at 250 I/O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,000 MIPS / 250 = 630 million instructions during one disk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SD drives provide 60,000 I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,000 MIPS / 60,000 = 2.65 millions instructions during one dis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8480" y="198000"/>
            <a:ext cx="7527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9000" y="1239480"/>
            <a:ext cx="820440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maintai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ee-space 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ack available blocks/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term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impli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it v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it m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"/>
          <p:cNvGrpSpPr/>
          <p:nvPr/>
        </p:nvGrpSpPr>
        <p:grpSpPr>
          <a:xfrm>
            <a:off x="2632680" y="2447280"/>
            <a:ext cx="3874320" cy="1847880"/>
            <a:chOff x="2632680" y="2447280"/>
            <a:chExt cx="3874320" cy="1847880"/>
          </a:xfrm>
        </p:grpSpPr>
        <p:sp>
          <p:nvSpPr>
            <p:cNvPr id="231" name="Rectangle 4"/>
            <p:cNvSpPr/>
            <p:nvPr/>
          </p:nvSpPr>
          <p:spPr>
            <a:xfrm>
              <a:off x="286380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319248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352116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384948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417816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450684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4869000" y="2857320"/>
              <a:ext cx="12189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608832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288720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319176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364896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5980680" y="2447280"/>
              <a:ext cx="52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2632680" y="3710880"/>
              <a:ext cx="81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 rot="16200000">
              <a:off x="3235320" y="3713400"/>
              <a:ext cx="46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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3759480" y="3511800"/>
              <a:ext cx="2384280" cy="7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lock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fre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lock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occupie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Rectangle 19"/>
          <p:cNvSpPr/>
          <p:nvPr/>
        </p:nvSpPr>
        <p:spPr>
          <a:xfrm>
            <a:off x="1136520" y="4427640"/>
            <a:ext cx="702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umber calc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829240" y="4960800"/>
            <a:ext cx="304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bits per word) 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of first 1 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1289160" y="5832360"/>
            <a:ext cx="7029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have instructions to return offset within word of firs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95200" y="213840"/>
            <a:ext cx="749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69760" y="1169640"/>
            <a:ext cx="685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 requires extra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= 4KB = 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(1 tera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r 32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lusters of 4 blocks -&gt; 8MB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get contiguous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2880" y="182160"/>
            <a:ext cx="778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Free Space List on Dis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2" name="Picture 4" descr="11"/>
          <p:cNvPicPr/>
          <p:nvPr/>
        </p:nvPicPr>
        <p:blipFill>
          <a:blip r:embed="rId1"/>
          <a:stretch/>
        </p:blipFill>
        <p:spPr>
          <a:xfrm>
            <a:off x="4646520" y="1432080"/>
            <a:ext cx="3586320" cy="420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838080" y="1028880"/>
            <a:ext cx="37306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(free li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not get contiguous space eas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 need to traverse the entire list (if # free blocks record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06400" y="1233360"/>
            <a:ext cx="7423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linked list to store address of nex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blocks in first free block, plus a pointer to next block that contains free-block-pointers (like this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space is frequently contiguously used and freed,  with contiguous-allocation allocation, extents, or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ddress of first free block and count of following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list then has entries containing addresses and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03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8080" y="1107720"/>
            <a:ext cx="7896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eta-data I/O on very larg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data structures like bit maps could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fit in memory -&gt; thousands of I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device space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asla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s and manages meta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volume can contain hundreds of meta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etaslab has associated spa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unt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ecords to log file rather tha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of all block activity, in time order, in count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lab activity -&gt; load space map into memory in balanced-tree structure, indexed  by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log into tha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contiguous free blocks into singl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3920" y="110772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user interface to storage, mapping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fficient and convenient access to disk by allowing data to be stored, located retriev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provides in-place rewrite and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transfers perform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ually 51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physical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1120" y="16632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iciency and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92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dependent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ion or as-needed allocation of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-size or varying-size data stru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5960" y="18216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iciency and Performanc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6400" y="807840"/>
            <a:ext cx="7359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data and metadata close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 ca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parate section of main memory for frequently us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sometimes requested by apps or nee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ffering / caching – writes must hit disk before 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more common, buffer-able,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ee-behi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-a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echniques to optimize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frequently slower than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85600" y="1233360"/>
            <a:ext cx="7675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pages rather than disk blocks using virtual memory techniques and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I/O uses a pag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/O through the file system uses the buffer (disk)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following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7040" y="213840"/>
            <a:ext cx="7576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Without a 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2365200" y="1219320"/>
            <a:ext cx="49356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6240" y="21384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1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nified buffer ca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the same page cache to cache both memory-mapped pages and ordinary file system I/O to 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hich caches get priority, and what replacement algorithms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77920"/>
            <a:ext cx="76741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Using a 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1924200" y="1227240"/>
            <a:ext cx="55911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77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sistency check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ares data in directory structure with data blocks on disk, and tries to fix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low and sometimes f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disk to another storage device (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7920" y="22968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56800" y="1058400"/>
            <a:ext cx="7356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urna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le systems record each metadata update to the file system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committed once it is written to the log (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to a separate device or section of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file system may not yet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structures are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covery from crash, removes chance of inconsistency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58640" y="19800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Sun Network File System (NFS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77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and a specification of a software system for accessing remote files across LANs (or WAN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is part of the Solaris and SunOS operating systems running on Sun workstations using an unreliable datagram protocol (UDP/IP protocol and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4960" y="21384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8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ed workstations viewed as a set of independent machines with independent file systems, which allows sharing among these file systems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directory is mounted over a local file system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ed directory looks like an integral subtree of the local file system, replacing the subtree descending from the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the remote directory for the mount operation is nontransparent; the host name of the remote directory has to b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n the remote directory can then be accessed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access-rights accreditation, potentially any file system (or directory within a file system), can be mounted remotely on top of any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252960" y="1203480"/>
            <a:ext cx="247644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407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is designed to operate in a heterogeneous environment of different machines, operating systems, and network architectures; the NFS specifications independent of thes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dependence is achieved through the use of RPC primitives built on top of an External Data Representation (XDR) protocol used between two implementation-independent inter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specification distinguishes between the services provided by a mount mechanism and the actual remote-file-access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46080" y="2138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 Independent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768" t="16484" r="794" b="16848"/>
          <a:stretch/>
        </p:blipFill>
        <p:spPr>
          <a:xfrm>
            <a:off x="1355760" y="1347840"/>
            <a:ext cx="70768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5048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unting in NF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801880" y="5311800"/>
            <a:ext cx="101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18640" y="5295960"/>
            <a:ext cx="2294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2206800" y="1306440"/>
            <a:ext cx="4886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2720" y="1821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Mount Protoc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40960" y="1090080"/>
            <a:ext cx="73407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logical connection between server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operation includes name of remote directory to be mounted and name of server machine stor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request is mapped to corresponding RPC and forwarded to mount server running on server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list – specifies local file systems that server exports for mounting, along with names of machines that are permitted to mount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 mount request that conforms to its export list, the server returns a file handle—a key for further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handle – a file-system identifier, and an inode number to identify the mounted directory within the expor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 operation changes only the us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view and does not affect the serv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Protoc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53560" y="1137960"/>
            <a:ext cx="728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set of remote procedure calls for remote file operations.  The procedures support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ing for a file within a direc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 set of directory e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inks and dir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fil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er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ach request has to provide a full set of arguments  (NFS V4 is just coming available – very different, statef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data must be committed to the serv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isk before results are returned to the client (lose advantages of c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protocol does not provide concurrency-contro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9120" y="311040"/>
            <a:ext cx="8047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 Major Layers of NFS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359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-system interface (based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, read,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File System (VFS) layer – distinguishes local files from remote ones, and local files are further distinguished according to their file-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FS activates file-system-specific operations to handle local requests according to their file-system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he NFS protocol procedures for remote requ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ice layer – bottom layer of th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NF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6480" y="19800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matic View of NFS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1608120" y="1170000"/>
            <a:ext cx="6004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1760" y="182160"/>
            <a:ext cx="7655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Path-Name Trans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61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by breaking the path into component names and performing a separate NFS lookup call for every pair of component name and directory vn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ookup faster, a directory name lookup cache on the cli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ide holds the vnodes for remote director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0080" y="198000"/>
            <a:ext cx="759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Remot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2658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one-to-one correspondence between regular UNIX  system calls and the NFS protocol RPCs (except opening and closin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adheres to the remote-service paradigm, but employs buffering and caching techniques for the sake of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blocks cache – when a file is opened, the kernel checks with the remote server whether to fetch or revalidate the cach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file blocks are used only if the corresponding cached attributes are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ttribute cache – the attribute cache is updated whenever new attributes arrive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do not free delayed-write blocks until the server confirms that the data have been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4000" y="182160"/>
            <a:ext cx="773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WAFL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122120"/>
            <a:ext cx="709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Network Applianc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istributed file system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anywhere file layou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s up NFS, CIFS, http,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I/O optimized, writ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RAM for writ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Berkeley Fast File System, with extensive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108080"/>
            <a:ext cx="74707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I/O devices at the I/O contro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s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drive1, cylinder 72, track 2, sector 10, into memory location 106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 low-level hardware specific commands to hardwar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ic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block 12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es to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nages memory buffers and caches (allocation, freeing, replac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hold data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hold frequently us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organization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files, logical address, and physica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logical block # to physical block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free space, disk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31440" y="198000"/>
            <a:ext cx="8055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WAFL File Layou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1" name="Picture 4" descr="11"/>
          <p:cNvPicPr/>
          <p:nvPr/>
        </p:nvPicPr>
        <p:blipFill>
          <a:blip r:embed="rId1"/>
          <a:stretch/>
        </p:blipFill>
        <p:spPr>
          <a:xfrm>
            <a:off x="1198440" y="1222200"/>
            <a:ext cx="7147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015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napshots in WAF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2743200" y="1109520"/>
            <a:ext cx="350028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2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53560" y="1122480"/>
            <a:ext cx="70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etadata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 useful for reducing complexity and redundancy, but adds overhead and can decrease performance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layers can be implemented by any coding method according to OS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060560"/>
            <a:ext cx="687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file systems, sometimes many within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th its own format (CD-ROM is ISO 9660; Unix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FS;  Windows has FAT, FAT32, NTFS as well as floppy, CD, DVD Blu-ray, Linux has more than 40 types,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ded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 and ext3 leading; plus distributed file system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nes still arriving – ZFS, GoogleFS, Oracle ASM, 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70120" y="1076040"/>
            <a:ext cx="720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ystem calls at the API level, but how do we implement their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disk and in-mem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 needed by system to boot OS from tha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if volume contains OS, usually first block of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control blo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uperblock, master file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volum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locks, # of free blocks, block size, free block pointers o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tructure organizes th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and inode numbers, master fi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Silberschatz, Avi</cp:lastModifiedBy>
  <cp:lastPrinted>2013-09-10T17:57:57Z</cp:lastPrinted>
  <dcterms:modified xsi:type="dcterms:W3CDTF">2013-10-02T16:13:02Z</dcterms:modified>
  <cp:revision>197</cp:revision>
  <dc:subject/>
  <dc:title>2.01</dc:title>
</cp:coreProperties>
</file>