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1FF93-1C25-40D7-A5F1-392477633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5E7B2-7F4C-413F-ADAB-05BF2C503A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7C830-8A4D-455F-A30D-9586B8E75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C92A2-2DD4-479E-A0A7-CC0F7016F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D105B-11DE-43B7-8252-92EB93BDE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18D7F-6866-4814-9E49-56744F547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D3EF0-041B-4265-B0F7-A621A8260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A81C1-3BE5-4F78-BA4A-C366B2DFD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9CADC-155C-4212-B802-BDE3C9632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48E6F-23C5-48C2-8C61-F867EB43D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D116F-5930-4305-9DBC-101549AEA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D90DF-C0AF-454C-B362-76EBF2D86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50A4F-725A-4B05-A430-A2922110C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7197B-A142-4968-B720-8A7FE3301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AAD55-267B-4052-A2EF-6ACE33D56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33FAB-F50C-4381-B279-C203E4880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9787C-470B-45A6-8F14-AC73EE773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07564-EC37-47B2-8BB2-BC10F5E2C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17DD4-45E2-4F8D-A570-64B01B4BD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39092-F3CE-4C41-8D47-73986C71C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D572B-882B-45ED-ABCB-85105835E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5DBDE-4151-4EA6-A241-FCF10F356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5EB64-AF71-47F9-A5DC-346C35E32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3E172-E976-49AB-A479-0B7ED8922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47777-CB38-4C4A-8166-5190EFC89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A27CB-8767-4366-AE04-5395650A3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7569D-BC46-4888-BC10-2B989F22E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BB67F-332B-4EA4-B011-7D93B2381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29D93-DDC9-4D7B-98FD-2B34C2613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27E5F-03D3-4B1C-B0BE-1397E3904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9E473-5044-4CBC-B920-3AA712FB3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694C2-DBEC-4668-87AE-56C7D0BC2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E78A4-6049-4432-8053-FE43892D4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84DB8-6E16-449D-9F8C-6CD84F59C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B7496-3A5B-42A2-A132-A64556C45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74FF6-3380-432D-9537-FB27B0F7B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32234-3603-48B7-9860-00DA126C9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878F4-2CCD-40CC-AC47-AFB312905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C6456-901C-43ED-91C0-9447F02D0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D9325-6AD9-4CA3-B73B-5EABDA944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C1F3D-E9BD-4CC8-B3CF-37F75636E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4E940-0934-4A4D-AE9A-0533030CF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3B301-55DC-4005-AF48-37899C2ED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DCC3B-0584-4091-9ED5-41351EB04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85400-04AC-471B-8513-2975BF1DD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D46AA-D9CA-45B5-9684-684439186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A6E0A-EF51-4B7C-81AE-A47AF3AC4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C5974-9823-4DB1-B7BD-E2FF07CDE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6914B-3B32-4014-81A2-BEE541D3C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F5C75-D5B5-42ED-8F0B-98471B5B3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CAF29-80AB-4B1C-8BF8-D4AB8801C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C8714-14B1-4142-98D1-BADB9EB76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0FB2C-1B74-4A0E-9F97-BCBE10F98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4C40D-0542-42C3-8E4E-B4AF72758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C9613-A979-49E8-8D71-08D5D6206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8D452-73D4-4EFF-B5C9-EBD5DD2B7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2512D-DF01-4EC9-AB3A-3944C44AF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BFE39-777B-458D-BD22-00B396C46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B89A0-71C3-4A25-B4B9-902F0CA47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C4FE-7799-4D2C-8899-D838C5814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1A7CF-5373-4963-99BD-E844023D8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A7C13-030A-4E00-AE3F-392393A5D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B55E4-1C43-49A0-9D1B-F9B6B280B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D8AE8-894E-4DCB-8232-0F464AD10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CDDF4-BD08-4EBD-8DEB-FA93C9295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64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a.</a:t>
            </a:r>
            <a:fld id="{FE5DAADC-10EF-47F1-8327-D48E66CC80CB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0484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6080" y="6613560"/>
            <a:ext cx="25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1652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Appendix A: FreeBSD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4960" y="277920"/>
            <a:ext cx="7791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Manipu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53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quence of bytes; the kernel does not impose a structure o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organized in tree-structu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files that contain information on how to find oth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dentifies a file by specifying a path through the directory structure to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path names start at root of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 names start at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for basic file manipulation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, open, read, write, close, unlink, tru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22400" y="277920"/>
            <a:ext cx="7664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UNIX Directory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2627280" y="1060560"/>
            <a:ext cx="36860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2160" y="277920"/>
            <a:ext cx="7694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5852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is a program in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identified by their process identifier, an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a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after a fork to replace on of the two processes’s virtual memory space with a new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terminates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ma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child process to terminate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 process id of a terminated child so that the parent can tell which child ter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he parent to collect performance statistics about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mb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results when the parent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u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ild process exits before the terminated chi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76240" y="27792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llustration of Process Control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36560" y="1620720"/>
            <a:ext cx="775332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ommunicate via pipes; queues of bytes between two processes that are accessed by a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user processes are descendants of one original proce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k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: initializes terminal line parameters and passes the us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the numer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ocess to that of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forks subprocesses for user comm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6345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 sets the effective user identifier of the process to the user identifier of the owner of the file, and leav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 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it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allows certain processes to have more than ordinary privileges while still being executable by ordinar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gna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236600"/>
            <a:ext cx="768672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y for handling exceptional conditions similar to software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al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used to stop a command before that command completes (usually produced by ^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use has expanded beyond dealing with exceptional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subprocesses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WI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orms a process that the window in which output is being displayed has change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urgent data from network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Group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related processes that cooperate to accomplish a common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process group may use a terminal device for I/O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ground job has the attention of the user on the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jobs – nonattached jobs that perform their function without us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the terminal is controlled by process group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Group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2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job inherits a controlling terminal from its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cess group of the controlling terminal matches the group of a process, that process is in the fore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background process that attempts to perform I/O; if the user foregrounds that process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at the process can now perform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foregroun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4640" y="277920"/>
            <a:ext cx="7742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formation Manipu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o set and return an interval time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itmer/setit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set and return the current ti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timeofday/settimeof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ask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process identifi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group identifier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of the machine on which they are executing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ho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1520" y="277920"/>
            <a:ext cx="76849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dule A:  The FreeBSD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brary Routin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85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-call interface to UNIX is supported and augmented by a large collection of library routin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files provide the definition of complex data structures used in system cal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library support is provided for mathematical functions, network access, data convers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r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26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s and users mainly deal with already existing systems programs: the needed system calls are embedded within the program and do not need to be obvious to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systems programs are file or directory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kdir, rmdir, cd, p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s, cp, mv, 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grams relate to edito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acs, 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ext formatte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off, T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nd other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720" y="27792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ells and Comman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he user process which executes programs (also called command interpr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a shell, because it surrounds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indicates its readiness to accept another command by typing a prompt, and the user types a command on a singl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command is an executable binary objec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travels throug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rch 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d the command file, which is then loaded and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i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lmost always in the sear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6480" y="277920"/>
            <a:ext cx="7510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ells and Command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search path on a BSD system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/home/prof/avi/bin /usr/local/bin /usr/ucb/bin 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usually suspends its own execution until the command comp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ndard I/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cesses expect three file descriptors to be open when they st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read what the use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send output to user’s sc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rr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grams can also accept a file (rather than a terminal) for standard input and standar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on shells have a simple syntax for changing what files are open for the standard I/O streams of a process — I/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0240" y="277920"/>
            <a:ext cx="7666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ndard I/O Redir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982800" y="1336680"/>
            <a:ext cx="75358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6320" y="277920"/>
            <a:ext cx="7440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ipelines, Filters, and Shell Scri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35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alesce individual commands via a vertical bar that tells the shell to pass the previous command’s output as input to the following comm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ls | pr | l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– a command such as pr that passes its standard input to its standard output, performing some processing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new shell with a different syntax and semantics would change the user view, but not change the kernel or programm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Window System is a widely accepted iconic interface for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4400" y="277920"/>
            <a:ext cx="7412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on of processes is a major design problem for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is distinct from other systems in that multiple processes can be created and manipulated with 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processes are represented in UNIX by various contro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blocks associated with a process are stored in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in these control blocks is used by the kernel for process control and 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08080" y="277920"/>
            <a:ext cx="7578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B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236240"/>
            <a:ext cx="75088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basic data structure associated with processes i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process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information (e.g.,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s to other control b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user process is divided into text (program code), data, and stack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with sharable text has a pointer form its process structure to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residen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how many processes are using the text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were the page table for the text segment can be found on disk when it is sw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7920" y="277920"/>
            <a:ext cx="7508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Data Seg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rdinary work is don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system calls are performed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and user phases of a process never execut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ather than the user stack) is used for a process  executing in 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stack and the user structure together compos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gment for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X His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7080" y="1285920"/>
            <a:ext cx="75103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veloped in 1969 by Ken Thompson and Dennis Ritchie of the Research Group at Bell Laboratories; incorporated features of other operating systems, especially MUL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ersion was written in C, which was developed at Bell Labs specifically to support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nfluential of the non-Bell Labs and non-AT&amp;T UNIX development groups — University of California at Berkeley (Berkeley Software Distributions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SD UNIX resulted from DARPA funding to develop a standard UNIX system for government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for the VAX, 4.3BSD is one of the most influential versions, and has been ported to many other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tandardization projects seek to consolidate the variant flavors of UNIX leading to one programming interface to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8800" y="204480"/>
            <a:ext cx="779148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Finding parts of a process using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rocess structure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901800" y="1227240"/>
            <a:ext cx="68230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38320" y="277920"/>
            <a:ext cx="7548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ng a New Process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 allocates a new process structure for the child process, and copies the user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age table is 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in memory is allocated for the data and stack segments of the chil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ing the user structure preserves open file descriptors, user and group identifiers, signal handl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2960" y="39384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llocating a New Process Structure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6040" y="1233000"/>
            <a:ext cx="77043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y the data and stack to t he new process; the new process simply shares the page table of the ol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user structure and a new process structure are still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by a shell to execute a command and to wait for its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child process; the child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hange its virtual address space, so there is no need for a copy of the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 large parent process saves CPU time, but can be dangerous since any memory change occurs in both processes unti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no new process or user structure; rather the text and data of the process ar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 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ociated with it; larger numbers indicate low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feedback in CPU scheduling makes it difficult for a single process to take all the CPU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aging is employed to prevent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chooses to relinquish the CPU, it goe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at event occurs, the system process that knows about it call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ke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address corresponding to the even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 that had don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ame address are put in the ready queue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2160" y="277920"/>
            <a:ext cx="7694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13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memory management schemes were constrained in size by the relatively small memory resources of the PDP machines on which UNIX was develo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3BSD system use swapping exclusively to handle memory contention among processes:  If there is too much contention, processes are swapped out until enough memory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both main memory and swap space is done first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6240" y="27792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able text segments do not need to be swapped; results in less swap traffic and reduces the amount of main memory required for multiple processes using the same text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w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cides which processes to swap in or out, considering such factors as time idle, time in or out of main memory, siz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75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 UNIX systems depend primarily on paging for memory-contention management, and depend only secondarily on sw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 pa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n a process needs a page and the page is not there, a page fault tot he kernel occurs, a frame of main memory is allocated, and the proper disk page is read into the fr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gedaem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uses a modified second-chance page-replacement algorithm to keep enough free frames to support the executing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cheduler decides that the paging system is overloaded, processes will be swapped out whole until the overload is rel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file system supports two main objects: files and directori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just files with a special format, so the representation of a file is the basic UNIX con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3360" y="277920"/>
            <a:ext cx="77230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s and Fragmen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file system is taken 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 sized for files which have no indirect bloc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blocks of a file are of a l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(such as 8K), except th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block is an appropriate multiple of a small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agment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1024) to fill out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file of size 18,000 bytes would have two 8K blocks and one 2K fragment (which would not be filled complet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56800" y="277920"/>
            <a:ext cx="7829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s and Fragmen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s are set during file-system creation according to the intended use of the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ny small files are expected, the fragment size should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peated transfers of large files are expected, the basic block size should b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block-to-fragment ratio is 8 : 1; the minimum block size is 4K (typical choices are 4096 : 512 and 8192 : 10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istory of UNIX Vers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2330280" y="1130400"/>
            <a:ext cx="4392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od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137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is represented by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 record that stores information about a specific file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also contains 15 pointer to the disk blocks containing the file’s data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12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three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ndirect block pointer is the address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ndirect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n index block containing the addresses of blocks that do conta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i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-indirect-b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, the address of a block that contains the addresses of blocks that contain pointer to the actual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 in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er is not needed; files with as many as 232 bytes will use only double in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type field distinguishes between plain files an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entries are of variable length; each entry contains first the length of the entry, then the file name and the in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refers to a file by a path name,whereas the file system uses the inode as its definition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has to map the supplied user path name to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used for this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i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termine the starting direc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rst character is “/”, the starting directory is the roo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other starting character, the starting directory is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rch process continues until the end of the path name is reached and the desired inode is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inode is found, a file structure is allocated to point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mproved file system performance by adding a directory name cache to hold recent directory-to-inode trans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7840" y="421920"/>
            <a:ext cx="814356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apping of a File Descriptor to an Inod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hat refer to open files indicate the file is passing a file descriptor as an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le descriptor is used by the kernel to index a table of open files for the curr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of the table contains a pointer to a 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le structure in turn points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open file table has a fixed length which is only setable at boot time, there is a fixed limit on the number of concurrently open files i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Control B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1092240" y="1603440"/>
            <a:ext cx="7101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35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e file system that a user ordinarily sees may actually consist of several physical file systems, each on a differe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a physical device into multiple file systems has several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ile systems can support different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is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rove efficiency by varying file-system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s one program form using all available space for a larg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s up searches on backup tapes and restoring partitions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is always available on a dr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ile system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.e., integrated into the directory hierarchy of the root fil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figure illustrates how a directory structure is partitioned into file systems, which are mapped onto logical devices, which are partitions of phys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384120"/>
            <a:ext cx="7693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Mapping File System to Physical Devices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1371600" y="1119240"/>
            <a:ext cx="59468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707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interface to the file system is simple and well defined, allowing the implementation of the file system itself to be changed without significant effect on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Version 7, the size of inodes doubled, the maximum file and file system sized increased, and the details of free-list handling and superblock information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0BSD, the size of blocks used in the file system was increased form 512 bytes to 1024 bytes — increased internal fragmentation, but doubled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added the Berkeley Fast File System, which increased speed, and included new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n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File System found in most implementations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0880" y="277920"/>
            <a:ext cx="7675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out and Allocation Polic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13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uses a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 device number, inod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air to identify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al device number defines the file system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s in the file system are numbered 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ntroduc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linde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llows localization of the blocks i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ylinder group occupies one or more consecutive cylinders of the disk, so that disk accesses within the cylinder group require minimal disk head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ylinder group has a superblock, a cylinder block, an array of inodes, and som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277920"/>
            <a:ext cx="7470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rly Advantages of UN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in a high-leve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 sourc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powerful operating-system primitives on an inexpensiv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ize, modular, clea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4.3BSD Cylinder Group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2695680" y="1216080"/>
            <a:ext cx="36669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system hides the peculiarities of I/O devices from the bulk of the ker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a buffer caching system, general device driver code, and drivers for specific hardware de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device driver knows the peculiarities of a specific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4.3 BSD Kernel I/O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831960" y="1544760"/>
            <a:ext cx="7596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 Buffer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06040" y="1233000"/>
            <a:ext cx="772308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 of buffer headers, each of which can point to a piece of physical memory, as well as to a device number and a block number on the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ffer headers for blocks not currently in use are kept in several linked li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recently used, linked in LRU order (LR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not recently used, or without valid contents (AGE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buffers with no associated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block is wanted from a device, the cache is sear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block is found it is used, and no I/O transfer is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not found, a buffer is chosen from the AGE list, or the LRU list if AGE is emp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 Buffer Cach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cache size effects system performance; if it is large enough,  the percentage of cache hits can be high and the number of actual I/O transfers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written to a disk file are buffered in the cache, and the disk driver sorts its output queue according to disk address — these actions allow the disk driver to minimize disk head seeks and to write data at times optimized for disk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w Device Interfa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76550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every block device has a character interface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de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unlike the block interface, it bypasses the block buffer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isk driver maintains a queue of pending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cord in the queue specif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it is a read or a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in memory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simple to map the information from a block buffer to what is required for this que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-Lis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rivers use a character buffering system which involves keeping small blocks of characters in linked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to a terminal enqueues characters on a list for the device. An initial transfer is started, and interrupts cause dequeueing of characters and further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is similarly interrupt 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so possible to have the device driver bypass the canonical queue and return characters directly form the raw queue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ed by full-screen editors and other programs that need to react to every keystro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process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66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PC mechanism most characteristic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a reliable unidirectional byte stream between tw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nefit of pipes small size is that pipe data are seldom written to disk; they usually are kept in memory by the normal block buffer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3BSD, pipes are implemented as a special cas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 which provides a general interface not only to facilities such as pipes, which are local to one machine, but also to networking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mechanism can be used by unrelated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6040" y="1242720"/>
            <a:ext cx="767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cket is an endpont of commun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-use socket it usually bound with an address; the nature of the address depends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istic property of a domain is that processes communication in the same domain use the s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socket can communicate in only one domain — the three domains currently implemented in 4.3BSD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domain (AF_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net domain (AF_I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XEROX Network Service (NS) domain (AF_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Typ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78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e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reliable, duplex, sequenced data streams.  Supported in Internet domain by the TCP protocol.  In UNIX domain, pipes are implemented as a pair of communicating stream so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d packet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similar data streams, except that record boundaries are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XEROX AF_N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gr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of variable size in either direction.  Supported in Internet domain by UDP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y delivered message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that are guaranteed to arrive (Currently unsuppor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w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direct access by processes to the protocols that support the other socket types; e.g., in the Internet domain, it is possible to reach TCP, IP beneath that, or a deeper Ethernet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developing new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277920"/>
            <a:ext cx="7947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X Design Princip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750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to be a time-sha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simple standard user interface (shell) that can b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with multilevel tree-structure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supported by the kernel as unstructured sequences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multiple processes; a process can easily create new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iority given to making system interactive, and providing facilities for progra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System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7058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creates a socket; takes as arguments specifications of the communication domain, socket type, and protocol to be used and returns a small integer calle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 de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me is bound to a socket b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is used to initiate a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rver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reate a socket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ind the well-known address of its service to that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ll the kernel that it is ready to accept connections from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 individual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new process after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ervice the client while the original server process continues to listen for mor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4800" y="277920"/>
            <a:ext cx="7812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System Call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26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mplest way to terminate a connection and to destroy the associated socket is to us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on its socket descri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can be used to multiplex data transfers on several file descriptors and /or socket descrip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twork Suppor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26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 support is one of the most important features in 4.3BS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concept provides the programming mechanism to access other processes, even across a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s provide an interface to several sets of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all current UNIX systems support UUC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supports the DARPA Internet protocols UDP, TCP, IP, and ICMP on a wide range of Ethernet, token-ring, and ARPANET interf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.3BSD networking implementation, and to a certain extent the socket facility, is more oriented toward the ARPANET Reference Model (AR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44280" y="414360"/>
            <a:ext cx="7947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Network Reference models and Layering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069920" y="1370160"/>
            <a:ext cx="7220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Appendix A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mer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84932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:  everything below the system-call interface and above the physical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ile system, CPU scheduling, memory management, and other OS functions through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programs:  use the kernel-supported system calls to provide useful functions, such as compilation and file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45640" y="1285200"/>
            <a:ext cx="70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ost computer systems, UNIX consists of two separable par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4.4BSD Layer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657440" y="1220760"/>
            <a:ext cx="6211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53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define the programmer interface to UN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systems programs commonly available defines the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mer and user interface define the context that the kernel mus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three categories of system calls in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ipulation (same system calls also support device mani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18:06Z</dcterms:created>
  <dc:creator>Marilyn Turnamian</dc:creator>
  <dc:description/>
  <dc:language>en-US</dc:language>
  <cp:lastModifiedBy>Silberschatz, Avi</cp:lastModifiedBy>
  <cp:lastPrinted>2001-07-05T21:27:27Z</cp:lastPrinted>
  <dcterms:modified xsi:type="dcterms:W3CDTF">2014-01-16T11:32:01Z</dcterms:modified>
  <cp:revision>154</cp:revision>
  <dc:subject/>
  <dc:title>No Slide Title</dc:title>
</cp:coreProperties>
</file>