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5.wmf" ContentType="image/x-wmf"/>
  <Override PartName="/ppt/media/image35.wmf" ContentType="image/x-wmf"/>
  <Override PartName="/ppt/media/image15.png" ContentType="image/png"/>
  <Override PartName="/ppt/media/image28.png" ContentType="image/png"/>
  <Override PartName="/ppt/media/image8.jpeg" ContentType="image/jpeg"/>
  <Override PartName="/ppt/media/image10.jpeg" ContentType="image/jpeg"/>
  <Override PartName="/ppt/media/image13.wmf" ContentType="image/x-wmf"/>
  <Override PartName="/ppt/media/image3.jpeg" ContentType="image/jpeg"/>
  <Override PartName="/ppt/media/image30.png" ContentType="image/png"/>
  <Override PartName="/ppt/media/image31.png" ContentType="image/png"/>
  <Override PartName="/ppt/media/image36.wmf" ContentType="image/x-wmf"/>
  <Override PartName="/ppt/media/image16.png" ContentType="image/png"/>
  <Override PartName="/ppt/media/image37.wmf" ContentType="image/x-wmf"/>
  <Override PartName="/ppt/media/image17.png" ContentType="image/png"/>
  <Override PartName="/ppt/media/image9.jpeg" ContentType="image/jpeg"/>
  <Override PartName="/ppt/media/image1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23.jpeg" ContentType="image/jpeg"/>
  <Override PartName="/ppt/media/image20.png" ContentType="image/png"/>
  <Override PartName="/ppt/media/image18.wmf" ContentType="image/x-wmf"/>
  <Override PartName="/ppt/media/image2.jpeg" ContentType="image/jpeg"/>
  <Override PartName="/ppt/media/image14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2608F9-E513-4D16-A6ED-46300B095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62ADC1B-AEA3-48A4-B5A4-F1784A8A7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2B44735-BBF2-4FF1-870F-BC31854AF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17B59E-827A-46DE-9C13-749DE9433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A5E672-0666-4543-8376-31E3E1624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9A650A-0865-4AA4-9BE4-8F122C7C1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A3E226-62E6-4996-8FB2-8078C3606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7CFACA-7113-4483-8AD8-FFE63C5D1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81D02C7-FB25-441E-AF7B-5980F7106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7ACA499-8003-4580-BE76-690AE3F48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86AB5D-FC24-4241-8B7D-09C9850D3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2E002C-BEF9-4C5F-8CDA-90A473B25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86990E-EC22-4D8C-8050-0FBF4A0BF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0D9FB4-DA40-4335-B6BB-186A5FE2C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F0155F-C9EC-484F-8F27-844F0B7B6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3F19FF-3522-4296-9FA8-5F98A3531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D85663-F978-4668-9B2A-24D2443C0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99A5B1-6EB2-411F-A820-FAC322553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F12E2D-AAF5-46C9-A733-C66903E88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EBB9426-9554-434E-9CA7-7E0264ACE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024DB9-AD93-4931-A9A8-0A16E412C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5FB34D6-BC67-4307-B150-E5C9F5303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48CEC5C-28A6-4176-A359-9AFAFAB4D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8159E2-1DDA-4903-B0B7-D279A3D8F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EC9DDCE-DC47-4207-A6FF-45E40EC2F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4EB53D-CB85-4F8A-872B-FA899A54E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098A1E-DA34-49E6-94F8-56DB4FCDF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F5A2E4-B274-41BB-9444-6B7A8B30B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B1B2B3-66D2-4199-B573-01E853AFE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13337C1-E4EF-4122-82B0-183ABB024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239790B-8ECC-4054-8609-78635D4C0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FE7C10-DC12-4A07-96A9-08B9A6B17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B47AB4D-BC74-421B-90CB-FC81298DC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D7EE68-A8C3-4EF9-AB8D-7D559BE97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278A85F-12B7-4568-9296-570D95E63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AF7121-8B12-404E-9DFB-FAE3858AD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4A39001-8640-44EB-8CC0-1061328B9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2D2EDD-E0CC-4106-B315-5DBB9D5C6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CD31CE-FF1B-4D50-BE40-6088C919D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7ECDE1-24CF-4B17-9B75-D3C787D84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B1A84A9-0B6D-490D-BAA6-1913F361E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35CA07B-2BD3-4FB4-B39B-AF2A415B4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72428C-18D1-4042-8A3E-A623A4B61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EDB0B9-40A5-40CD-8C01-59937726A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4EEC18-D9F8-4EEF-AE10-2CA8C9F32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7EDAE16-A7FE-4F5F-8208-0FA138A7F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70B533-38E6-4FCA-ADAE-78CE7A557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E374E6-6C9A-4882-9D8D-8569DAB36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7C5E27-0376-4C4E-A864-78DC6F1B6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C762E3-3069-4403-AAB6-9A397A635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2A1C99B-686B-4BFF-B570-338C90B14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C72A60-78AF-4DAD-893C-579AFE573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C3B5F1-46CC-436D-9936-F25185A3E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C3CC938-5D23-48C1-A9B9-A6FC92836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A1962EB-DBD4-4D7D-A670-BCFE0311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813885-A07E-4A8D-978D-1D04F9E46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77A0E3-8AA2-48A6-A125-9B1F63F74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363AAD-0A73-4B2A-8F7B-D809AE460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881249-BDD7-4C8D-98AF-E1B0DC37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57F6F5-CE5F-4E24-9C5D-AE2B0BA8B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919EEA-4850-4C0E-98B4-6D83268B3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14C5A4-FBF5-4E2C-958D-37A0E2B26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59BF548-25BD-41C7-BEF7-4B2F355FD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AFAD50-5F27-4676-986F-C3BCA39E9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8.</a:t>
            </a:r>
            <a:fld id="{65BD6A6F-8DE8-4FCD-8D7A-E24CC77ECF3E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4400" y="662148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440" y="661356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93440"/>
            <a:ext cx="7772400" cy="21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8:  Main Memory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6280" y="198000"/>
            <a:ext cx="7548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ogical vs. Physical Address Sp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3000" y="1236600"/>
            <a:ext cx="712800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cept of a logical address space that is bound to a separat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hysical address spac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entral to proper mem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gical addres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generated by the CPU; also referred to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hysical addres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ddress seen by the memory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nd physical addresses are the same in compile-time and load-time address-binding schemes; logical (virtual) and physical addresses differ in execution-time address-binding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gical address sp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et of all logical addresses generated by a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hysical address sp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et of all physical addresses generated by a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79120" y="140760"/>
            <a:ext cx="7839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mory-Management Unit (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MMU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7160" y="1063440"/>
            <a:ext cx="708048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device that at run time maps virtual to 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ethods possible, covered in the rest of this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tart, consider simple scheme where the value in the relocation register is added to every address generated by a user process at the time it is sent 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register now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ocation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OS on Intel 80x86 used 4 relocation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program deals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resses; it never see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hysical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-time binding occurs when reference is made to location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ddress bound to physical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8720" y="79200"/>
            <a:ext cx="822492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Dynamic relocation using a relocation register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4869000" y="1655640"/>
            <a:ext cx="3714480" cy="2689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966960" y="1063800"/>
            <a:ext cx="39211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e is not loaded until it is call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memory-space utilization; unused routine is never loa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routines kept on disk in relocatable load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when large amounts of code are needed to handle infrequently occurring ca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pecial support from the operating system is requi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Implemented through program desig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OS can help by providing libraries to implement dynamic loa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ynamic Link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34560" y="1061640"/>
            <a:ext cx="711684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tic link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ystem libraries and program code combined by the loader into the binary program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linking –linking postponed until execu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piece of code,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ed to locate the appropriate memory-resident library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b replaces itself with the address of the routine, and executes the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checks if routine is in processe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ory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t in address space, add to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linking is particularly useful for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lso known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pplicability to patching system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ing may be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8880" y="1191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wapp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3000" y="1122480"/>
            <a:ext cx="70516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can b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wap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porarily out of memory to a backing store, and then brought back into memory for continued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physical memory space of processes can exceed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cking stor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fast disk large enough to accommodate copies of all memory images for all users; must provide direct access to these memory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oll out, roll in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wapping variant used for priority-based scheduling algorithms; lower-priority process is swapped out so higher-priority process can be loaded and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part of swap time is transfer time; total transfer time is directly proportional to the amount of memory swa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intain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y queu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ready-to-run processes which have memory images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888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wapp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87400" y="1058760"/>
            <a:ext cx="71690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the swapped out process need to swap back in to same physical addres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address bind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consider pending I/O to / from process memory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versions of swapping are found on many systems (i.e., UNIX, Linux, and 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ping normally dis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if more than threshold amount of memory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bled again once memory demand reduced below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17200" y="18216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chematic View of Swapp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2" name="Picture 4" descr="8"/>
          <p:cNvPicPr/>
          <p:nvPr/>
        </p:nvPicPr>
        <p:blipFill>
          <a:blip r:embed="rId1"/>
          <a:stretch/>
        </p:blipFill>
        <p:spPr>
          <a:xfrm>
            <a:off x="2081160" y="1400040"/>
            <a:ext cx="509904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1160" y="166320"/>
            <a:ext cx="7635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ontext Switch Time including Swapping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69760" y="1112400"/>
            <a:ext cx="6949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processes to be put on CPU is not in memory, need to swap out a process and swap in targe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 switch time can then be very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MB process swapping to hard disk with transfer rate of 50MB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 out time of 200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swap in of same siz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context switch swapping component time of 4000ms (4 seco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duce if reduce size of memory swapped – by knowing how much memory really being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to inform OS of memory use vi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_memory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lease_memor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82400" y="166320"/>
            <a:ext cx="7635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ontext Switch Time and Swapping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06400" y="1160280"/>
            <a:ext cx="73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onstraints as well on sw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ding I/O – can’t swap out as I/O would occur to wro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lways transfer I/O to kernel space, then to I/O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ouble buff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dds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swapping not used in modern opera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odified version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 only when free memory extremely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888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wapping on Mob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47520" y="1060560"/>
            <a:ext cx="772308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ypically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 mem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amount of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number of write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throughput between flash memory and CPU on mobile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use other methods to free memory if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s to voluntarily relinquish allocat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-only data thrown out and reloaded from flash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to free can result in 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oid terminates apps if low free memory, but first write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pplication 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lash for fast re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OSes support paging as discussed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560" y="213840"/>
            <a:ext cx="7743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8:  Memory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174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Memory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of the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The Intel 32 and 64-bit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AR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66880" y="166320"/>
            <a:ext cx="78199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ntiguous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5120" y="1077840"/>
            <a:ext cx="726300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must support both OS and us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resource, must allocate effici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allocation is one earl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usually into tw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ti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t operating system, usually held in low memory with interrupt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processes then held in high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contained in single contiguous section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66880" y="166320"/>
            <a:ext cx="78199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ntiguous Alloca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8720" y="1093680"/>
            <a:ext cx="726300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ion registers used to protect user processes from each other, and from changing operating-system cod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register contains value of smallest 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register contains range of logical addresses – each logical address must be less than the limit regi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 maps logical addr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yna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hen allow actions such as kernel code be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i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kernel changing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2960" y="166320"/>
            <a:ext cx="8442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Hardware Support for Relocation and Limit Registers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4" name="Picture 4" descr="8"/>
          <p:cNvPicPr/>
          <p:nvPr/>
        </p:nvPicPr>
        <p:blipFill>
          <a:blip r:embed="rId1"/>
          <a:stretch/>
        </p:blipFill>
        <p:spPr>
          <a:xfrm>
            <a:off x="1844640" y="1347840"/>
            <a:ext cx="58453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597960"/>
            <a:ext cx="774072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ple-partition allocation</a:t>
            </a:r>
            <a:br>
              <a:rPr sz="3200"/>
            </a:b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1004760"/>
            <a:ext cx="77709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-partition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 of multiprogramming limited by number of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Variable-parti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s for efficiency (sized to a given process’ nee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o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block of available memory; holes of various size are scattered throughout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a process arrives, it is allocated memory from a hole large enough to accommodate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exiting frees its partition, adjacent free partitions comb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 maintains information about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allocated partitions    b) free partitions (ho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379520" y="4178160"/>
            <a:ext cx="66754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60360" y="198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ynamic Storage-Allocation Probl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9000" y="1709640"/>
            <a:ext cx="706284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rst-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locat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e that is big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est-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locat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mall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e that is big enough; must search entire list, unless ordered by 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 the smallest leftover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orst-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locat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rg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e; must also search entire li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 the largest leftover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48600" y="1171800"/>
            <a:ext cx="604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satisfy a request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a list of free hol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046160" y="4623840"/>
            <a:ext cx="7601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-fit and best-fit better than worst-fit in terms of speed and storage utiliz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5360" y="151920"/>
            <a:ext cx="7831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rag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50760" y="1114560"/>
            <a:ext cx="67708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ternal Fragmentation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total memory space exists to satisfy a request, but it is not cont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ernal Fragmentation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llocated memory may be slightly larger than requested memory; this size difference is memory internal to a partition, but not being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it analysis reveals that giv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s allocated, 0.5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s lost to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may be unusable -&gt;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50-percent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ragmenta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01800" y="1153800"/>
            <a:ext cx="695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external fragmentation b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mp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ffle memory contents to place all free memory together in one larg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ction is possi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relocation is dynamic, and is done at execu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 job in memory while it is involved in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/O only into OS 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consider that backing store has same fragmentation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g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73000" y="1157040"/>
            <a:ext cx="770256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nagement scheme that supports user view of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is a collection of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gment is a logical unit such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variables, glob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ser</a:t>
            </a:r>
            <a:r>
              <a:rPr b="1" lang="ja-JP" sz="3200" spc="-1" strike="noStrike">
                <a:solidFill>
                  <a:srgbClr val="00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 View of a Progra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2467080" y="1233360"/>
            <a:ext cx="36957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85600" y="136080"/>
            <a:ext cx="7800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ogical View of Seg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1371600" y="1171440"/>
            <a:ext cx="2895480" cy="396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905120" y="185724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752480" y="30002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200400" y="246708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124080" y="345744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Group 24"/>
          <p:cNvGrpSpPr/>
          <p:nvPr/>
        </p:nvGrpSpPr>
        <p:grpSpPr>
          <a:xfrm>
            <a:off x="5638680" y="1171440"/>
            <a:ext cx="1143000" cy="3962160"/>
            <a:chOff x="5638680" y="1171440"/>
            <a:chExt cx="1143000" cy="3962160"/>
          </a:xfrm>
        </p:grpSpPr>
        <p:grpSp>
          <p:nvGrpSpPr>
            <p:cNvPr id="167" name="Group 11"/>
            <p:cNvGrpSpPr/>
            <p:nvPr/>
          </p:nvGrpSpPr>
          <p:grpSpPr>
            <a:xfrm>
              <a:off x="5638680" y="1171440"/>
              <a:ext cx="1143000" cy="1066680"/>
              <a:chOff x="5638680" y="1171440"/>
              <a:chExt cx="1143000" cy="1066680"/>
            </a:xfrm>
          </p:grpSpPr>
          <p:sp>
            <p:nvSpPr>
              <p:cNvPr id="168" name="Rectangle 8"/>
              <p:cNvSpPr/>
              <p:nvPr/>
            </p:nvSpPr>
            <p:spPr>
              <a:xfrm>
                <a:off x="5638680" y="1171440"/>
                <a:ext cx="114300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Line 9"/>
              <p:cNvSpPr/>
              <p:nvPr/>
            </p:nvSpPr>
            <p:spPr>
              <a:xfrm>
                <a:off x="5638680" y="17046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0" name="Group 12"/>
            <p:cNvGrpSpPr/>
            <p:nvPr/>
          </p:nvGrpSpPr>
          <p:grpSpPr>
            <a:xfrm>
              <a:off x="5638680" y="2238120"/>
              <a:ext cx="1143000" cy="1066680"/>
              <a:chOff x="5638680" y="2238120"/>
              <a:chExt cx="1143000" cy="1066680"/>
            </a:xfrm>
          </p:grpSpPr>
          <p:sp>
            <p:nvSpPr>
              <p:cNvPr id="171" name="Rectangle 13"/>
              <p:cNvSpPr/>
              <p:nvPr/>
            </p:nvSpPr>
            <p:spPr>
              <a:xfrm>
                <a:off x="5638680" y="2238120"/>
                <a:ext cx="1143000" cy="10666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Line 14"/>
              <p:cNvSpPr/>
              <p:nvPr/>
            </p:nvSpPr>
            <p:spPr>
              <a:xfrm>
                <a:off x="5638680" y="27712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3" name="Text Box 15"/>
            <p:cNvSpPr/>
            <p:nvPr/>
          </p:nvSpPr>
          <p:spPr>
            <a:xfrm>
              <a:off x="6017760" y="1292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Text Box 16"/>
            <p:cNvSpPr/>
            <p:nvPr/>
          </p:nvSpPr>
          <p:spPr>
            <a:xfrm>
              <a:off x="6021000" y="178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17"/>
            <p:cNvSpPr/>
            <p:nvPr/>
          </p:nvSpPr>
          <p:spPr>
            <a:xfrm>
              <a:off x="5638680" y="33048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18"/>
            <p:cNvSpPr/>
            <p:nvPr/>
          </p:nvSpPr>
          <p:spPr>
            <a:xfrm>
              <a:off x="5638680" y="4752720"/>
              <a:ext cx="114300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5638680" y="36860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6021000" y="3350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Text Box 21"/>
            <p:cNvSpPr/>
            <p:nvPr/>
          </p:nvSpPr>
          <p:spPr>
            <a:xfrm>
              <a:off x="6021000" y="408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0" name="Text Box 22"/>
          <p:cNvSpPr/>
          <p:nvPr/>
        </p:nvSpPr>
        <p:spPr>
          <a:xfrm>
            <a:off x="2023200" y="5256360"/>
            <a:ext cx="136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spa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4885200" y="5256360"/>
            <a:ext cx="256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memory sp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0640" y="1171440"/>
            <a:ext cx="6627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a detailed description of various ways of organizing memory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various memory-management techniques, including paging and 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a detailed description of the Intel Pentium, which supports both pure segmentation and segmentation with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7600" y="166320"/>
            <a:ext cx="7908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gmentation Architecture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02880" y="1093680"/>
            <a:ext cx="724716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ddress consists of a two tu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egment-number, offset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gment tabl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aps two-dimensional physical addresses; each table entry h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s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ntains the starting physical address where the segments resid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imit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pecifies the length of th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gment-table base register (STBR)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to the segment tab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location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gment-table length register (STLR)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number of segments used by a progra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numbe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legal if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52200" y="213840"/>
            <a:ext cx="7829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gmentation Architectur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82360" y="1161720"/>
            <a:ext cx="677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each entry in segment table associ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bit = 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llegal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/write/execute privi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bits associated with segments; code sharing occurs at segmen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segments vary in length, memory allocation is a dynamic storage-allocation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gmentation example is shown in the following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gmentation Hardwa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7" name="Picture 4" descr="8"/>
          <p:cNvPicPr/>
          <p:nvPr/>
        </p:nvPicPr>
        <p:blipFill>
          <a:blip r:embed="rId1"/>
          <a:stretch/>
        </p:blipFill>
        <p:spPr>
          <a:xfrm>
            <a:off x="2044800" y="1254240"/>
            <a:ext cx="582768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93880" y="1128240"/>
            <a:ext cx="718344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 address space of a process can be noncontiguous; process is allocated physical memory whenever the latter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ex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problem of varying sized memory chu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physical memory into fixed-sized blocks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ower of 2, between 512 bytes and 16 M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logical memory into blocks of same size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track of all free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un a program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, need to fi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 frames and loa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ranslate logical to physical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ing store likewise split into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have In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46000" y="151920"/>
            <a:ext cx="7840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ddress Translation Sche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41320" y="1125360"/>
            <a:ext cx="7299360" cy="44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generated by CPU is divided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 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3366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used as an index into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 t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ontains base address of each page in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 off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3366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bined with base address to define the physical memory address that is sent to the memory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given logical address space 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age siz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2900520" y="2882880"/>
            <a:ext cx="33429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8800" y="120240"/>
            <a:ext cx="7937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ing Hardwa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4" name="Picture 4" descr="8"/>
          <p:cNvPicPr/>
          <p:nvPr/>
        </p:nvPicPr>
        <p:blipFill>
          <a:blip r:embed="rId1"/>
          <a:stretch/>
        </p:blipFill>
        <p:spPr>
          <a:xfrm>
            <a:off x="1655640" y="1128600"/>
            <a:ext cx="6226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46080" y="460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Paging Model of Logical and  Physical Memory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6" name="Picture 1030" descr=""/>
          <p:cNvPicPr/>
          <p:nvPr/>
        </p:nvPicPr>
        <p:blipFill>
          <a:blip r:embed="rId1"/>
          <a:stretch/>
        </p:blipFill>
        <p:spPr>
          <a:xfrm>
            <a:off x="1928880" y="1203480"/>
            <a:ext cx="493848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5280" y="871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ing Examp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646280" y="5586480"/>
            <a:ext cx="6003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2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4   32-byte memory and 4-byte p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2755800" y="1243080"/>
            <a:ext cx="338472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8880" y="120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31680" y="1138320"/>
            <a:ext cx="833724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in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size = 2,048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ize = 72,766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pages + 1,086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fragmentation of 2,048 - 1,086 = 962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st case fragmentation = 1 frame – 1 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verage fragmentation = 1 / 2 fram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small frame sizes desir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each page table entry takes memory to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sizes growing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supports two page sizes – 8 KB and 4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view and physical memory now very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implementation process can only access its ow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ree Fram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938960" y="5723280"/>
            <a:ext cx="188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llo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5352840" y="5735880"/>
            <a:ext cx="169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llo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1825560" y="1244520"/>
            <a:ext cx="590400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0560" y="163080"/>
            <a:ext cx="6764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63640" y="1250640"/>
            <a:ext cx="6578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must be brought (from disk)  into memory and placed within a process for it to be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and registers are only storage CPU can access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unit only sees a stream of addresses + read requests, or address + data and write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access in one CPU clock (or l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can take many cycles, causing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ach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s between main memory and CPU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of memory required to ensure correct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6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lementation of Page Tab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2640" y="1145880"/>
            <a:ext cx="67978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 is kept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-table base regis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TB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to the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-table length regis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TL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size of the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scheme every data/instruction access requires two memory a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the page table and one for the data /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memory access problem can be solved by the use of a special fast-lookup hardware cache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sociative memo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anslation look-aside buff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L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5552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lementation of Page Tabl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3000" y="1145880"/>
            <a:ext cx="692496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TLBs sto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ddress-space identifi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ach TLB entry – uniquely identifies each process to provide address-space protection for tha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need to flush at every context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s typically small (64 to 1,024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 TLB miss, value is loaded into the TLB for faster access nex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ment policies must be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entries can be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wired dow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rmanent fast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ssociative Mem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3240" y="12110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ve memory – parallel 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ranslation (p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 is in associative register, get frame #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get frame # from page tabl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1895400" y="1693800"/>
            <a:ext cx="29433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888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ing Hardware With TLB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781280" y="1284120"/>
            <a:ext cx="56372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ffective Access Ti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7640" y="1083960"/>
            <a:ext cx="778176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ve Lookup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&lt; 10% of memory acces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ratio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ratio – percentage of times that a page number is found in the associative registers; ratio related to number of associative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80%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0ns for TLB search, 100ns for memor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ffective Access Tim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(1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2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80%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0ns for TLB search, 100ns for memor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0.80 x 100 + 0.20 x 200 = 12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more realistic hit ratio -&gt;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99%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0ns for TLB search, 100ns for memor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0.99 x 100 + 0.01 x 200 = 101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mory 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2640" y="1157040"/>
            <a:ext cx="6937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protection implemented by associating protection bit with each frame to indicate if read-only or read-write access is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so add more bits to indicate page execute-only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alid-invalid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attached to each entry in the pag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s that the associated page is in the proc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gical address space, and is thus a legal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s that the page is not in the proc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-table length regis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TL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violations result in a trap to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09640" y="-189360"/>
            <a:ext cx="7112160" cy="90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lid (v) or Invalid (i) Bit In A Page Tabl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2222640" y="1252440"/>
            <a:ext cx="509904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hared Pag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73000" y="1141200"/>
            <a:ext cx="69501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ar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opy of read-only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ent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ode shared among processes (i.e., text editors, compilers, window syst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multiple threads sharing the same proc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useful for interprocess communication if sharing of read-write pages is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ivate code and data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keeps a separate copy of the cod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ges for the private code and data can appear anywhere in the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198000"/>
            <a:ext cx="770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hared Pages Examp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4" name="Picture 4" descr="8"/>
          <p:cNvPicPr/>
          <p:nvPr/>
        </p:nvPicPr>
        <p:blipFill>
          <a:blip r:embed="rId1"/>
          <a:stretch/>
        </p:blipFill>
        <p:spPr>
          <a:xfrm>
            <a:off x="2112840" y="1104840"/>
            <a:ext cx="48610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2056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ructure of the Page Tab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57160" y="1141200"/>
            <a:ext cx="71200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structures for paging can get huge using straight-forwar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32-bit logical address space as on modern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size of 4 KB 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 would have 1 million entries 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ach entry is 4 bytes -&gt; 4 MB of physical address space / memory for page tabl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amount of memory used to cost a 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want to allocate that contiguously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ed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ted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5040" y="112320"/>
            <a:ext cx="6559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se and Limit Register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0760" y="9950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ir of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s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imit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gi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e the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must check every memory access generated in user mode to be sure it is between base and limit for that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786040" y="2128680"/>
            <a:ext cx="32734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304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ierarchical Page Tab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03240" y="1188720"/>
            <a:ext cx="59803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up the logical address space into multiple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ple technique is a two-level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then page the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6844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wo-Level Page-Table Sche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0" name="Picture 4" descr="8"/>
          <p:cNvPicPr/>
          <p:nvPr/>
        </p:nvPicPr>
        <p:blipFill>
          <a:blip r:embed="rId1"/>
          <a:stretch/>
        </p:blipFill>
        <p:spPr>
          <a:xfrm>
            <a:off x="2301840" y="1268280"/>
            <a:ext cx="424836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5440" y="151920"/>
            <a:ext cx="7762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wo-Level Paging Examp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7280" y="1085400"/>
            <a:ext cx="780732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gical address (on 32-bit machine with 1K page size) is divided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ge number consisting of 2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ge offset consisting of 10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page table is paged, the page number is further divided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12-bit page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10-bit 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 logical address is as follows:</a:t>
            </a: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index into the outer page table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isplacement within the page of the inner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orward-mapped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2360520" y="3875040"/>
            <a:ext cx="315936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28240" y="151920"/>
            <a:ext cx="7558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ddress-Translation Sche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5" name="Picture 1035" descr=""/>
          <p:cNvPicPr/>
          <p:nvPr/>
        </p:nvPicPr>
        <p:blipFill>
          <a:blip r:embed="rId1"/>
          <a:stretch/>
        </p:blipFill>
        <p:spPr>
          <a:xfrm>
            <a:off x="1496880" y="1258920"/>
            <a:ext cx="63900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64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64-bit Logical Address Sp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06040" y="1201320"/>
            <a:ext cx="81169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wo-level paging scheme not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ge size is 4 KB 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age table has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wo level scheme, inner page tables could b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-byt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would look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 page table has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ries or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olution is to add a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er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n the following example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er page table is still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tes i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ossibly 4 memory access to get to one physical memory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2162160" y="3000240"/>
            <a:ext cx="32464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64720" y="213840"/>
            <a:ext cx="7821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e-level Paging Sche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2324160" y="1293840"/>
            <a:ext cx="5241960" cy="1168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2311560" y="3130560"/>
            <a:ext cx="54864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46000" y="166320"/>
            <a:ext cx="7840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ashed Page Tab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03240" y="1141200"/>
            <a:ext cx="762624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address spaces &gt; 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rtual page number is hashed into a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age table contains a chain of elements hashing to the sam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lement contains (1) the virtual page number (2) the value of the mapped page frame (3) a pointer to the next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s are compared in this chain searching for a 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match is found, the corresponding physical frame is extra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tion for 64-bit addresses i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ustered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hashed but each entry refers to several pages (such as 16) rather tha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useful f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pa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ress spaces (where memory references are non-contiguous and scatter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ashed Page Tab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1512720" y="1274760"/>
            <a:ext cx="66168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30080" y="151920"/>
            <a:ext cx="7956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verted Page Tab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39600" y="1152000"/>
            <a:ext cx="707364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each process having a page table and keeping track of all possible logical pages, track all physical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ntry for each real page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y consists of the virtual address of the page stored in that real memory location, with information about the process that owns tha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memory needed to store each page table, but increases time needed to search the table when a page reference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hash table to limit the search to one — or at most a few — page-tabl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can accelerat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how to implement shared memo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apping of a virtual address to the shared 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58320" y="182160"/>
            <a:ext cx="7791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verted Page Table Archite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1717560" y="1274760"/>
            <a:ext cx="605808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41040" y="154080"/>
            <a:ext cx="7745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ardware Address 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1" name="Content Placeholder 4" descr="8.02.pdf"/>
          <p:cNvPicPr/>
          <p:nvPr/>
        </p:nvPicPr>
        <p:blipFill>
          <a:blip r:embed="rId1"/>
          <a:srcRect l="0" t="-12766" r="0" b="-12766"/>
          <a:stretch/>
        </p:blipFill>
        <p:spPr>
          <a:xfrm>
            <a:off x="1576440" y="1212840"/>
            <a:ext cx="63244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30080" y="198000"/>
            <a:ext cx="7956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racle SPARC Solari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85600" y="1034640"/>
            <a:ext cx="749916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modern, 64-bit operating system example with tightly integrated H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 are efficiency, low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hashing, but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hash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kernel and one for all us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aps memory addresses from virtual to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ntry represents a contiguous area of mapped virtual memor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icient than having a separate hash-table entry for each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ntry has  base address and  span (indicating the number of pages the entry repres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198000"/>
            <a:ext cx="7956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racle SPARC Solari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81000" y="1096560"/>
            <a:ext cx="751536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holds translation table entries (TTEs) for fast hardware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che of TTEs reside in a translation storage buffer (T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an entry per recently accessed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address reference causes TLB 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iss, hardware walks the in-memory TSB looking for the TTE corresponding to th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atch found, the CPU copies the TSB entry into the TLB and translation compl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match found, kernel interrupted to search the hash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then creates a TTE from the appropriate hash table and stores it in the TSB, Interrupt handler returns control to the MMU, which completes the address trans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26800" y="142560"/>
            <a:ext cx="7607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Example: The Intel 32 and 64-bit Architectures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5960" y="1233360"/>
            <a:ext cx="7743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inant industry c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CPUs are 32-bit and called IA-32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Intel CPUs are 64-bit and called IA-64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variations in the chips, cover the main idea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25240" y="166320"/>
            <a:ext cx="7607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xample: The Intel IA-32 Architectur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85960" y="1087200"/>
            <a:ext cx="709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both segmentation and segmentation with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gment can be 4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6 K segments 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d into two 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partition of up to 8 K segments are private to process (kept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cal descriptor t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D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partition of up to 8K segments shared among all processes (kept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lobal descriptor t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D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240" y="72720"/>
            <a:ext cx="7607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Example: The Intel IA-32 Architecture (Cont.)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85960" y="1087200"/>
            <a:ext cx="7743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generates log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or given to segmentation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roduces linear addr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address given to paging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nerates physical address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ing units form equivalent of M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 sizes can be 4 KB or 4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" descr="Screen Shot 2013-01-04 at 12.24.50 PM.png"/>
          <p:cNvPicPr/>
          <p:nvPr/>
        </p:nvPicPr>
        <p:blipFill>
          <a:blip r:embed="rId1"/>
          <a:stretch/>
        </p:blipFill>
        <p:spPr>
          <a:xfrm>
            <a:off x="2205000" y="2141640"/>
            <a:ext cx="243684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06440" y="20520"/>
            <a:ext cx="767088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Logical to Physical Address Translation in IA-32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rcRect l="639" t="35571" r="661" b="35571"/>
          <a:stretch/>
        </p:blipFill>
        <p:spPr>
          <a:xfrm>
            <a:off x="2049480" y="3084480"/>
            <a:ext cx="4595760" cy="100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2"/>
          <a:stretch/>
        </p:blipFill>
        <p:spPr>
          <a:xfrm>
            <a:off x="1954080" y="1523880"/>
            <a:ext cx="61581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95200" y="198000"/>
            <a:ext cx="7491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l IA-32 Seg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5" name="Picture 4" descr="8"/>
          <p:cNvPicPr/>
          <p:nvPr/>
        </p:nvPicPr>
        <p:blipFill>
          <a:blip r:embed="rId1"/>
          <a:stretch/>
        </p:blipFill>
        <p:spPr>
          <a:xfrm>
            <a:off x="1876320" y="1314360"/>
            <a:ext cx="60343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17200" y="18216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l IA-32 Paging Archite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2349360" y="1220760"/>
            <a:ext cx="45039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6880" y="21384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l IA-32 Page Address Extens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9" name="Picture 1" descr="8_24.pdf"/>
          <p:cNvPicPr/>
          <p:nvPr/>
        </p:nvPicPr>
        <p:blipFill>
          <a:blip r:embed="rId1"/>
          <a:stretch/>
        </p:blipFill>
        <p:spPr>
          <a:xfrm>
            <a:off x="1230480" y="3502080"/>
            <a:ext cx="6157800" cy="2630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901800" y="1108080"/>
            <a:ext cx="7743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488880" indent="-4888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-bit address limits led Intel to create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age address extens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A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allowing 32-bit apps access to more than 4GB of memory sp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aging went to a 3-level sche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Top two bits refer to a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MS PGothic"/>
              </a:rPr>
              <a:t>page directory pointer t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age-directory and page-table entries moved to 64-bits in siz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Net effect is increasing address space to 36 bits – 64GB of physical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7200" y="19800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l x86-64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917640" y="1122480"/>
            <a:ext cx="756432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generation Intel x86 archite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bits is ginormous (&gt; 16 exabyt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actice only implement 48 bit addres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age sizes of 4 KB, 2 MB, 1 G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our levels of paging hierarch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so use PAE so virtual addresses are 48 bits and physical addresses are 52 b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8_25.pdf"/>
          <p:cNvPicPr/>
          <p:nvPr/>
        </p:nvPicPr>
        <p:blipFill>
          <a:blip r:embed="rId1"/>
          <a:stretch/>
        </p:blipFill>
        <p:spPr>
          <a:xfrm>
            <a:off x="1150920" y="4108320"/>
            <a:ext cx="72835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ddress Bind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18640" y="1144440"/>
            <a:ext cx="744876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s on disk, ready to be brought into memory to execute form a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pu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out support, must be loaded into address 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nvenient to have first user process physical address always at 0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can it not b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, addresses represented in different ways at different stages of a progra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code addresses usually symbo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code address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i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relocatable addr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 bytes from beginning of this modul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er or loader will bind relocatable addresses to absolute addr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74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binding maps one address space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3040" y="18216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: ARM Archite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870120" y="1170000"/>
            <a:ext cx="341784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488880" indent="-488880">
              <a:lnSpc>
                <a:spcPct val="10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inant mobile platform chip (Apple iOS and Google Android devices for examp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n, energy efficient, 32-bit 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KB and 16 KB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B and 16 MB pages (termed </a:t>
            </a: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sect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-level paging for sections, two-level for smaller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levels of TLB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Outer level has two micro TLBs (one data, one instru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Inner is single main TL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irst inner is checked, on miss outers are checked, and on miss page table walk performed by 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1" descr="8_26.pdf"/>
          <p:cNvPicPr/>
          <p:nvPr/>
        </p:nvPicPr>
        <p:blipFill>
          <a:blip r:embed="rId1"/>
          <a:stretch/>
        </p:blipFill>
        <p:spPr>
          <a:xfrm>
            <a:off x="4470480" y="1576440"/>
            <a:ext cx="41004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8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23920" y="290520"/>
            <a:ext cx="8134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Binding of Instructions and Data to Memory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640" y="809640"/>
            <a:ext cx="713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binding of instructions and data to memory addresses can happen at three different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If memory location known a priori,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bsolute cod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generated; must recompile code if starting locatio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Must generat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locatable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memory location is not known at compil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Binding delayed until run time if the process can be moved during its execution from one memory segment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hardware support for address maps (e.g., base and limi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1880" y="99720"/>
            <a:ext cx="7956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Multistep Processing of a User Program 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Picture 4" descr="8"/>
          <p:cNvPicPr/>
          <p:nvPr/>
        </p:nvPicPr>
        <p:blipFill>
          <a:blip r:embed="rId1"/>
          <a:stretch/>
        </p:blipFill>
        <p:spPr>
          <a:xfrm>
            <a:off x="3360600" y="1231920"/>
            <a:ext cx="255456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Silberschatz, Avi</cp:lastModifiedBy>
  <cp:lastPrinted>2013-09-30T19:34:56Z</cp:lastPrinted>
  <dcterms:modified xsi:type="dcterms:W3CDTF">2013-10-02T20:48:49Z</dcterms:modified>
  <cp:revision>265</cp:revision>
  <dc:subject/>
  <dc:title>2.01</dc:title>
</cp:coreProperties>
</file>