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01652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00240" y="704520"/>
            <a:ext cx="46879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6C6805-4295-4B8E-BF7E-9EA50C174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17C32D-C579-4699-BDD3-600BC0CEB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C31A1FA-DCD6-4F9D-A5CB-2CB90826A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969538E-58C9-428D-8A52-B88A42DFD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A96905-35EB-4274-A7E5-13FFAF824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432BFD-C48E-4F95-A61D-82C930EDB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3A8941-8446-423D-A78B-9FC2E1AEA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FD6125-3509-4AA3-A417-8B8EC6420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1AFB8A-8AE2-4111-8149-791D4D37C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83AE69-407B-47C8-B00E-D2653925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E6C8D37-B071-40C9-8F6F-1745AF541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11AEB93-8EB8-4D28-8E4A-984D0E10C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01CA95-421D-4013-8504-6FE857D26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A1278C-F570-44F3-B8AE-73B922102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14D283-C067-4087-A184-5C2A2CF3B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7B19D42-69BC-4A06-925D-1F6878365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33B06D-6A88-488F-B5D3-132C162D4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00ADCE0-D473-4449-9E58-AE7CB9B23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B59F85C-C7F7-432C-81A7-CD473EEE3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D864B8-D371-4EC0-9AA7-C00DB5A43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7EB1CE-FC64-406A-985A-13CF79B94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C25F66-28C0-4493-961F-4A4A9F818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F2EDBA-47B2-4CB1-BA6D-1A7A2D0D6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347857-8ABA-4991-9D88-7BBC6035F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19E0D2-2053-494B-8177-76A03E226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226886-96D3-4500-9657-AFBBC005B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4EDDE2-7829-4A1E-80CC-21B86E0E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95FCB8B-5C19-4644-BF68-3A0BDCBFF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EE8581-24B3-42EA-8785-9FFA4F1F1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E79538-9C0A-4244-80B2-58B36138B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68ADD4-5290-4586-B7A8-D42FF904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36DD29A-39AC-487C-B993-B12D01AC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9902EE-E208-45DE-93AC-6CA48A674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2644E6-D3D7-4C10-AF10-5827810B0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1A9DD6-DB90-4478-AD46-7DB05F3B9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E7D15D-0DBD-4F5B-947D-A73E54CD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DBAD4C-F6C6-4AD3-8807-5CC717045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045083-5DD6-4758-90CB-7CBF4D685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DA32BD-6564-45E5-BE70-3E46D6BF4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5267A8-E4C0-46FC-A418-B92C70867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8A1685B-5D7D-418C-9781-5296FF8A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A26DA21-B95B-4DE5-8372-5326FCDA2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050A6DA-87FD-4511-8DA7-4EA9CF70E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73AB0D-008A-441C-A63B-20D4BFB1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9C24C82-F407-49D1-8AC0-F4253B257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BA1D7B-0261-4712-BB50-AB106FCE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B72653-AACE-4B5E-A31F-222674B1C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5B6B939-B711-4850-8A9D-9AC820BBF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16520" y="890604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8D99B2-D9F2-4777-B51A-CCBC93AD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87920" cy="35146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44280" y="4452840"/>
            <a:ext cx="519732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1.</a:t>
            </a:r>
            <a:fld id="{310A744B-805E-472A-8A55-FBAEFE6C1548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1:  File System Implementation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61920" y="166320"/>
            <a:ext cx="7724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Implement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70120" y="1076040"/>
            <a:ext cx="701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-fil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Control Blo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C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many details about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number, permissions, size,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TS stores into in master file table  using relational DB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28760" y="3110040"/>
            <a:ext cx="35100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5440" y="182160"/>
            <a:ext cx="7762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-Memory File System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8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table storing file system mounts, mount points, file syste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figure illustrates the necessary file system structures provided by the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2-3(a) refers to opening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2-3(b) refers to reading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buffers hold data blocks from secondary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returns a file handle for subsequent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read eventually copied to specified user process mem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1080" y="19800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-Memory File System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446120" y="1276200"/>
            <a:ext cx="61232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rtitions and Mount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85600" y="1108080"/>
            <a:ext cx="742284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can be a volume containing a file system 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k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st a sequence of blocks with no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 block can point to boot volume or boot loader set of blocks that contain enough code to know how to load the kernel from th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 boot management program for multi-os bo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oot parti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the OS, other partitions can hold other Oses, other file systems, or be 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ed at boo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artitions can mount automatically or ma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ount time, file system consistency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ll metadata corr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t, fix it,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add to mount table, allow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5320" y="182160"/>
            <a:ext cx="6743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153800"/>
            <a:ext cx="7170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irtual File Syste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n Unix provide an object-oriented way of implementing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S allows the same system call interface (the API) to be used for different types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s file-system generic operations from implementation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can be one of many file systems types, or network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hold inodes or network fil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ispatches operation to appropriate file system implementation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65320" y="182160"/>
            <a:ext cx="67435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 File System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69760" y="901800"/>
            <a:ext cx="70434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I is to the VFS interface, rather than any specific type of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176560" y="2211480"/>
            <a:ext cx="44924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5080" y="182160"/>
            <a:ext cx="7745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irtual File 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70120" y="1153800"/>
            <a:ext cx="75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Linux has four object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, file, superblock, d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S defines set of operations on the objects that must be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object has a pointer to a func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table has addresses of routines to implement that function on tha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open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Ope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ose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Close an already-ope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size t read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Read from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size t write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Write to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map(. . 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Memory-map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8880" y="198000"/>
            <a:ext cx="7567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y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9760" y="1153800"/>
            <a:ext cx="70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ile names with pointer to th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consum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keep ordered alphabetically via linked list or use B+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near list with hash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directory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llision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ituations where two file names hash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good if entries are fixed size, or use chained-overflow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4440" y="198000"/>
            <a:ext cx="7731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Contiguou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7640" y="1233360"/>
            <a:ext cx="707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location method refers to how disk blocks are allocated for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iguous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occupies set of contiguous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erformance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– only starting location (block #) and length (number of blocks)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 finding space for file, knowing file size, external fragmentation, need f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mpaction off-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wn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304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38448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2655720" y="2129040"/>
            <a:ext cx="1917720" cy="1382400"/>
            <a:chOff x="2655720" y="2129040"/>
            <a:chExt cx="1917720" cy="1382400"/>
          </a:xfrm>
        </p:grpSpPr>
        <p:sp>
          <p:nvSpPr>
            <p:cNvPr id="141" name="Text Box 4"/>
            <p:cNvSpPr/>
            <p:nvPr/>
          </p:nvSpPr>
          <p:spPr>
            <a:xfrm>
              <a:off x="2655720" y="2586240"/>
              <a:ext cx="126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/51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3768480" y="2129040"/>
              <a:ext cx="80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3825720" y="3145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 flipV="1">
              <a:off x="3675240" y="2436840"/>
              <a:ext cx="3092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3711600" y="2954520"/>
              <a:ext cx="2728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6" name="Rectangle 10"/>
          <p:cNvSpPr/>
          <p:nvPr/>
        </p:nvSpPr>
        <p:spPr>
          <a:xfrm>
            <a:off x="635040" y="3740040"/>
            <a:ext cx="404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lvl="1" marL="40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o be accessed = Q + starting add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0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 into block = 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975200" y="1623960"/>
            <a:ext cx="3576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7320" y="213840"/>
            <a:ext cx="804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1: File 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Spac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AFL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974880" y="1531800"/>
            <a:ext cx="702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42480" y="198000"/>
            <a:ext cx="7743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tent-Based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85600" y="1233360"/>
            <a:ext cx="696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er file systems (i.e., Veritas File System) use a modified contiguous alloca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t-based file systems allocate disk blocks in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tent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ntiguous block of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ts are allocated for fil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consists of one or more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Linke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1060200"/>
            <a:ext cx="726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nked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file a linked list o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ends at nil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lock contains pointer to nex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mpaction,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space management system called when new bloc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efficiency by clustering blocks into groups but increases 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can b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ng a block can take many I/Os and disk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460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– Linked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06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 (File Allocation Table)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of volume has table, indexed by block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a linked list, but faster on disk and cache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lock alloc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040" y="277920"/>
            <a:ext cx="8015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5772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is a linked list of disk blocks: blocks may be scattered anywhere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2679480" y="1843200"/>
            <a:ext cx="2759400" cy="1500120"/>
            <a:chOff x="2679480" y="1843200"/>
            <a:chExt cx="2759400" cy="1500120"/>
          </a:xfrm>
        </p:grpSpPr>
        <p:sp>
          <p:nvSpPr>
            <p:cNvPr id="157" name="Rectangle 5"/>
            <p:cNvSpPr/>
            <p:nvPr/>
          </p:nvSpPr>
          <p:spPr>
            <a:xfrm>
              <a:off x="3938760" y="1843200"/>
              <a:ext cx="15001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3938760" y="2274840"/>
              <a:ext cx="1500120" cy="106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2679480" y="18756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     =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Rectangle 3"/>
          <p:cNvSpPr/>
          <p:nvPr/>
        </p:nvSpPr>
        <p:spPr>
          <a:xfrm>
            <a:off x="806400" y="3110040"/>
            <a:ext cx="73706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85800" y="4933800"/>
            <a:ext cx="78375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o be accessed is the Qth block in the linked chain of blocks representing the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 into block = R +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3228480" y="3937320"/>
            <a:ext cx="1376640" cy="982080"/>
            <a:chOff x="3228480" y="3937320"/>
            <a:chExt cx="1376640" cy="982080"/>
          </a:xfrm>
        </p:grpSpPr>
        <p:sp>
          <p:nvSpPr>
            <p:cNvPr id="163" name="Text Box 5"/>
            <p:cNvSpPr/>
            <p:nvPr/>
          </p:nvSpPr>
          <p:spPr>
            <a:xfrm>
              <a:off x="3228480" y="4253040"/>
              <a:ext cx="90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/51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4243320" y="3937320"/>
              <a:ext cx="36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44040" y="455328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 flipV="1">
              <a:off x="4049640" y="4178160"/>
              <a:ext cx="2588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4057560" y="4489560"/>
              <a:ext cx="2588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21384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576520" y="1308240"/>
            <a:ext cx="4543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8640" y="213840"/>
            <a:ext cx="7597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Allocation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870200" y="1233360"/>
            <a:ext cx="54813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Indexe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de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has its ow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dex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of pointers to its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195720" y="2843280"/>
            <a:ext cx="2286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Index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Picture 4" descr="11"/>
          <p:cNvPicPr/>
          <p:nvPr/>
        </p:nvPicPr>
        <p:blipFill>
          <a:blip r:embed="rId1"/>
          <a:stretch/>
        </p:blipFill>
        <p:spPr>
          <a:xfrm>
            <a:off x="2224080" y="1230480"/>
            <a:ext cx="49672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8000" y="182160"/>
            <a:ext cx="7694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exed Alloca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370640" cy="32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ccess without external fragmentation, but have overhead of index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 in a file of maximum size of 256K bytes and block size of 512 bytes.  We need only 1 block for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2988360" y="3695760"/>
            <a:ext cx="1377000" cy="982080"/>
            <a:chOff x="2988360" y="3695760"/>
            <a:chExt cx="1377000" cy="982080"/>
          </a:xfrm>
        </p:grpSpPr>
        <p:sp>
          <p:nvSpPr>
            <p:cNvPr id="180" name="Text Box 4"/>
            <p:cNvSpPr/>
            <p:nvPr/>
          </p:nvSpPr>
          <p:spPr>
            <a:xfrm>
              <a:off x="2988360" y="4011840"/>
              <a:ext cx="90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/51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4003560" y="3695760"/>
              <a:ext cx="36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004280" y="4311720"/>
              <a:ext cx="34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 flipV="1">
              <a:off x="3809880" y="3936960"/>
              <a:ext cx="25848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3817800" y="4248000"/>
              <a:ext cx="25848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" name="Rectangle 9"/>
          <p:cNvSpPr/>
          <p:nvPr/>
        </p:nvSpPr>
        <p:spPr>
          <a:xfrm>
            <a:off x="1457280" y="4960800"/>
            <a:ext cx="70293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25440" indent="-32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displacement into index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440" indent="-325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displacement into bl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2720" y="277920"/>
            <a:ext cx="7713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7632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 in a file of unbounded length (block size of 512 wo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scheme – Link blocks of index table (no limit on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"/>
          <p:cNvGrpSpPr/>
          <p:nvPr/>
        </p:nvGrpSpPr>
        <p:grpSpPr>
          <a:xfrm>
            <a:off x="3227040" y="2750400"/>
            <a:ext cx="2364840" cy="882000"/>
            <a:chOff x="3227040" y="2750400"/>
            <a:chExt cx="2364840" cy="882000"/>
          </a:xfrm>
        </p:grpSpPr>
        <p:sp>
          <p:nvSpPr>
            <p:cNvPr id="189" name="Text Box 4"/>
            <p:cNvSpPr/>
            <p:nvPr/>
          </p:nvSpPr>
          <p:spPr>
            <a:xfrm>
              <a:off x="3227040" y="3019320"/>
              <a:ext cx="1626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 / (512 x 511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5185800" y="2750400"/>
              <a:ext cx="40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5184720" y="3263760"/>
              <a:ext cx="395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4791240" y="295740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4783320" y="319896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" name="Rectangle 9"/>
          <p:cNvSpPr/>
          <p:nvPr/>
        </p:nvSpPr>
        <p:spPr>
          <a:xfrm>
            <a:off x="992160" y="3581280"/>
            <a:ext cx="7029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lock of index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3671280" y="4101840"/>
            <a:ext cx="1625400" cy="882360"/>
            <a:chOff x="3671280" y="4101840"/>
            <a:chExt cx="1625400" cy="882360"/>
          </a:xfrm>
        </p:grpSpPr>
        <p:sp>
          <p:nvSpPr>
            <p:cNvPr id="196" name="Text Box 10"/>
            <p:cNvSpPr/>
            <p:nvPr/>
          </p:nvSpPr>
          <p:spPr>
            <a:xfrm>
              <a:off x="3671280" y="4368600"/>
              <a:ext cx="9028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/ 51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Text Box 11"/>
            <p:cNvSpPr/>
            <p:nvPr/>
          </p:nvSpPr>
          <p:spPr>
            <a:xfrm>
              <a:off x="4890600" y="4101840"/>
              <a:ext cx="40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Text Box 12"/>
            <p:cNvSpPr/>
            <p:nvPr/>
          </p:nvSpPr>
          <p:spPr>
            <a:xfrm>
              <a:off x="4889520" y="4615560"/>
              <a:ext cx="395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V="1">
              <a:off x="4495680" y="430812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4487760" y="454968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Rectangle 15"/>
          <p:cNvSpPr/>
          <p:nvPr/>
        </p:nvSpPr>
        <p:spPr>
          <a:xfrm>
            <a:off x="992160" y="507528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placement into block of index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placement into block of fi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327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details of implementing local file systems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mplementation of remot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block allocation and free-block algorithms and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54000" y="277920"/>
            <a:ext cx="77328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index (4K blocks could store 1,024 four-byte pointers in outer index -&gt; 1,048,567 data blocks and file size of up to 4G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"/>
          <p:cNvGrpSpPr/>
          <p:nvPr/>
        </p:nvGrpSpPr>
        <p:grpSpPr>
          <a:xfrm>
            <a:off x="3298320" y="2087280"/>
            <a:ext cx="2365200" cy="882360"/>
            <a:chOff x="3298320" y="2087280"/>
            <a:chExt cx="2365200" cy="882360"/>
          </a:xfrm>
        </p:grpSpPr>
        <p:sp>
          <p:nvSpPr>
            <p:cNvPr id="205" name="Text Box 4"/>
            <p:cNvSpPr/>
            <p:nvPr/>
          </p:nvSpPr>
          <p:spPr>
            <a:xfrm>
              <a:off x="3298320" y="2356200"/>
              <a:ext cx="1626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 / (512 x 512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Text Box 5"/>
            <p:cNvSpPr/>
            <p:nvPr/>
          </p:nvSpPr>
          <p:spPr>
            <a:xfrm>
              <a:off x="5257440" y="2087280"/>
              <a:ext cx="40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Text Box 6"/>
            <p:cNvSpPr/>
            <p:nvPr/>
          </p:nvSpPr>
          <p:spPr>
            <a:xfrm>
              <a:off x="5256360" y="2601000"/>
              <a:ext cx="395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 flipV="1">
              <a:off x="4862520" y="229356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8"/>
            <p:cNvSpPr/>
            <p:nvPr/>
          </p:nvSpPr>
          <p:spPr>
            <a:xfrm>
              <a:off x="4854600" y="253512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Rectangle 9"/>
          <p:cNvSpPr/>
          <p:nvPr/>
        </p:nvSpPr>
        <p:spPr>
          <a:xfrm>
            <a:off x="841320" y="341964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placement into outer-inde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3671280" y="4101840"/>
            <a:ext cx="1625400" cy="882360"/>
            <a:chOff x="3671280" y="4101840"/>
            <a:chExt cx="1625400" cy="882360"/>
          </a:xfrm>
        </p:grpSpPr>
        <p:sp>
          <p:nvSpPr>
            <p:cNvPr id="212" name="Text Box 10"/>
            <p:cNvSpPr/>
            <p:nvPr/>
          </p:nvSpPr>
          <p:spPr>
            <a:xfrm>
              <a:off x="3671280" y="4368600"/>
              <a:ext cx="9028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/ 51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4890600" y="4101840"/>
              <a:ext cx="4060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12"/>
            <p:cNvSpPr/>
            <p:nvPr/>
          </p:nvSpPr>
          <p:spPr>
            <a:xfrm>
              <a:off x="4889520" y="4615560"/>
              <a:ext cx="3952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 flipV="1">
              <a:off x="4495680" y="430812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>
              <a:off x="4487760" y="4549680"/>
              <a:ext cx="41904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7" name="Rectangle 15"/>
          <p:cNvSpPr/>
          <p:nvPr/>
        </p:nvSpPr>
        <p:spPr>
          <a:xfrm>
            <a:off x="841320" y="507528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placement into block of index 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07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placement into block of fi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28880" y="277920"/>
            <a:ext cx="76579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979560" y="1312920"/>
            <a:ext cx="698004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9960" y="230040"/>
            <a:ext cx="822960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bined Scheme:  UNIX UFS </a:t>
            </a:r>
            <a:br>
              <a:rPr sz="2800"/>
            </a:b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336760" y="1684440"/>
            <a:ext cx="5175360" cy="3887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819000" y="5788080"/>
            <a:ext cx="793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index blocks than can be addressed with 32-bit file poi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811080" y="1111320"/>
            <a:ext cx="75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K bytes per block, 32-bit addr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70120" y="1137960"/>
            <a:ext cx="715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method depends on file acces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great for sequential and 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good for sequential, not 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access type at creation -&gt; select either contiguous or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block access could require 2 index block reads then data block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 can help improve throughput, reduce CPU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1137960"/>
            <a:ext cx="747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instructions to the execution path to save one disk I/O is reaso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Core i7 Extreme Edition 990x (2011) at 3.46Ghz = 159,000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Instructions_per_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disk drive at 250 I/O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,000 MIPS / 250 = 630 million instructions during one disk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SSD drives provide 60,000 I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9,000 MIPS / 60,000 = 2.65 millions instructions during one disk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8480" y="198000"/>
            <a:ext cx="7527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-Space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19000" y="1239480"/>
            <a:ext cx="820440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-1371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maintain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ee-space 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rack available blocks/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ing term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simpli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it ve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it m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"/>
          <p:cNvGrpSpPr/>
          <p:nvPr/>
        </p:nvGrpSpPr>
        <p:grpSpPr>
          <a:xfrm>
            <a:off x="2632680" y="2447280"/>
            <a:ext cx="3874320" cy="1847880"/>
            <a:chOff x="2632680" y="2447280"/>
            <a:chExt cx="3874320" cy="1847880"/>
          </a:xfrm>
        </p:grpSpPr>
        <p:sp>
          <p:nvSpPr>
            <p:cNvPr id="231" name="Rectangle 4"/>
            <p:cNvSpPr/>
            <p:nvPr/>
          </p:nvSpPr>
          <p:spPr>
            <a:xfrm>
              <a:off x="286380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5"/>
            <p:cNvSpPr/>
            <p:nvPr/>
          </p:nvSpPr>
          <p:spPr>
            <a:xfrm>
              <a:off x="319248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352116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384948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417816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450684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4869000" y="2857320"/>
              <a:ext cx="12189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6088320" y="2857320"/>
              <a:ext cx="36036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Text Box 12"/>
            <p:cNvSpPr/>
            <p:nvPr/>
          </p:nvSpPr>
          <p:spPr>
            <a:xfrm>
              <a:off x="2887200" y="24472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Text Box 13"/>
            <p:cNvSpPr/>
            <p:nvPr/>
          </p:nvSpPr>
          <p:spPr>
            <a:xfrm>
              <a:off x="3191760" y="24472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3648960" y="2447280"/>
              <a:ext cx="309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5980680" y="2447280"/>
              <a:ext cx="52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2632680" y="3710880"/>
              <a:ext cx="81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t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 rot="16200000">
              <a:off x="3235320" y="3713400"/>
              <a:ext cx="462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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Text Box 18"/>
            <p:cNvSpPr/>
            <p:nvPr/>
          </p:nvSpPr>
          <p:spPr>
            <a:xfrm>
              <a:off x="3759480" y="3511800"/>
              <a:ext cx="2384280" cy="7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lock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fre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block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 occupie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Rectangle 19"/>
          <p:cNvSpPr/>
          <p:nvPr/>
        </p:nvSpPr>
        <p:spPr>
          <a:xfrm>
            <a:off x="1136520" y="4427640"/>
            <a:ext cx="70297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88880" indent="-488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number calc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2829240" y="4960800"/>
            <a:ext cx="3044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ber of bits per word) 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ber of 0-value words)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of first 1 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9"/>
          <p:cNvSpPr/>
          <p:nvPr/>
        </p:nvSpPr>
        <p:spPr>
          <a:xfrm>
            <a:off x="1289160" y="5832360"/>
            <a:ext cx="7029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488880" indent="-488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s have instructions to return offset within word of firs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95200" y="213840"/>
            <a:ext cx="7491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69760" y="1169640"/>
            <a:ext cx="685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map requires extra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ize = 4KB = 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ize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 (1 tera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(or 32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lusters of 4 blocks -&gt; 8MB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88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get contiguous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2880" y="182160"/>
            <a:ext cx="7783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ked Free Space List on Disk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2" name="Picture 4" descr="11"/>
          <p:cNvPicPr/>
          <p:nvPr/>
        </p:nvPicPr>
        <p:blipFill>
          <a:blip r:embed="rId1"/>
          <a:stretch/>
        </p:blipFill>
        <p:spPr>
          <a:xfrm>
            <a:off x="4646520" y="1432080"/>
            <a:ext cx="3586320" cy="420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838080" y="1028880"/>
            <a:ext cx="37306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rmAutofit/>
          </a:bodyPr>
          <a:p>
            <a:pPr marL="488880" indent="-488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88880" indent="-488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list (free li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get contiguous space easi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aste of 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traverse the entire list (if # free blocks record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74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460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06400" y="1233360"/>
            <a:ext cx="7423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linked list to store address of nex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 blocks in first free block, plus a pointer to next block that contains free-block-pointers (like this 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space is frequently contiguously used and freed,  with contiguous-allocation allocation, extents, or clu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ddress of first free block and count of following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space list then has entries containing addresses and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036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38080" y="1107720"/>
            <a:ext cx="7896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Z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meta-data I/O on very larg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data structures like bit maps could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fit in memory -&gt; thousands of I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s device space in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tasla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s and manages metas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volume can contain hundreds of metas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etaslab has associated spac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unt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records to log file rather than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of all block activity, in time order, in countin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lab activity -&gt; load space map into memory in balanced-tree structure, indexed  by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log into tha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contiguous free blocks into singl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3760" y="198000"/>
            <a:ext cx="7763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3920" y="110772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storag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rel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syste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s on secondary storage (di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user interface to storage, mapping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efficient and convenient access to disk by allowing data to be stored, located retrieved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provides in-place rewrite and 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transfers performed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ually 512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control b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torage structure consisting of information about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the physical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organized into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1120" y="16632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fficiency and 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792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dependent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llocation and directory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data kept in fi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llocation or as-needed allocation of meta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-size or varying-size data struct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5960" y="18216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fficiency and Performanc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6400" y="807840"/>
            <a:ext cx="7359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ing data and metadata close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uffer ca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parate section of main memory for frequently us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nchron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sometimes requested by apps or needed by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ffering / caching – writes must hit disk before 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nchron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rites more common, buffer-able,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ree-behi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-ah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echniques to optimize sequential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frequently slower than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e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85600" y="1233360"/>
            <a:ext cx="7675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ge cach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s pages rather than disk blocks using virtual memory techniques and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I/O uses a page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/O through the file system uses the buffer (disk)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following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7040" y="213840"/>
            <a:ext cx="7576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Without a Unified Buffer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2365200" y="1219320"/>
            <a:ext cx="49356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6240" y="21384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fied Buffer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91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nified buffer ca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the same page cache to cache both memory-mapped pages and ordinary file system I/O to avoi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ouble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which caches get priority, and what replacement algorithms to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77920"/>
            <a:ext cx="76741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Using a Unified Buffer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1924200" y="1227240"/>
            <a:ext cx="55911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077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sistency check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ares data in directory structure with data blocks on disk, and tries to fix inconsis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low and sometimes fai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ystem programs 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 up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disk to another storage device (magnetic tape, other magnetic disk, optica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 lost file or disk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tor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7920" y="22968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g Structured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56800" y="1058400"/>
            <a:ext cx="7356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 structure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urna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ile systems record each metadata update to the file system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nsactions are written to a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considered committed once it is written to the log (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to a separate device or section of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file system may not yet be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s in the log are asynchronously written to the file system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file system structures are modified, the transaction is removed from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le system crashes, all remaining transactions in the log must still be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recovery from crash, removes chance of inconsistency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58640" y="198000"/>
            <a:ext cx="7800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Sun Network File System (NFS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777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lementation and a specification of a software system for accessing remote files across LANs (or WAN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is part of the Solaris and SunOS operating systems running on Sun workstations using an unreliable datagram protocol (UDP/IP protocol and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4960" y="213840"/>
            <a:ext cx="7791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85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ed workstations viewed as a set of independent machines with independent file systems, which allows sharing among these file systems in a transpar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mote directory is mounted over a local file system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unted directory looks like an integral subtree of the local file system, replacing the subtree descending from the loc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the remote directory for the mount operation is nontransparent; the host name of the remote directory has to be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in the remote directory can then be accessed in a transpar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access-rights accreditation, potentially any file system (or directory within a file system), can be mounted remotely on top of any loc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ered Fil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252960" y="1203480"/>
            <a:ext cx="247644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407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is designed to operate in a heterogeneous environment of different machines, operating systems, and network architectures; the NFS specifications independent of thes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dependence is achieved through the use of RPC primitives built on top of an External Data Representation (XDR) protocol used between two implementation-independent inter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FS specification distinguishes between the services provided by a mount mechanism and the actual remote-file-access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46080" y="2138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e Independent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rcRect l="768" t="16484" r="794" b="16848"/>
          <a:stretch/>
        </p:blipFill>
        <p:spPr>
          <a:xfrm>
            <a:off x="1355760" y="1347840"/>
            <a:ext cx="707688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50480" y="16632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unting in NFS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801880" y="5311800"/>
            <a:ext cx="101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18640" y="5295960"/>
            <a:ext cx="2294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m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2206800" y="1306440"/>
            <a:ext cx="48862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2720" y="182160"/>
            <a:ext cx="7713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Mount Protoc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40960" y="1090080"/>
            <a:ext cx="734076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logical connection between server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operation includes name of remote directory to be mounted and name of server machine stor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request is mapped to corresponding RPC and forwarded to mount server running on server mach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 list – specifies local file systems that server exports for mounting, along with names of machines that are permitted to mount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a mount request that conforms to its export list, the server returns a file handle—a key for further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handle – a file-system identifier, and an inode number to identify the mounted directory within the exported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unt operation changes only the us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view and does not affect the serve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Protoc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53560" y="1137960"/>
            <a:ext cx="728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 set of remote procedure calls for remote file operations.  The procedures support the following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ing for a file within a direc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 set of directory e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inks and direct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fil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nd writ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servers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ach request has to provide a full set of arguments  (NFS V4 is just coming available – very different, statef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data must be committed to the serv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disk before results are returned to the client (lose advantages of ca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FS protocol does not provide concurrency-control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9120" y="311040"/>
            <a:ext cx="8047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ree Major Layers of NFS Architectur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359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file-system interface (based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, read,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s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File System (VFS) layer – distinguishes local files from remote ones, and local files are further distinguished according to their file-syste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FS activates file-system-specific operations to handle local requests according to their file-system 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he NFS protocol procedures for remote reques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service layer – bottom layer of th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the NF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6480" y="198000"/>
            <a:ext cx="782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chematic View of NFS Architecture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1608120" y="1170000"/>
            <a:ext cx="6004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31760" y="182160"/>
            <a:ext cx="7655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Path-Name Trans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061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ed by breaking the path into component names and performing a separate NFS lookup call for every pair of component name and directory vn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lookup faster, a directory name lookup cache on the clien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side holds the vnodes for remote directory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90080" y="198000"/>
            <a:ext cx="759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FS Remote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26588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ly one-to-one correspondence between regular UNIX  system calls and the NFS protocol RPCs (except opening and closing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adheres to the remote-service paradigm, but employs buffering and caching techniques for the sake of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blocks cache – when a file is opened, the kernel checks with the remote server whether to fetch or revalidate the cach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file blocks are used only if the corresponding cached attributes are up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attribute cache – the attribute cache is updated whenever new attributes arrive from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do not free delayed-write blocks until the server confirms that the data have been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4000" y="182160"/>
            <a:ext cx="773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: WAFL Fil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122120"/>
            <a:ext cx="709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on Network Applianc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r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istributed file system appl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-anywhere file layou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s up NFS, CIFS, http,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I/O optimized, writ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RAM for write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Berkeley Fast File System, with extensive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108080"/>
            <a:ext cx="74707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I/O devices at the I/O contro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commands lik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drive1, cylinder 72, track 2, sector 10, into memory location 106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s low-level hardware specific commands to hardwar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sic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command lik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block 12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lates to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nages memory buffers and caches (allocation, freeing, replace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hold data in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s hold frequently us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organization mod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s files, logical address, and physica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logical block # to physical block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free space, disk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31440" y="198000"/>
            <a:ext cx="8055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he WAFL File Layou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1" name="Picture 4" descr="11"/>
          <p:cNvPicPr/>
          <p:nvPr/>
        </p:nvPicPr>
        <p:blipFill>
          <a:blip r:embed="rId1"/>
          <a:stretch/>
        </p:blipFill>
        <p:spPr>
          <a:xfrm>
            <a:off x="1198440" y="1222200"/>
            <a:ext cx="7147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015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napshots in WAF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3" name="Picture 5" descr=""/>
          <p:cNvPicPr/>
          <p:nvPr/>
        </p:nvPicPr>
        <p:blipFill>
          <a:blip r:embed="rId1"/>
          <a:stretch/>
        </p:blipFill>
        <p:spPr>
          <a:xfrm>
            <a:off x="2743200" y="1109520"/>
            <a:ext cx="350028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2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53560" y="1122480"/>
            <a:ext cx="70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al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metadata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file name into file number, file handle, location by maintaining file control block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ing useful for reducing complexity and redundancy, but adds overhead and can decrease performanceTranslates file name into file number, file handle, location by maintaining file control block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layers can be implemented by any coding method according to OS 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060560"/>
            <a:ext cx="6870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file systems, sometimes many within an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ith its own format (CD-ROM is ISO 9660; Unix h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FS;  Windows has FAT, FAT32, NTFS as well as floppy, CD, DVD Blu-ray, Linux has more than 40 types,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tended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 and ext3 leading; plus distributed file system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nes still arriving – ZFS, GoogleFS, Oracle ASM, 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1920" y="166320"/>
            <a:ext cx="7724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70120" y="1076040"/>
            <a:ext cx="720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ystem calls at the API level, but how do we implement their fun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disk and in-mem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oot control b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 needed by system to boot OS from that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if volume contains OS, usually first block of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 control blo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uperblock, master file 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volum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blocks, # of free blocks, block size, free block pointers o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tructure organizes th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 and inode numbers, master fi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Paige, Judi</cp:lastModifiedBy>
  <cp:lastPrinted>2013-09-10T17:57:57Z</cp:lastPrinted>
  <dcterms:modified xsi:type="dcterms:W3CDTF">2014-01-22T15:50:33Z</dcterms:modified>
  <cp:revision>201</cp:revision>
  <dc:subject/>
  <dc:title>2.01</dc:title>
</cp:coreProperties>
</file>