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jpeg" ContentType="image/jpeg"/>
  <Override PartName="/ppt/media/image19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6.jpeg" ContentType="image/jpeg"/>
  <Override PartName="/ppt/media/image10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EDD6254-8A2B-47A7-A4A8-749E96794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BE9F391-9AA0-419C-94A5-E0EC071D8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003E4B-18EA-438C-83F4-2CF1DB7DD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5EB73E0-5DDD-4D4B-8C6F-3A676D240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F62A900-9BB4-4ED4-A751-45E47BF44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779960-0154-4580-9047-7A49D184C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0923892-D495-4B3B-9DC9-15D21346B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638BF1C-A09A-437C-BCFB-B5C2EA54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BD86EF-D312-4D8F-9048-C02E7D21F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3CCFC5-47DC-4A21-A1BB-67549EA58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9F50596-EEC2-42FD-9BBE-EDE17F709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E41CD0F-007B-4667-81B0-BECD0F5D6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FAAAE0-8EA4-4A70-9F05-1757770E1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B4F934-83FA-4526-8153-BC758856E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6E98100-EFC6-4304-BA98-541DC4780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BCEE84-7FC8-4344-8EA3-39C581B3A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4AD21C-5D3B-4937-A217-2616059AE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AC32F77-343B-4E24-AAA6-C69A4FF2C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39EDB1C-04B3-4A1D-8D24-BD029EF5E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9C7EFF6-20A8-4BF4-B6BC-4913043A5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E1C4CF-AB92-40AE-9C56-44009E753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D8C7C3B-3C4A-4716-9532-2762AA424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8FD6C3B-2CBE-44F5-8F1F-844C70433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7ACC028-3DE8-40B9-A241-E0DC27CC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05D1802-5F83-4A7E-9B19-103BC3328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CF4623D-3DA1-45C2-996D-3775FDF8A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348DFE3-6C6B-43B4-A3D3-B52B5CAC5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5D7995-0AF6-44F1-AF79-93E1BE67E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5159D97-A707-45E8-968D-B058EC886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5922976-D643-4E1D-8FA9-85007F8FE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2567148-02CE-4924-A6CD-3CF3A06AB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ACF0968-5609-4555-AEF5-9AA83F6F9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698A54E-D30D-41CC-B733-010CC64E0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D8DA1E-E390-4CD8-A314-11BE1BF49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3F3D7B5-10FA-435E-A711-9D12BA503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C90E1E9-B2F1-449D-A74B-D37924A45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F89EAEC-F4F6-44EF-AEF8-9314C8191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3EBBF8-1005-41E1-A5CD-7E9D94824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6B6176A-C05C-44C2-A9BE-E591C32A6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3CD5B8-09D9-4350-A3E7-B25F78EEA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E61CE10-A252-493D-A91A-650C8069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A453CC-3316-480B-995A-1778956B0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99636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2.</a:t>
            </a:r>
            <a:fld id="{ADFE8D35-4E56-4EC5-A0F8-507CA32A0CC8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3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3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17200"/>
            <a:ext cx="7772400" cy="21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12:  I/O Systems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rup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2840" y="1069560"/>
            <a:ext cx="76550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ing can happen in 3 instruction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status, logical-and to extract status bit, branch if not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be more efficient if non-zero infrequent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rupt-request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iggered by I/O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d by processor after each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rupt handler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sk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ignore or delay some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rupt ve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patch interrupt to correct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 switch at start an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nmask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chaining if more than one device at same interrup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89120" y="167760"/>
            <a:ext cx="7897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rupt-Driven I/O Cyc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2220840" y="1160640"/>
            <a:ext cx="505944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60160" y="150480"/>
            <a:ext cx="7661160" cy="56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ntel Pentium Processor Event-Vector Tabl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806480" y="1160640"/>
            <a:ext cx="58597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rupt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164960"/>
            <a:ext cx="6864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mechanism also used f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 process, crash system due to hardware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 executes when memory access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 executes vi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rigger kernel to execut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CPU systems can process interrupt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perating system designed to handl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time-sensitive processing, frequent, must be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 Memory Acces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02672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avoi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grammed I/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ne byte at a time) for large data mov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passes CPU to transfer data directly between I/O device and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writes DMA command block into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destination add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or write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of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s location of command block to DMA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mastering of DMA controller – grabs bus from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ycle steal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CPU but still much more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done, interrupts to signal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that is aware of virtual addresses can be even more efficient -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V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5080" y="236520"/>
            <a:ext cx="7711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ix Step Process to Perform DMA Transfer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1" descr="13_05.pdf"/>
          <p:cNvPicPr/>
          <p:nvPr/>
        </p:nvPicPr>
        <p:blipFill>
          <a:blip r:embed="rId1"/>
          <a:stretch/>
        </p:blipFill>
        <p:spPr>
          <a:xfrm>
            <a:off x="1801800" y="1179360"/>
            <a:ext cx="612936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4560" y="126720"/>
            <a:ext cx="7751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pplication I/O Interf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3040" y="1028520"/>
            <a:ext cx="7737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ystem calls encapsulate device behaviors in generic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-driver layer hides differences among I/O controllers from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evices talking already-implemented protocols need no extra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S has its own I/O subsystem structures and device driver frame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vary in many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haracter-stre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ndom-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nchron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asynchron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bo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r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eed of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-wr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 on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rit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Kernel I/O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843200" y="1270080"/>
            <a:ext cx="5738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6400" y="163080"/>
            <a:ext cx="777240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racteristics of I/O Devic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897200" y="1206360"/>
            <a:ext cx="59385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42720" y="167760"/>
            <a:ext cx="7689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racteristics of I/O Devic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06040" y="1233360"/>
            <a:ext cx="6999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leties of devices handled by 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ly I/O devices can be grouped by the OS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 I/O (Stre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rect manipulation of I/O device specific characteristics, usually an escape / back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octl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to send arbitrary bits to a device control register and data to device data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2880" y="155160"/>
            <a:ext cx="7783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13:  I/O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47440" y="1082520"/>
            <a:ext cx="721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/O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I/O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ing I/O Requests to Hardwar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46000" y="155160"/>
            <a:ext cx="7840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 and Character Devic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3400" y="1150560"/>
            <a:ext cx="6864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evices include disk d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include read, write, s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w I/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direct I/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ile-syste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 acces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pped to virtual memory and clusters brought via 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 devices include keyboards, mice, serial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inclu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ies layered on top allow line 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etwork Devic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796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enough from block and character to have ow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, Unix, Windows and many others includ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ock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s network protocol from network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aches vary widely (pipes, FIFOs, streams, queues, mailbo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ocks and Time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0800" y="1150560"/>
            <a:ext cx="6548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current time, elapsed time, 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resolution about 1/60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ystems provide higher-resolution ti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grammable interval timer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timings, periodic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octl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 UNIX) covers odd aspects of I/O such as clocks and ti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5480" y="18216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nblocking and Asynchronous I/O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0440" y="1150560"/>
            <a:ext cx="687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lock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cess suspended until I/O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use and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fficient for som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n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I/O call returns as much a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, data copy (buffered I/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via multi-th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quickly with count of bytes read or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d if data ready t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ynchron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cess runs while I/O exec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ubsystem signals process when I/O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wo I/O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716200" y="4981680"/>
            <a:ext cx="173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429160" y="5000760"/>
            <a:ext cx="308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550880" y="1382760"/>
            <a:ext cx="6201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85600" y="16776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ectored I/O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3040" y="1137960"/>
            <a:ext cx="687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ectored I/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ne system call to perform multiple I/O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Uni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ve(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a vector of multiple buffers to read into or writ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catter-gather method better than multiple individual I/O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context switching and system call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versions provide atom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for example worry about multiple threads changing data as reads / writes occur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6800" y="182160"/>
            <a:ext cx="7829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ernel I/O Sub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47440" y="1001520"/>
            <a:ext cx="762804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/O request ordering via per-devic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Ss try 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mplement Quality Of Service (i.e. IPQ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uff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tore data in memory while transferring between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pe with device speed mis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pe with device transfer size mis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intain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semanti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ouble buffer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wo copies of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and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 / being processed and not-full / being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-on-write can be used for efficiency in som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3760" y="140760"/>
            <a:ext cx="7763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vice-status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4" name="Picture 4" descr="13"/>
          <p:cNvPicPr/>
          <p:nvPr/>
        </p:nvPicPr>
        <p:blipFill>
          <a:blip r:embed="rId1"/>
          <a:stretch/>
        </p:blipFill>
        <p:spPr>
          <a:xfrm>
            <a:off x="1771560" y="1593720"/>
            <a:ext cx="607536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1880" y="132840"/>
            <a:ext cx="80182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un Enterprise 6000 Device-Transfer Rates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6" name="Picture 1" descr="13_10.pdf"/>
          <p:cNvPicPr/>
          <p:nvPr/>
        </p:nvPicPr>
        <p:blipFill>
          <a:blip r:embed="rId1"/>
          <a:stretch/>
        </p:blipFill>
        <p:spPr>
          <a:xfrm>
            <a:off x="2143080" y="1184400"/>
            <a:ext cx="47862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77600" y="167760"/>
            <a:ext cx="7908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ernel I/O Sub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47800" y="1164960"/>
            <a:ext cx="7601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ach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aster device holding copy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just a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to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combined with bu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old output for a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vice can serve only one request at a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Pr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reservation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vides exclusive access to a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for allocation and de-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out for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47800" y="1150560"/>
            <a:ext cx="678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structure of an operating syst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/O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rinciples of I/O hardware and its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details of the performance aspects of I/O hardware an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rror Hand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959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can recover from disk read, device unavailable, transient write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y a read or write, 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ystems more advanced – Solaris FMA, A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 error frequencies, stop using device with increasing frequency of retry-able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return an error number or code when I/O request f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error logs hold problem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6400" y="1242720"/>
            <a:ext cx="683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rocess may accidentally or purposefully attempt to disrupt normal operation via illegal I/O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/O instructions defined to be privile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must be performed via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and I/O port memory locations must be protected t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01320" y="167760"/>
            <a:ext cx="7704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 of a System Call to Perform I/O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4" name="Picture 1" descr="13_11.pdf"/>
          <p:cNvPicPr/>
          <p:nvPr/>
        </p:nvPicPr>
        <p:blipFill>
          <a:blip r:embed="rId1"/>
          <a:stretch/>
        </p:blipFill>
        <p:spPr>
          <a:xfrm>
            <a:off x="2573280" y="1214280"/>
            <a:ext cx="34336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821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Kernel Data Structur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0440" y="1150560"/>
            <a:ext cx="7026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keeps state info for I/O components, including open file tables, network connections, character devic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, many complex data structures to track buffers, memory allocation,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t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use object-oriented methods and message passing to implement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uses 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with I/O information passed from user mode into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modified as it flows through to device driver and back 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 / c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7840" y="167760"/>
            <a:ext cx="7878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X I/O Kernel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8" name="Picture 1" descr="13_12.pdf"/>
          <p:cNvPicPr/>
          <p:nvPr/>
        </p:nvPicPr>
        <p:blipFill>
          <a:blip r:embed="rId1"/>
          <a:stretch/>
        </p:blipFill>
        <p:spPr>
          <a:xfrm>
            <a:off x="1589040" y="1184400"/>
            <a:ext cx="559764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7600" y="182160"/>
            <a:ext cx="7908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wer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60040" y="1042920"/>
            <a:ext cx="711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strictly domain of I/O, but much is I/O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s and devices use electricity, generate heat, frequently require c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es can help manage and improv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 computing environments move virtual machines betwee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end up evacuating whole systems and shutting the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computing has power management as first class OS a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7600" y="182160"/>
            <a:ext cx="7908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wer Management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60400" y="1110960"/>
            <a:ext cx="701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, Android imp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-level pow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s relationship between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device tree representing physical device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bus -&gt; I/O subsystem -&gt; {flash, USB storage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driver tracks state of device, whether in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used component – turn it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devices in tree branch unused – turn off bra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ke locks – like other locks but prevent sleep of device when lock is h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collapse – put a device into very deep sl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ower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awake enough to respond to external stimuli (button press, incoming ca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19120" y="182160"/>
            <a:ext cx="7662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Requests to Hardware Oper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6040" y="1137960"/>
            <a:ext cx="6945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reading a file from disk for a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device holding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 name to device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ly read data from disk into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ata available to reques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ontrol 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5200" y="155160"/>
            <a:ext cx="7761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fe Cycle of An I/O Reques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Picture 4" descr="13"/>
          <p:cNvPicPr/>
          <p:nvPr/>
        </p:nvPicPr>
        <p:blipFill>
          <a:blip r:embed="rId1"/>
          <a:stretch/>
        </p:blipFill>
        <p:spPr>
          <a:xfrm>
            <a:off x="2951280" y="1201680"/>
            <a:ext cx="3274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8480" y="114480"/>
            <a:ext cx="7888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REA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0400" y="1150560"/>
            <a:ext cx="6864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RE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full-duplex communication channel between a user-level process and a device in Unix System V an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EAM consis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head interfaces with the us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 end interfaces with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or more STREAM modules 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odule contain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que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rit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passing is used to communicate between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low contr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to indicate available or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internally, synchronous where user process communicates with stream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20440" y="1164960"/>
            <a:ext cx="725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management is a major component of operating system design an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aspect of comput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devices vary grea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methods to control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ypes of devices frequ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s, busses, device controllers connect to various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riv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psulate devic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uniform device-access interface to I/O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27160" y="177840"/>
            <a:ext cx="7772400" cy="5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TREAMS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2948040" y="1201680"/>
            <a:ext cx="40194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erform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289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a major factor in system perform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s CPU to execute device driver, kernel I/O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 switches due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raffic especially str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3120" y="155160"/>
            <a:ext cx="7753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computer Communic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Picture 1" descr="13_15.pdf"/>
          <p:cNvPicPr/>
          <p:nvPr/>
        </p:nvPicPr>
        <p:blipFill>
          <a:blip r:embed="rId1"/>
          <a:stretch/>
        </p:blipFill>
        <p:spPr>
          <a:xfrm>
            <a:off x="2784600" y="1150920"/>
            <a:ext cx="38034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44640" y="140760"/>
            <a:ext cx="77421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roving Perform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3040" y="1110960"/>
            <a:ext cx="7069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number of context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data 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interrupts by using large transfers, smart controllers, p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marter hardwar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CPU, memory, bus, and I/O performance for highest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user-mode processes / daemons to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68400" y="1677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vice-Functionality Progress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8" name="Picture 1" descr="13_16.pdf"/>
          <p:cNvPicPr/>
          <p:nvPr/>
        </p:nvPicPr>
        <p:blipFill>
          <a:blip r:embed="rId1"/>
          <a:stretch/>
        </p:blipFill>
        <p:spPr>
          <a:xfrm>
            <a:off x="1558800" y="1328760"/>
            <a:ext cx="63216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13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1280" y="114480"/>
            <a:ext cx="79851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Hardwa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0800" y="1055520"/>
            <a:ext cx="75866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dible variety of I/O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an-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oncepts – signals from I/O devices interface with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or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connection point for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B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daisy chain</a:t>
            </a: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shared direct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s common in PCs and servers, PCI Express 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PCI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expan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b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nects relatively slow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Controll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host adap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– electronics that operate port, bus,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integr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separate circuit board (host adap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ins processor, microcode, private memory, bus controller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talk to per-device controller with bus controller, microcode, memory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8880" y="126720"/>
            <a:ext cx="7927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Typical PC Bus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Picture 1030" descr=""/>
          <p:cNvPicPr/>
          <p:nvPr/>
        </p:nvPicPr>
        <p:blipFill>
          <a:blip r:embed="rId1"/>
          <a:stretch/>
        </p:blipFill>
        <p:spPr>
          <a:xfrm>
            <a:off x="1817640" y="1228680"/>
            <a:ext cx="57276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Hardwar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20440" y="1069920"/>
            <a:ext cx="7026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instructions contro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usually have registers where device driver places commands, addresses, and data to write, or read data from registers after command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-in register, data-out register, status register, control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1-4 bytes, or FIFO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have addresses, us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/O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mory-mapped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data and command registers mapped to processor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cially for large address spaces (graph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8160" y="126720"/>
            <a:ext cx="76201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Device I/O Port Locations on PCs (partial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1909800" y="1228680"/>
            <a:ext cx="602136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ol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88480" y="1014120"/>
            <a:ext cx="773604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byte of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busy bit from status register unti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sets read or write bit and if write copies data into data-out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sets command-ready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 sets busy bit, executes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r clears busy bit, error bit, command-ready bit when transfer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i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usy-w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to wait for I/O from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able if device is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nefficient if device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witches to other tas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22716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f miss a cycle data overwritten /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Paige, Judi</cp:lastModifiedBy>
  <cp:lastPrinted>2013-09-10T17:57:57Z</cp:lastPrinted>
  <dcterms:modified xsi:type="dcterms:W3CDTF">2014-01-22T15:51:07Z</dcterms:modified>
  <cp:revision>179</cp:revision>
  <dc:subject/>
  <dc:title>2.01</dc:title>
</cp:coreProperties>
</file>