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8.wmf" ContentType="image/x-wmf"/>
  <Override PartName="/ppt/media/image3.jpeg" ContentType="image/jpe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E9C9F6-7108-4EE3-8D0B-5E25B7C6A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89E757-5A8D-465F-B78A-E55ECD5E1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040152-473D-45EC-8CB0-38E0ECA5B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12088E-F5B7-4E89-87DA-77F4C9712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7AE299-C307-423D-8FBF-D3FCC5120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6B3A5B-5EFB-4927-B1F9-2101EE1B8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1B5E1D-BB57-4CD3-B36D-24347E479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FB52E2-6A39-4033-90A8-41A5269C4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063D0A-C848-4455-A2CE-697C3D074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B8D214-273A-404D-8518-6337E7CF7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C3A3BC-38F9-41E1-8F63-165EBF5BE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7F975E-277B-45E0-859D-6B846B706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8C61DC-9F1A-4256-B465-BF1E735F3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EB6269-13E8-48BA-9D46-D0040D22F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91630E-4744-4805-A8B9-9A7D5F552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F23E23-1C2F-406A-91CE-19DC481E4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6E519E-0357-419D-8705-D41FF1593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E44571-7E9F-4753-8984-E40FB70B4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D4A722-E69F-4AC7-A289-108FEBBAB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021FB4-5031-44E7-8168-3310E7AB7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2B12F0-A41F-4E8D-B7B1-3FE412AE7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6697E9-C161-49B3-A9BA-9B592CB6E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E287E6-6B79-4474-ADF1-236ED1DD6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277AC5-2E72-4FEC-B91C-9DE96711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C43833-C2E4-4F9B-BA9B-27023D212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771180-36CD-4014-BC0C-A82A49FEE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016520" y="8926560"/>
            <a:ext cx="308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46E23D8-137C-4C40-A4D8-F5D89C830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AD9308-4A04-44F6-8CAC-17CD9646A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1B30A0-B5CB-4FA6-B94E-A7C9AB0B4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C3B2B4-D2B2-4929-BF74-83E3893B8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F8FC19-9359-4147-A2F5-55719F292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0F5C32-3480-4D55-83A3-C597B9CE7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4.</a:t>
            </a:r>
            <a:fld id="{882A9826-A16B-42BA-935A-0E6FE210CAB7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8228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4:  Threads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19160" y="163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ingle and Multithreaded Process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0" name="Picture 1" descr="4_01.pdf"/>
          <p:cNvPicPr/>
          <p:nvPr/>
        </p:nvPicPr>
        <p:blipFill>
          <a:blip r:embed="rId1"/>
          <a:stretch/>
        </p:blipFill>
        <p:spPr>
          <a:xfrm>
            <a:off x="1809720" y="1295280"/>
            <a:ext cx="6885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mdahl’s Law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9760" y="1106280"/>
            <a:ext cx="7900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performance gains from adding additional cores to an application that has both serial and paralle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erial 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ing 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if application is 75% parallel / 25% serial, moving from 1 to 2 cores results in speedup of 1.6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roaches infinity, speedup approaches 1 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portion of an application has disproportionate  effect on performance gained by adding additional 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oes the law take into account contemporary multicore syste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Screen Shot 2012-12-04 at 7.54.07 PM.png"/>
          <p:cNvPicPr/>
          <p:nvPr/>
        </p:nvPicPr>
        <p:blipFill>
          <a:blip r:embed="rId1"/>
          <a:stretch/>
        </p:blipFill>
        <p:spPr>
          <a:xfrm>
            <a:off x="2778120" y="2676600"/>
            <a:ext cx="24303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6720" y="201240"/>
            <a:ext cx="7826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ser Threads and Kernel Threa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r threa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management done by user-level threads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primary thread librar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X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Kernel threa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upported by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– virtually all general purpose operating systems,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64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threading Mode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O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o-O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ny-to-On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4654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user-level threads mapped to single kernel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hread blocking causes all to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hreads may not run in parallel on muticore system because only one may be in kernel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systems currently use thi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olaris Green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NU Portable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4_05.pdf"/>
          <p:cNvPicPr/>
          <p:nvPr/>
        </p:nvPicPr>
        <p:blipFill>
          <a:blip r:embed="rId1"/>
          <a:stretch/>
        </p:blipFill>
        <p:spPr>
          <a:xfrm>
            <a:off x="5778360" y="2340000"/>
            <a:ext cx="27432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ne-to-On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5772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user-level thread maps to kernel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user-level thread creates a kernel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currency than many-to-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hreads per process sometimes restricted due to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9 and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4_06.pdf"/>
          <p:cNvPicPr/>
          <p:nvPr/>
        </p:nvPicPr>
        <p:blipFill>
          <a:blip r:embed="rId1"/>
          <a:stretch/>
        </p:blipFill>
        <p:spPr>
          <a:xfrm>
            <a:off x="4229280" y="3048120"/>
            <a:ext cx="447516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ny-to-Many Mode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155600"/>
            <a:ext cx="444852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many user level threads to be mapped to many kern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 operating system to create a sufficient number of kern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prior to version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 wit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eadFi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4_07.pdf"/>
          <p:cNvPicPr/>
          <p:nvPr/>
        </p:nvPicPr>
        <p:blipFill>
          <a:blip r:embed="rId1"/>
          <a:stretch/>
        </p:blipFill>
        <p:spPr>
          <a:xfrm>
            <a:off x="5240160" y="2451240"/>
            <a:ext cx="31593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wo-level Mode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9880" y="1155600"/>
            <a:ext cx="64497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M:M, except that it allows a user thread to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kernel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64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8 and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4_08.pdf"/>
          <p:cNvPicPr/>
          <p:nvPr/>
        </p:nvPicPr>
        <p:blipFill>
          <a:blip r:embed="rId1"/>
          <a:stretch/>
        </p:blipFill>
        <p:spPr>
          <a:xfrm>
            <a:off x="4495680" y="1976400"/>
            <a:ext cx="3778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ad Librar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06040" y="1233360"/>
            <a:ext cx="6559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hread library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programmer with API for creating and managing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rimary ways of implem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y entirely in us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-level library supported by th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threa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06040" y="1233000"/>
            <a:ext cx="70167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provided either as user-level or kernel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SIX standard (IEEE 1003.1c) API for thread creation and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specifies behavior of the thread library, implementation is up to development of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UNIX operating systems (Solaris, Linux, Mac OS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4: Threa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ore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ing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Th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threads Examp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5" name="Picture 1" descr="Screen Shot 2012-12-04 at 8.50.38 PM.png"/>
          <p:cNvPicPr/>
          <p:nvPr/>
        </p:nvPicPr>
        <p:blipFill>
          <a:blip r:embed="rId1"/>
          <a:stretch/>
        </p:blipFill>
        <p:spPr>
          <a:xfrm>
            <a:off x="1374840" y="1090440"/>
            <a:ext cx="65293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threads Exampl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1871640" y="995400"/>
            <a:ext cx="579600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3840" y="175680"/>
            <a:ext cx="7793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Pthreads Code for Joining 10 Thread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852560" y="1447920"/>
            <a:ext cx="54388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842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  Multithreaded C Progra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1" name="Picture 1" descr="Screen Shot 2012-12-04 at 9.06.58 PM.png"/>
          <p:cNvPicPr/>
          <p:nvPr/>
        </p:nvPicPr>
        <p:blipFill>
          <a:blip r:embed="rId1"/>
          <a:stretch/>
        </p:blipFill>
        <p:spPr>
          <a:xfrm>
            <a:off x="1871640" y="939960"/>
            <a:ext cx="530712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00320" y="175680"/>
            <a:ext cx="7780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Windows  Multithreaded C Program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3" name="Picture 1" descr="Screen Shot 2012-12-04 at 9.08.08 PM.png"/>
          <p:cNvPicPr/>
          <p:nvPr/>
        </p:nvPicPr>
        <p:blipFill>
          <a:blip r:embed="rId1"/>
          <a:stretch/>
        </p:blipFill>
        <p:spPr>
          <a:xfrm>
            <a:off x="1703520" y="1197000"/>
            <a:ext cx="65228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Java Threa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0720" y="1231560"/>
            <a:ext cx="703116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threads are managed by the J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implemented using the threads model provided by underlying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threads may be created by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ing Threa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the Runnable interf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" descr="Screen Shot 2012-12-04 at 9.09.28 PM.png"/>
          <p:cNvPicPr/>
          <p:nvPr/>
        </p:nvPicPr>
        <p:blipFill>
          <a:blip r:embed="rId1"/>
          <a:stretch/>
        </p:blipFill>
        <p:spPr>
          <a:xfrm>
            <a:off x="2098800" y="2676600"/>
            <a:ext cx="37735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38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Java Multithreaded Progra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705040" y="878040"/>
            <a:ext cx="420228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97000" y="163080"/>
            <a:ext cx="7718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Java Multithreaded Program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187280" y="866880"/>
            <a:ext cx="74566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licit Thread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8896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in popularity as numbers of threads increase, program correctness more difficult with explicit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and management of threads done by compilers and run-time libraries rather than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methods expl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P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 Central 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ethods include Microsoft Threading Building Blocks (TBB),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ava.util.concurr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ad Poo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70120" y="1081080"/>
            <a:ext cx="68896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umber of threads in a pool where they awai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slightly faster to service a request with an existing thread than create a new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number of threads in the application(s) to be bound to the size of th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ing task to be performed from mechanics of creating task allows different strategies for running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Tasks could be scheduled to run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API supports thread p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" descr="Screen Shot 2012-12-04 at 9.17.42 PM.png"/>
          <p:cNvPicPr/>
          <p:nvPr/>
        </p:nvPicPr>
        <p:blipFill>
          <a:blip r:embed="rId1"/>
          <a:stretch/>
        </p:blipFill>
        <p:spPr>
          <a:xfrm>
            <a:off x="1411200" y="4743360"/>
            <a:ext cx="64389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040" y="1233360"/>
            <a:ext cx="6940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troduce the notion of a thread—a fundamental unit of CPU utilization that forms the basis of multithreaded comput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the APIs for the Pthreads, Windows, and Java threa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several strategies that provide implicit th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amine issues related to multithreaded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ver operating system support for threads in Windows and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38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nMP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6040" y="992160"/>
            <a:ext cx="356076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of compiler directives and an API for C, C++, FORTR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support for parallel programming in shared-memory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s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arallel regio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blocks of code that can run i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pragma omp parall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s many threads as there are c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pragma omp parallel for for(i=0;i&lt;N;i++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[i] = a[i] + b[i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for loop i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08640" y="1473120"/>
            <a:ext cx="44830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38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rand Central Dispatch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28800" y="1187280"/>
            <a:ext cx="72244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technology for Mac OS X and iOS opera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s to C, C++ languages, API, and run-tim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identification of parallel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s most of the details of th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is in “^{ }” -   </a:t>
            </a:r>
            <a:r>
              <a:rPr b="1" lang="ro-RO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ˆ{ printf("I am a block");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s placed in dispatch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ed to available thread in thread pool when removed from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rand Central Dispatch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28440" y="1203120"/>
            <a:ext cx="725004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ypes of dispatch que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– blocks removed in FIFO order, queue is per process,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in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s can create additional serial queues with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– removed in FIFO order but several may be removed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system wide queues with priorities low, default,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050920" y="4073400"/>
            <a:ext cx="551196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ading Issu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28440" y="11426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s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and a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cancellation of targ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or de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-loc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 Acti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7440" y="175680"/>
            <a:ext cx="7569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mantics of fork() and exec(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597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k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plicate only the calling thread or all threa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UNIXes have two versions of f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works as normal – replace the running process including al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8560" y="189000"/>
            <a:ext cx="75182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ignal Hand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6560" y="1145880"/>
            <a:ext cx="670428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igna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used in UNIX systems to notify a process that a particular event has occur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ignal handler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process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s generated by particular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s delivered to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s handled by one of two signal hand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341280">
              <a:spcBef>
                <a:spcPts val="788"/>
              </a:spcBef>
              <a:buClr>
                <a:srgbClr val="009900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341280">
              <a:spcBef>
                <a:spcPts val="788"/>
              </a:spcBef>
              <a:buClr>
                <a:srgbClr val="009900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signal h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fault hand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kernel runs when handling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  <a:ea typeface="MS PGothic"/>
              </a:rPr>
              <a:t>User-defined signal hand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an override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or single-threaded, signal delivered 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68560" y="189000"/>
            <a:ext cx="75182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ignal Handl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6560" y="1145880"/>
            <a:ext cx="674244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hould a signal be delivered for multi-thread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the signal to the thread to which the signal a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the signal to every thread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the signal to certain threads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3794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a specific thread to receive all signals for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80720" y="189000"/>
            <a:ext cx="7605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ad Cancell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87040" y="1145880"/>
            <a:ext cx="7405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ng a thread before it has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to be canceled i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arg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general approach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 cance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inates the target thread immedi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rred cance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the target thread to periodically check if it should be canc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 code to create and cancel a thre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2368440" y="4017960"/>
            <a:ext cx="3878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720" y="175680"/>
            <a:ext cx="7605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ad Cancella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8720" y="1056960"/>
            <a:ext cx="72090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king thread cancellation requests cancellation, but actual cancellation depends on threa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read has cancellation disabled, cancellation remains pending until thread enable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type is de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llation only occurs when thread reache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ancellation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thread_testcance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eanup hand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Linux systems, thread cancellation is handled through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144880" y="1825560"/>
            <a:ext cx="505440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ad-Local Storag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92784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hread-local stor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llows each thread to have its own copy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when you do not have control over the thread creation process (i.e., when using a thread po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rom loc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variables visible only during single function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S visible across function inv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S is unique to each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06040" y="1233360"/>
            <a:ext cx="6813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modern applications are multithre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run withi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sks with the application can be implemented by separate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tc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ll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a network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reation is heavy-weight while thread creation is light-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implify code, increase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s are generally multithre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60640" y="163080"/>
            <a:ext cx="7526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cheduler Activ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6400" y="1017360"/>
            <a:ext cx="531648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M:M and Two-level models require communication to maintain the appropriate number of kernel threads allocated to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use an intermediate data structure between user and kernel threads –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ightweight proc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W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s to be a virtual processor on which process can schedule user thread to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LWP attached to kernel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LWPs to cre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 activations provid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pcall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 communication mechanism from the kernel to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pcall hand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hread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mmunication allows an application to maintain the correct number kern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427800" y="1547640"/>
            <a:ext cx="232740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25640" y="163080"/>
            <a:ext cx="76737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Examp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4692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 Threa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52480" y="1130040"/>
            <a:ext cx="69962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implements the Windows API – primary API for Win 98, Win NT, Win 2000, Win XP, and Wi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the one-to-one mapping, kernel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hread co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read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set representing state of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user and kernel stacks for when thread runs in user mode or 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data storage area used by run-time libraries and dynamic link libraries (D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gister set, stacks, and private storage area are known as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text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 Thread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560" y="1206000"/>
            <a:ext cx="684396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mary data structures of a thread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READ (executive thread block) – includes pointer to process to which thread belongs and to KTHREAD, in kernel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THREAD (kernel thread block) – scheduling and synchronization info, kernel-mode stack, pointer to TEB, in kernel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B (thread environment block) – thread id, user-mode stack, thread-local storage, in us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72960" y="163080"/>
            <a:ext cx="7692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 Threads Data Structur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0" name="Picture 1" descr="4_14.pdf"/>
          <p:cNvPicPr/>
          <p:nvPr/>
        </p:nvPicPr>
        <p:blipFill>
          <a:blip r:embed="rId1"/>
          <a:stretch/>
        </p:blipFill>
        <p:spPr>
          <a:xfrm>
            <a:off x="2832120" y="1271520"/>
            <a:ext cx="406548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nux Threa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7680" y="1092240"/>
            <a:ext cx="7173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refers to them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ther th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creation is done through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one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one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a child task to share the address space of the parent task (pro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s control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ask_stru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points to process data structures (shared or u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4_15.pdf"/>
          <p:cNvPicPr/>
          <p:nvPr/>
        </p:nvPicPr>
        <p:blipFill>
          <a:blip r:embed="rId1"/>
          <a:stretch/>
        </p:blipFill>
        <p:spPr>
          <a:xfrm>
            <a:off x="2468520" y="2992320"/>
            <a:ext cx="37879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488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4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85960" y="163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threaded Server Archite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8" name="Picture 1" descr="4_02.pdf"/>
          <p:cNvPicPr/>
          <p:nvPr/>
        </p:nvPicPr>
        <p:blipFill>
          <a:blip r:embed="rId1"/>
          <a:stretch/>
        </p:blipFill>
        <p:spPr>
          <a:xfrm>
            <a:off x="1481040" y="1442880"/>
            <a:ext cx="63975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61480" y="415440"/>
            <a:ext cx="6951960" cy="31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enefi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207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venes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allow continued execution if part of process is blocked, especially important for user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Sharing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share resources of process, easier than shared memory or message p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y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er than process creation, thread switching lower overhead than contex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ability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an take advantage of multiprocessor architectu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12320" y="175680"/>
            <a:ext cx="7674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core Programm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82360" y="1207800"/>
            <a:ext cx="772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ulti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ultiprocess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s putting pressure on programmers, challenge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spl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 and 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alle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lies a system can perform more than one task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pports more than one task making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processor / core, scheduler providing concur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12320" y="175680"/>
            <a:ext cx="7674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core Programm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06040" y="1233360"/>
            <a:ext cx="7156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paralle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ata parallel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istributes subsets of the same data across multiple cores, same operation on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ask parallelis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distributing threads across cores, each thread performing uniqu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# of threads grows, so does architectural support for th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s have cores as well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rdware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Oracle SPARC T4 with 8 cores, and 8 hardware threads per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6440" y="297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ncurrency vs. Parallelis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16352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 execution on single-core syste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ism on a multi-core syste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1" descr="4_03.pdf"/>
          <p:cNvPicPr/>
          <p:nvPr/>
        </p:nvPicPr>
        <p:blipFill>
          <a:blip r:embed="rId1"/>
          <a:stretch/>
        </p:blipFill>
        <p:spPr>
          <a:xfrm>
            <a:off x="1739880" y="1814400"/>
            <a:ext cx="6259680" cy="784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4_04.pdf"/>
          <p:cNvPicPr/>
          <p:nvPr/>
        </p:nvPicPr>
        <p:blipFill>
          <a:blip r:embed="rId2"/>
          <a:stretch/>
        </p:blipFill>
        <p:spPr>
          <a:xfrm>
            <a:off x="2695680" y="3772080"/>
            <a:ext cx="39463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Paige, Judi</cp:lastModifiedBy>
  <cp:lastPrinted>2013-09-10T17:57:57Z</cp:lastPrinted>
  <dcterms:modified xsi:type="dcterms:W3CDTF">2014-01-22T15:47:14Z</dcterms:modified>
  <cp:revision>189</cp:revision>
  <dc:subject/>
  <dc:title>2.01</dc:title>
</cp:coreProperties>
</file>