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4.png" ContentType="image/png"/>
  <Override PartName="/ppt/media/image9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401652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00240" y="704520"/>
            <a:ext cx="46879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4B82BDE-E738-4D22-9AA6-D3B9087E0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C49541C-F7A3-4F55-B0A6-553CDC318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40C2D83-1B6D-4534-A187-B8EDE2F88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8F3831C-93DE-48C2-AFD4-05B807509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138BE15-3507-489E-BFF0-D7A53A91A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254A007-7C07-4787-8A93-4F5FAE5CA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6AE71A1-A402-4C9B-B7BC-444A94A99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0BBCD2E-6E2C-4F6D-90C8-63F2F4124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95A52F8-E0DD-495F-966D-723CEA80E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C9E63B3-BAFF-4692-B61F-A26D771EE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032FE48-AB95-4862-B0DB-8051F240B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5BBCD04-FD25-42C6-920A-05FFFD094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16F7E13-3CD1-4599-9981-5161EB74F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94019D6-9CA1-4F4B-A467-CD212F50D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C429737-5E62-4536-AC58-C80807830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68FD0DD-7572-4423-9C27-B47FCD45C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B0DC4EA-AC5A-4426-AC57-75393FDDF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00339DC-47C7-49F5-93B4-2B7036189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8389ABE-73FE-40DA-9902-B0B6DB3E1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15D4965-E196-4876-AE77-61B3D6399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EE99B41-14E1-4655-A954-D89812EB9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F8CD1CB-BCDF-4BB7-84B7-89D5FAA7F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6C3AFAA-ECBA-43E6-B476-11816276F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D22B693-148C-4FA6-BE6E-CB302F524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B3C1756-E629-4008-AD59-248FCBFE9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70A820C-EED1-4F95-85EC-21F04D395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544F2F0-6EF5-4E81-B4D7-1BBA686A6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E744B2B-587F-4813-AD97-D81B48D07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728DA28-5E4A-4071-BFF3-A114E0F1B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07A1F85-04F9-492D-A3D6-DD17F08CA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818606A-C7A7-4F60-B0AD-ABE8776A6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F79FED1-1544-4374-988C-7271054EF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AF32968-BD1E-4D8C-8A37-6751BC4E8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3F65892-2D1B-4EFD-9340-8F8D9F0B6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545E223-9B42-4AEE-872C-58B71E854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785FAA3-30EA-4713-B462-12A6EE2CD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08AAD0C-F626-4DDD-9E04-92B459C32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E665DEF-79A4-4DAE-9DC3-079B57541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3B15A65-1D43-4536-9EE9-46277D3E0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DF72849-919D-4CF7-A55D-B6CA22103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888E4F7-69B6-4B7B-8E77-A2D5002F0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557CB1C-068C-4389-AA19-74DCD34BD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4E15C05-DD47-47DB-9064-3B27E6018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E46CA57-6DAC-4651-9544-AE4E63A76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EA03C18-6F30-4B9B-BC54-4F8CE7AA8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3BFC1A3-7BED-4EFE-8ACE-8210D8DBD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E6228DA-C848-4603-B545-4AF5E33F0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F7DED0D-24FF-4517-A0B2-FFF9EE96F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99636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14.</a:t>
            </a:r>
            <a:fld id="{AE882276-BC8A-4901-B52B-23CEFEA61B39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253080" y="6621480"/>
            <a:ext cx="330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Essentials – 2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4320" y="6613560"/>
            <a:ext cx="330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 Essentials – 2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0680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060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Chapter 14:  Security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41280" y="114480"/>
            <a:ext cx="74455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gram Threat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74440" y="1069920"/>
            <a:ext cx="7040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ogic Bo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that initiates a security incident under certain circum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ta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uffer Over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s a bug in a program (overflow either the stack or memory buff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 to check bounds on inputs, 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past arguments on the stack into the return address on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routine returns from call, returns to hacked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d to code loaded onto stack that executes malicious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uthorized user or privilege esc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50720" y="155160"/>
            <a:ext cx="7662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 Program with Buffer-overflow Condition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83760" y="1164960"/>
            <a:ext cx="6386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include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io.h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define BUFFER SIZE 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int argc, char *argv[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buffer[BUFFER SIZE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rgc &lt;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cpy(buffer,argv[1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40960" y="140760"/>
            <a:ext cx="7899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ayout of Typical Stack Fram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992240" y="1284120"/>
            <a:ext cx="5942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194760"/>
            <a:ext cx="770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odified Shell Co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84120" y="1164960"/>
            <a:ext cx="6126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int argc, char *argv[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vp(</a:t>
            </a: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‘‘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\bin\sh</a:t>
            </a: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’’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‘‘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\bin \sh</a:t>
            </a:r>
            <a:r>
              <a:rPr b="0" lang="ja-JP" sz="1800" spc="-1" strike="noStrike">
                <a:solidFill>
                  <a:srgbClr val="000000"/>
                </a:solidFill>
                <a:latin typeface="Courier New"/>
              </a:rPr>
              <a:t>’’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NUL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3120" y="167760"/>
            <a:ext cx="7753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Hypothetical Stack Fram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433600" y="5119560"/>
            <a:ext cx="2025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atta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769000" y="5148360"/>
            <a:ext cx="205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atta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2494080" y="1173240"/>
            <a:ext cx="478296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72640" y="155160"/>
            <a:ext cx="7813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Great Programming Required?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60040" y="1110960"/>
            <a:ext cx="7218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first step of determining the bug, and second step of writing exploit code, 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cript kidd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un pre-written exploit code to attack a give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k code can get a shell with the processe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wn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per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open a network port, delete files, download a program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bug, attack can be executed across a network using allowed connections, bypassing fire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overflow can be disabled by disabling stack execution or adding bit to page table to indicate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executabl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in SPARC and x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still have security explo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20240" y="155160"/>
            <a:ext cx="76662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gram Threat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85520" y="1150560"/>
            <a:ext cx="8481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ir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fragment embedded in legitimat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-replicating, designed to infect other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specific to CPU architecture, operating system,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borne via email or as a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Basic Macro to reformat hard 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 AutoOpe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m o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FS = CreateObject(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’’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ripting.FileSystemObject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’’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s = Shell(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’’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:command.com /k format c: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</a:rPr>
              <a:t>’’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vbHi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6640" y="140760"/>
            <a:ext cx="7850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gram Threat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60040" y="1123560"/>
            <a:ext cx="7559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irus dropper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s virus onto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tegories of viruses, literally many thousands of vir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/ parasi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t /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morphic to avoid having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irus 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n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art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m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86960" y="126720"/>
            <a:ext cx="7899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 Boot-sector Computer Viru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2279520" y="1093680"/>
            <a:ext cx="485136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40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e Threat Continu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74440" y="1082520"/>
            <a:ext cx="7723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ks still common, still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ks moved over time from science experiments to tools of organized 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ing specific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botnets to use as tool for spam and DDOS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Keystroke logg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rab passwords, credit card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Windows the target for most attac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one is an admini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censing requir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onocul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idered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94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hapter 14:  Securit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60040" y="11347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curity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Thre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and Network Thre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yptography as a Security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ing Security Def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walling to Protect Systems and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-Security Class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ample: Windows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140760"/>
            <a:ext cx="7859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ystem and Network Threa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47440" y="1137960"/>
            <a:ext cx="731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ystems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ther tha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cure by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ttack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harder to use, more knowledge needed to admin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threats harder to detect, pr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systems w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difficult to have a shared secret on which to bas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hysical limits once system attached to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on network with system attached to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determining location of connecting system diffic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address is only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04720" y="167760"/>
            <a:ext cx="7513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System and Network Threats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3400" y="1069920"/>
            <a:ext cx="7478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us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pawn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; standalon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w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ed UNIX networking features (remote access) and bug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ed trust-relationship mechanism us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s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cess friendly systems without use of 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Grappling hook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uploaded main worm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 lines of C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ked system then uploaded main code, tried to attack connect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tried to break into other users accounts on local system via password gu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arget system already infected, abort, except for every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4880" y="155160"/>
            <a:ext cx="7621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e Morris Internet Wor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4" name="Picture 1031" descr=""/>
          <p:cNvPicPr/>
          <p:nvPr/>
        </p:nvPicPr>
        <p:blipFill>
          <a:blip r:embed="rId1"/>
          <a:stretch/>
        </p:blipFill>
        <p:spPr>
          <a:xfrm>
            <a:off x="1631880" y="1255680"/>
            <a:ext cx="65008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126720"/>
            <a:ext cx="7799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System and Network Threats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88480" y="1096560"/>
            <a:ext cx="687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 sc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attempt to connect to a range of ports on one or a range of IP 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ion of answering service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ion of OS and version running 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ma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s all ports in a given IP range for a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ess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database of protocols and bugs (and exploits) to apply against 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tly launched from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zombie syst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crease trace-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82800" y="126720"/>
            <a:ext cx="770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System and Network Threats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74800" y="1137960"/>
            <a:ext cx="7108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ial of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oad the targeted computer preventing it from doing any usefu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istributed denial-of-ser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ome from multiple sites a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start of the IP-connection handshake (SY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started-connections can the OS hand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raffic to a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an you tell the difference between being a target and being really popul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idental – CS students writing ba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k(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poseful – extortion, 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1600" y="1144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Sobig.F Worm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58960" y="1055160"/>
            <a:ext cx="738504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modern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guised as a photo uploaded to adult newsgroup via account created with stolen credit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ed Window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own SMTP engine to mail itself as attachment to everyone in infect syste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address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guised with innocuous subject lines, looking like it came from someone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hment was executable program that created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INPPR23.EX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efault Windows system directo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the Windows 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HKCU\SOFTWARE\Microsoft\Windows\CurrentVersion\Run]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"TrayX" = %windir%\winppr32.exe /sin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HKLM\SOFTWARE\Microsoft\Windows\CurrentVersion\Run]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"TrayX" = %windir%\winppr32.exe /si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55720" y="140760"/>
            <a:ext cx="79675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ryptography as a Security Tool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60400" y="1055520"/>
            <a:ext cx="7042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est security tool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to a given computer, source and destination of messages can be known and pro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creates, manages, protects process IDs, communication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and destination of messages on network cannot be trusted without crypt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network – IP addre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unauthorized host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 / Internet – how to establish authentic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via IP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ryptograph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20440" y="1137960"/>
            <a:ext cx="6589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s to constrain potential sender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/ or receiver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stin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secrets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ke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ation of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pt only by certain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 relationship between sender and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40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ncryp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06400" y="1071360"/>
            <a:ext cx="708192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s the set of possible receivers of a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ncryp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gorithm consis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ciphertexts (encrypted mess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That is, for 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function for generating ciphertexts from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an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be efficiently computabl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That is, for 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function for generating messages from cipher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an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be efficiently computabl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40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Encryption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60040" y="1071360"/>
            <a:ext cx="667404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ncryption algorithm must provide this essential property: Given a ciphertext 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, a computer can compute m such that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) = c only if it posses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a computer hold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decrypt ciphertexts to the plaintexts used to produce them, but a computer not hold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decrypt cipher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ciphertexts are generally exposed (for example, sent on the network), it is important that it be infeasible to deriv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the cipher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6877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security threats and at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ain the fundamentals of encryption, authentication, and ha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amine the uses of cryptography in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the various countermeasures to security at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0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ymmetric Encryp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4800" y="1042920"/>
            <a:ext cx="7696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key used to encrypt and decry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ust be kept secr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 was most commonly used symmetric block-encryption algorithm (created by US Gov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rypts a block of data at a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s too short so now considered insec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ple-DES considered more sec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gorithm used 3 times using 2 or 3 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xamp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1 NIST adopted new block cipher - Advanced Encryption Standard (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A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s of 128, 192, or 256 bits, works on 128 bit b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C4 is most common symmetric stream cipher, but known to have vulnera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rypts/decrypts a stream of bytes (i.e., wireless transmiss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is a input to pseudo-random-bit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1024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s an infinite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keystr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" descr="Screen Shot 2013-02-18 at 5.34.27 PM.png"/>
          <p:cNvPicPr/>
          <p:nvPr/>
        </p:nvPicPr>
        <p:blipFill>
          <a:blip r:embed="rId1"/>
          <a:stretch/>
        </p:blipFill>
        <p:spPr>
          <a:xfrm>
            <a:off x="3078000" y="3608280"/>
            <a:ext cx="155736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7480" y="177840"/>
            <a:ext cx="8053560" cy="44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Secure Communication over Insecure Medium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2193840" y="1065240"/>
            <a:ext cx="50054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8600" y="155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Asymmetric Encryption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3040" y="1082520"/>
            <a:ext cx="6837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ublic-key encryp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each user having two ke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ublic ke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published key used to encryp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ivate ke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key known only to individual user used to decryp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n encryption scheme that can be made public without making it easy to figure out the decryption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common i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ock cip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algorithm for testing whether or not a number is p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efficient algorithm is know for finding the prime factors of a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2720" y="140760"/>
            <a:ext cx="7713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Asymmetric Encryption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8480" y="1082520"/>
            <a:ext cx="6877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ly, it is computationally infeasible to deriv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d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s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ed not be kept secret and can be widely dissemin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ublic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ivat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product of two large, randomly chosen prime number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 exampl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512 bits ea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on algorithm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e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12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isfi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1)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1)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cryption algorithm is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d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12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1480" y="155160"/>
            <a:ext cx="7440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Asymmetric Encryption Example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01800" y="1064880"/>
            <a:ext cx="702792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. mak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7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then calcul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7∗13 = 91 and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1)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1) = 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next 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ly prime to 72 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, yielding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, we calcul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 72 = 1, yielding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ow have our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ke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,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5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ke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d,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9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ng the message 69 with the public key results in the cyphertext 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phertext can be decoded with the privat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key can be distributed in cleartext to anyone who wants to communicate with holder of public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87280" y="70920"/>
            <a:ext cx="7956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Encryption using RSA Asymmetric Cryptography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3427560" y="1012680"/>
            <a:ext cx="264456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1360" y="114480"/>
            <a:ext cx="79754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ryptography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47800" y="1164960"/>
            <a:ext cx="667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symmetric cryptography based on transformations, asymmetric based on mathematical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ic much more compute int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not used for bulk data encry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40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uthenti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47440" y="996840"/>
            <a:ext cx="7723080" cy="52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ing set of potential senders of a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mentary to 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can prove message un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uthent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, for 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function for generating authenticators from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an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be efficiently computabl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{true, false}). That is, for 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function for verifying authenticators on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an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be efficiently computabl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44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Authentication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88480" y="1055160"/>
            <a:ext cx="6767640" cy="48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messa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 computer can generate an authenticat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,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ly if it posses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computer hold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generate authenticators on messages so that any other computer possess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verify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not hold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not generate authenticators on messages that can be verified us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authenticators are generally exposed (for example, they are sent on the network with the messages themselves), it must not be feasible to deriv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the authent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ly, if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,a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we know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not been modified and that send of message h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sh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only one entity, know where the message origin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31480" y="114480"/>
            <a:ext cx="78692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uthentication – Hash Function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60400" y="1064880"/>
            <a:ext cx="725976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s of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small, fixed-size block of dat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essage dig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hash valu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h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collision resistant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t be infeasible to find a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≠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 tha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essage has not been modi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message-digest functions includ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D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produces a 128-bit hash, an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HA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outputs a 160-bit 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useful as authent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(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an be sent with a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i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known someone could modif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recomput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(m’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modification not de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must authenticat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(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94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e Security Proble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47800" y="1165320"/>
            <a:ext cx="712296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c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resources used and accessed as intended under all circum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chiev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trud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rack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ttempt to breach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hre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potential security vi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tt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ttempt to breach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k can be accidental or malic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to protect against accidental than malicious mis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uthentication - MAC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47440" y="1164960"/>
            <a:ext cx="7026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ic encryption used i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essage-authentication co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uthentication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yptographic checksum generated from message using secret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ecurely authenticate short val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used to authentic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(m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is collision resistant, then obtain a way to securely authenticate long message by hashing them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eeded to compute bo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o anyone able to compute one can compute the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6160" y="182160"/>
            <a:ext cx="7694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uthentication – Digital Signa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3400" y="1028880"/>
            <a:ext cx="7081920" cy="52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asymmetric keys and digital signature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ors produced ar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igital sig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useful –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y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verify authenticity of a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digital-signature algorithm, computationally infeasible to deriv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one-wa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public key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privat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RSA digital-signature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the RSA encryption algorithm, but the key use is rever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signature of messa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12000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 is a pair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, 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product of two large, randomly chosen prime number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ication algorithm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,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10000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isfi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 1)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 1)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" descr="Screen Shot 2013-02-18 at 6.47.48 PM.png"/>
          <p:cNvPicPr/>
          <p:nvPr/>
        </p:nvPicPr>
        <p:blipFill>
          <a:blip r:embed="rId1"/>
          <a:stretch/>
        </p:blipFill>
        <p:spPr>
          <a:xfrm>
            <a:off x="3857760" y="5391000"/>
            <a:ext cx="12672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2720" y="99720"/>
            <a:ext cx="7713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uthentication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60040" y="1082520"/>
            <a:ext cx="716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authentication if a subset of encryp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computations (except for RSA digital signa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or usually shorter than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want authentication but not confidenti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ed patches et 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basis 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non-repu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4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Key Distribu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60040" y="1164960"/>
            <a:ext cx="6359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of symmetric key is huge 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do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out-of-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ic keys can proliferate – stored o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key 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asymmetric key distribution needs care – man-in-the-middle at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2240" y="182160"/>
            <a:ext cx="78789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gital Certificat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01440" y="1110960"/>
            <a:ext cx="6700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of of who or what owns a public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key digitally signed a trusted 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ed party receives proof of identification from entity and certifies that public key belongs to 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ertific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uth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trusted party – their public keys included with web browser dis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vouch for other authorities via digitally signing their keys, and s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75840" y="150480"/>
            <a:ext cx="7869240" cy="48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Man-in-the-middle Attack on Asymmetric Cryptography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2" name="Picture 1" descr=""/>
          <p:cNvPicPr/>
          <p:nvPr/>
        </p:nvPicPr>
        <p:blipFill>
          <a:blip r:embed="rId1"/>
          <a:stretch/>
        </p:blipFill>
        <p:spPr>
          <a:xfrm>
            <a:off x="2427120" y="957240"/>
            <a:ext cx="444348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60400" y="155160"/>
            <a:ext cx="7826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mplementation of Cryptograph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06400" y="1233360"/>
            <a:ext cx="3586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done at variou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ay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ISO Referenc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L at the Transport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 layer is typically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IPS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IK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key ex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s of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Virtual Private Networks (VP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not just at lowest lev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need more knowledge than available at low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e. User authent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e. e-mail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Screen shot 2011-04-30 at 8.45.55 PM.png"/>
          <p:cNvPicPr/>
          <p:nvPr/>
        </p:nvPicPr>
        <p:blipFill>
          <a:blip r:embed="rId1"/>
          <a:stretch/>
        </p:blipFill>
        <p:spPr>
          <a:xfrm>
            <a:off x="4341960" y="906480"/>
            <a:ext cx="1977840" cy="5875200"/>
          </a:xfrm>
          <a:prstGeom prst="rect">
            <a:avLst/>
          </a:prstGeom>
          <a:ln w="0">
            <a:noFill/>
          </a:ln>
        </p:spPr>
      </p:pic>
      <p:sp>
        <p:nvSpPr>
          <p:cNvPr id="196" name="TextBox 4"/>
          <p:cNvSpPr/>
          <p:nvPr/>
        </p:nvSpPr>
        <p:spPr>
          <a:xfrm>
            <a:off x="6338880" y="4497480"/>
            <a:ext cx="20509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: http://en.wikipedia.org/wiki/OSI_model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5" descr="Screen shot 2011-04-30 at 8.46.34 PM.png"/>
          <p:cNvPicPr/>
          <p:nvPr/>
        </p:nvPicPr>
        <p:blipFill>
          <a:blip r:embed="rId2"/>
          <a:stretch/>
        </p:blipFill>
        <p:spPr>
          <a:xfrm>
            <a:off x="6451560" y="979560"/>
            <a:ext cx="261324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ncryption Example - SSL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5840" y="1098360"/>
            <a:ext cx="731376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of cryptography at one layer of the ISO network model (the transport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L – Secure Socket Layer (also called T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yptographic protocol that limits two computers to only exchange messages with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complicated, with many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between web servers and browsers for secure communication (credit card numb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rver is verified with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ertific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ring client is talking to correct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ic cryptography used to establish a secur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ssion key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mmetric encryption) for bulk of communication during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between each computer then uses symmetric key crypt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details in text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User Authentication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7800" y="1096560"/>
            <a:ext cx="7408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ucial to identify user correctly, as protection systems depend on user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identity most often established through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password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an be considered a special case of either keys or capa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words must be kept secr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quent change of pass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y to avoid repe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guessabl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ss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 all invalid access attempts (but not the passwords themselv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authorized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words may also either be encrypted or allowed to be used only o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encrypting passwords solve the exposure probl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ght solve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sniff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shoulder surf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Trojan horse keystroke lo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are passwords stored at authenticating si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asswords 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06040" y="1077840"/>
            <a:ext cx="785988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rypt to avoid having to keep secr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keep secret anyway (i.e. Unix uses superuser-only readably fil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shado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algorithm easy to compute but difficult to i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encrypted password stored, never decry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void the same password being encrypted to the same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time pass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a function based on a seed to compute a password, both user and comp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are device / calculator / key fob to generate the pass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s very frequ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metr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physical attribute (fingerprint, hand 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factor authent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two or more factors for authent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e. USB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gl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biometric measure, and pass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1040" y="194760"/>
            <a:ext cx="8015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ecurity Violation Categori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60400" y="1164960"/>
            <a:ext cx="6701040" cy="50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ch of confidenti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uthorized reading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ch of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uthorized modification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ch of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uthorized destruction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ft of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uthorized use of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ial of service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on of legitimate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34920" y="182160"/>
            <a:ext cx="7956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mplementing Security Defens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47800" y="1055520"/>
            <a:ext cx="775008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Defense in depth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most common security theory – multiple layers of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Security polic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bes what is being sec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ulnerability assessment compares real state of system / network compared to security 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usion detection endeavors to detect attempted or successful intru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Signature-based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ion spots known bad patte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Anomaly detection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ots differences from normal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detect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zero-day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False-positives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false-negatives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us 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rching all programs or programs at execution for known virus patte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run in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sandbo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o can’t damag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diting, accounting, and logging of all or specific system or network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actice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safe comput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avoid sources of infection, download from only “good” sites,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190080"/>
            <a:ext cx="8229600" cy="47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Firewalling to Protect Systems and Networks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60040" y="1069560"/>
            <a:ext cx="73278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twork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irew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laced between trusted and untrusted 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ewall limits network access between these two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curity dom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tunneled or spoof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neling allows disallowed protocol to travel within allowed protocol (i.e., telnet inside of HT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wall rules typically based on host name or IP address which can be spoof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ersonal firewall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software layer on given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monitor / limit traffic to and from the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pplication proxy firewall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s application protocol and can control them (i.e., SM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ystem-call firewall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s all important system calls and apply rules to them (i.e., this program can execute that system c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63520" y="179280"/>
            <a:ext cx="8034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Network Security Through  Domain Separation Via Firewall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9" name="Picture 4" descr="15"/>
          <p:cNvPicPr/>
          <p:nvPr/>
        </p:nvPicPr>
        <p:blipFill>
          <a:blip r:embed="rId1"/>
          <a:stretch/>
        </p:blipFill>
        <p:spPr>
          <a:xfrm>
            <a:off x="1487520" y="1228680"/>
            <a:ext cx="6835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5800" y="11448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omputer Security Classifications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8480" y="1055520"/>
            <a:ext cx="699948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Department of Defense outlines four divisions of computer security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inimal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discretionary protection through au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d in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fies cooperating users with the same level of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s user-level ac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ll the properties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owever each object may have unique sensitivity lab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d in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Uses formal design and verification techniques to ensure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84200" y="167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Example: Windows 7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560" y="1064880"/>
            <a:ext cx="70074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 is based on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user accou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user has unique security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n to ID creates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security access to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security ID for user, for us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groups, and special privile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ry process gets copy of to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checks token to determine if access allowed or den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a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subj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odel to ensure access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ubject tracks and manages permissions for each program that a user r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object in Windows has a security attribute defined by a security descrip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xample, a file has a security descriptor that indicates the access permissions for all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84200" y="167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Example: Windows 7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95320" y="1064880"/>
            <a:ext cx="685656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 added mandatory integrity controls – assign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tegrity labe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ach securable object and su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must have access requested in discretionary access-control list to gain access to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attributes described by security descri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ner ID, group security ID, discretionary access-control list, system access-control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End of Chapter 14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1600" y="194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ecurity Violation Method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47800" y="796680"/>
            <a:ext cx="7122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asquerad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reach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uthent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ending to be an authorized user to escalate privile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play at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is or with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essage mod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an-in-the-middle at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uder sits in data flow, masquerading as sender to receiver and vice 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ssion hij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ept an already-established session to bypass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1120" y="182160"/>
            <a:ext cx="80056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tandard Security Attack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2589120" y="1008000"/>
            <a:ext cx="40658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64720" y="167760"/>
            <a:ext cx="7821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ecurity Measure Level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7440" y="1069920"/>
            <a:ext cx="704052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ssible to have absolute security, but make cost to perpetrator sufficiently high to deter most intru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must occur at four levels to be effe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enters, servers, connected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ocial enginee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phis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dumpster d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mechanisms, 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epted communications, interruption, 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is as weak as the weakest link in the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can too much security be a probl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4200" y="1267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gram Threa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7800" y="1082520"/>
            <a:ext cx="770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variations, many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rojan H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segment that misuses its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s mechanisms for allowing programs written by users to be executed by othe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pyw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pop-up browser window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covert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80% of spam delivered by spyware-infect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rap 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 user identifier or password that circumvents normal security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be included in a comp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detect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23:43:38Z</dcterms:created>
  <dc:creator>Lucent End User</dc:creator>
  <dc:description/>
  <dc:language>en-US</dc:language>
  <cp:lastModifiedBy>Paige, Judi</cp:lastModifiedBy>
  <cp:lastPrinted>2013-09-10T17:57:57Z</cp:lastPrinted>
  <dcterms:modified xsi:type="dcterms:W3CDTF">2014-01-22T15:52:07Z</dcterms:modified>
  <cp:revision>187</cp:revision>
  <dc:subject/>
  <dc:title>2.01</dc:title>
</cp:coreProperties>
</file>