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6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8.wmf" ContentType="image/x-wmf"/>
  <Override PartName="/ppt/media/image13.png" ContentType="image/png"/>
  <Override PartName="/ppt/media/image14.png" ContentType="image/png"/>
  <Override PartName="/ppt/media/image9.wmf" ContentType="image/x-wmf"/>
  <Override PartName="/ppt/media/image30.wmf" ContentType="image/x-wmf"/>
  <Override PartName="/ppt/media/image27.png" ContentType="image/png"/>
  <Override PartName="/ppt/media/image12.wmf" ContentType="image/x-wmf"/>
  <Override PartName="/ppt/media/image7.wmf" ContentType="image/x-wmf"/>
  <Override PartName="/ppt/media/image25.png" ContentType="image/png"/>
  <Override PartName="/ppt/media/image10.wmf" ContentType="image/x-wmf"/>
  <Override PartName="/ppt/media/image32.png" ContentType="image/png"/>
  <Override PartName="/ppt/media/image1.jpeg" ContentType="image/jpeg"/>
  <Override PartName="/ppt/media/image33.png" ContentType="image/png"/>
  <Override PartName="/ppt/media/image34.png" ContentType="image/png"/>
  <Override PartName="/ppt/media/image1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29.wmf" ContentType="image/x-wmf"/>
  <Override PartName="/ppt/media/image31.png" ContentType="image/png"/>
  <Override PartName="/ppt/media/image5.png" ContentType="image/png"/>
  <Override PartName="/ppt/media/image4.wmf" ContentType="image/x-wmf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21.wmf" ContentType="image/x-wmf"/>
  <Override PartName="/ppt/media/image19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401652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00240" y="704520"/>
            <a:ext cx="46879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9121149-B8F3-4830-BDE6-90B52A5CF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16CC62A-BCB6-42E5-A574-079B01ED1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48EF9EE-CD16-4A29-83BA-B5102254B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E5E1492-026C-4D0D-B759-F37D6DD46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654482E-AFE1-4A1A-8C92-DC50791A0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9809513-ECD3-45DA-8886-40402F823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206F966-43BF-4E8F-9242-88FC5A797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8A0B304-5124-455F-86DF-289F2818C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A4958BC-A5E0-4EAE-B42C-E73F31156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F15E9EB-8CC3-48BF-A64C-27E6FE7A4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4E9BC89-CC7A-40DC-AA13-861BD5426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94146B2-4668-4D1A-9458-6609D7479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B11E838-749D-499F-9111-CBB475282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B1664B2-5364-4AAA-A978-F9B1B228B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89F3690-17D7-479B-8C33-7955F46C3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868A642-DF89-4752-9D19-344FCC073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0807621-D25B-496A-A8D6-AE2B7365C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B66F45E-F974-4C6D-AC4B-F773C981A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A6E735C-3D68-48DB-9FF1-0A9827CB7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99B9A84-AB79-4BBF-8147-F9F571CBD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9377983-ED6B-458D-9874-67D41FBAF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A439F31-42A8-4AB9-9600-02B6B837F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9809685-6D2B-430D-B051-05DDF13F6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43B86B6-6749-477E-B319-17E5DAEA5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7A6E2D0-6822-414A-B91A-AF4490C32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176D3D0-845E-4100-8015-5BF38BA54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C35AAE4-92CD-457F-9184-AAA0A6E1C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4BB776F-A0B7-437D-8628-43A83DFA2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E013B3B-F9D1-4B80-8257-083A37419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3EB53C8-EAAF-41C6-8876-06EAEB7C6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16B0AD4-AF70-4333-9FDA-980AF58EC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72A2833-A99F-408D-A007-D8BD87AE8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A78EC26-55A6-4FD0-8D8E-5254E28CB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5844EEE-BBF9-4BC5-9039-1DFFD6067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D12DA28-B1B8-4A75-AD2E-7BF9C594A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F671304-6C69-43DD-8816-71627946A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CFB8B88-170B-4A4D-81CC-EB385B1DD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6805915-F86D-4E61-BCBD-B97AEB74D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699F283-6D36-4A3F-9559-8D521F9D7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6D431DF-6DCC-4256-8868-A13E39444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AB688C2-2353-4E6F-8C06-3B1A2EB7B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9BD6DD7-5703-4103-82F2-DF8853F81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645D0C1-D9F1-447C-B516-6B41CB20E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BAA59AE-EB3F-43B4-AC96-34A3DCFF7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9FFE7A6-D31B-4C3F-A7A8-15802258D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4D86CDF-30BB-492C-BA1A-7BFE3F577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20BB153-28DD-4D57-A12F-04B33B893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57B138D-BE94-4D9C-8142-EED81E704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89C7A00-1127-450E-AD9E-79189B67F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BF76607-17B8-4C19-8E9B-5CC4F509B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03128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6.</a:t>
            </a:r>
            <a:fld id="{B42FEEA3-BCE7-45C7-BE19-6FDFF92D6831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253080" y="662148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4320" y="661356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0680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8228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Chapter 6:  CPU Scheduling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920" y="268200"/>
            <a:ext cx="7997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First- Come, First-Served (FCFS) Scheduling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3040" y="1251000"/>
            <a:ext cx="756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3029040"/>
                <a:tab algn="ctr" pos="4633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rst Tim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3029040"/>
                <a:tab algn="ctr" pos="4633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3029040"/>
                <a:tab algn="ctr" pos="4633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3029040"/>
                <a:tab algn="ctr" pos="4633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029040"/>
                <a:tab algn="ctr" pos="4633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the processes arrive in the order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antt Chart for the schedule is:</a:t>
            </a: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3029040"/>
                <a:tab algn="ctr" pos="4633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029040"/>
                <a:tab algn="ctr" pos="4633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tim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0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24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029040"/>
                <a:tab algn="ctr" pos="4633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aiting time:  (0 + 24 + 27)/3 =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171440" y="3479760"/>
            <a:ext cx="695484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82800" y="277920"/>
            <a:ext cx="77040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CFS Schedul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7560" y="1233360"/>
            <a:ext cx="7651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the processes arrive in the or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antt chart for the schedule i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tim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aiting time:   (6 + 0 + 3)/3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better than previou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nvoy eff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hort process behind lo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ctr" pos="364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one CPU-bound and many I/O-boun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1270080" y="2631960"/>
            <a:ext cx="712296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58400" y="189000"/>
            <a:ext cx="77043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hortest-Job-First (SJF)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7920" y="1233360"/>
            <a:ext cx="7143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 with each process the length of its next CPU bu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se lengths to schedule the process with the shorte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JF is optimal – gives minimum average waiting time for a given set of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fficulty is knowing the length of the next CPU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ask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 of SJF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rriva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r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JF scheduling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88"/>
              </a:spcBef>
              <a:buNone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88"/>
              </a:spcBef>
              <a:buNone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88"/>
              </a:spcBef>
              <a:buNone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aiting time = (3 + 16 + 9 + 0) / 4 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1287360" y="4076640"/>
            <a:ext cx="67960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79440" y="153720"/>
            <a:ext cx="777240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termining Length of Next CPU Burs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7600" y="1233360"/>
            <a:ext cx="74361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only estimate the length – should be similar to the previous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pick process with shortest predicted next CPU bu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done by using the length of previous CPU bursts, using exponential aver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ly, 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α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o 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emptive version call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hortest-remaining-time-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2"/>
              <p:cNvSpPr txBox="1"/>
              <p:nvPr/>
            </p:nvSpPr>
            <p:spPr>
              <a:xfrm>
                <a:off x="1979640" y="3103560"/>
                <a:ext cx="442764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tual  length of 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CPU  burst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redicted value for the next CPU  burst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, 0</m:t>
                        </m:r>
                        <m:r>
                          <m:t xml:space="preserve">≤</m:t>
                        </m:r>
                        <m:r>
                          <m:t xml:space="preserve">α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Define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3"/>
              <p:cNvSpPr txBox="1"/>
              <p:nvPr/>
            </p:nvSpPr>
            <p:spPr>
              <a:xfrm>
                <a:off x="3228840" y="4068720"/>
                <a:ext cx="22226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50400" y="-18000"/>
            <a:ext cx="822348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Prediction of the Length of the Next CPU Burst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4" name="Picture 1" descr="6_03.pdf"/>
          <p:cNvPicPr/>
          <p:nvPr/>
        </p:nvPicPr>
        <p:blipFill>
          <a:blip r:embed="rId1"/>
          <a:stretch/>
        </p:blipFill>
        <p:spPr>
          <a:xfrm>
            <a:off x="1841400" y="1282680"/>
            <a:ext cx="538812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1880" y="201240"/>
            <a:ext cx="7451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s of Exponential Averag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07920" y="1233360"/>
            <a:ext cx="7245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nt history does not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the actual last CPU burs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expand the formula, we g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(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+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+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+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bo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(1 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re less than or equal to 1, each successive term has less weight than its prede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92240" y="277920"/>
            <a:ext cx="75945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xample of Shortest-remaining-time-first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73160" y="1233360"/>
            <a:ext cx="76010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we add the concepts of varying arrival times and preemption to the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rri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riv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r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emp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JF Gantt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aiting time = [(10-1)+(1-1)+(17-2)+5-3)]/4 = 26/4 = 6.5 m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1446120" y="4284720"/>
            <a:ext cx="65358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63360" y="201240"/>
            <a:ext cx="7723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iority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82720" y="1233360"/>
            <a:ext cx="7423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iority number (integer) is associated with each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PU is allocated to the process with the highest priority (smallest integ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ighest prior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JF is priority scheduling where priority is the inverse of predicted next CPU bur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tarv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ow priority processes may never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g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s time progresses increase the priority of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6160" y="201240"/>
            <a:ext cx="72802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 of Priority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337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rr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rst Tim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 scheduling Gantt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600200"/>
                <a:tab algn="ctr" pos="3251160"/>
                <a:tab algn="ctr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aiting time = 8.2 m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1258920" y="4343400"/>
            <a:ext cx="605772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756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6:  CPU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7160" y="1195200"/>
            <a:ext cx="7336080" cy="37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Cri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-Processor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CPU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s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ound Robin (RR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840" y="1231560"/>
            <a:ext cx="71503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gets a small unit of CPU time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quant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usually 10-100 milliseconds.  After this time has elapsed, the process is preempted and added to the end of the ready que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es in the ready queue and the time quantum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each process gets 1/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CPU time in chunks of at mos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 units at once.  No process waits more than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un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 interrupts every quantum to schedule nex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rg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large with respect to context switch, otherwise overhead is too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59000" y="139320"/>
            <a:ext cx="77500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 of RR with Time Quantum = 4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54000" y="119340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219400"/>
                <a:tab algn="ctr" pos="399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r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219400"/>
                <a:tab algn="ctr" pos="399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219400"/>
                <a:tab algn="ctr" pos="399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219400"/>
                <a:tab algn="ctr" pos="399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219400"/>
                <a:tab algn="ctr" pos="399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antt chart is: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219400"/>
                <a:tab algn="ctr" pos="399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, higher average turnaround than SJF, but bett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219400"/>
                <a:tab algn="ctr" pos="399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should be large compared to context swit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219400"/>
                <a:tab algn="ctr" pos="3994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usually 10ms to 100ms, context switch &lt; 10 u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398600" y="3227400"/>
            <a:ext cx="677052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3800" y="182520"/>
            <a:ext cx="7829280" cy="5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Time Quantum and Context Switch Time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1371600" y="1449360"/>
            <a:ext cx="65278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9800" y="266760"/>
            <a:ext cx="85359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Turnaround Time Varies With The Time Quantum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>
            <a:off x="2084400" y="1379520"/>
            <a:ext cx="5005440" cy="41227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3"/>
          <p:cNvSpPr/>
          <p:nvPr/>
        </p:nvSpPr>
        <p:spPr>
          <a:xfrm>
            <a:off x="5937120" y="3745080"/>
            <a:ext cx="2313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80% of CPU bursts should be shorter than q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2720" y="154080"/>
            <a:ext cx="7713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ultilevel Queu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44200" y="1068120"/>
            <a:ext cx="753732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 queue is partitioned into separate queues, e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oreg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nterac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ackg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at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permanently in a given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queue has its own scheduling algorith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ground – 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– FC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must be done between the que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priority scheduling; (i.e., serve all from foreground then from background).  Possibility of star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lice – each queue gets a certain amount of CPU time which it can schedule amongst its processes; i.e., 80% to foreground in 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 to background in FCF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90080" y="189000"/>
            <a:ext cx="75963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ultilevel Queue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8" name="Picture 4" descr="5"/>
          <p:cNvPicPr/>
          <p:nvPr/>
        </p:nvPicPr>
        <p:blipFill>
          <a:blip r:embed="rId1"/>
          <a:stretch/>
        </p:blipFill>
        <p:spPr>
          <a:xfrm>
            <a:off x="1270080" y="1467000"/>
            <a:ext cx="668664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60240" y="239400"/>
            <a:ext cx="8026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ultilevel Feedback Queu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79200" y="146808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can move between the various queues; aging can be implemented this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level-feedback-queue scheduler defined by the following paramet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que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algorithms for each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used to determine when to upgrade a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used to determine when to demote a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used to determine which queue a process will enter when that process needs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50400"/>
            <a:ext cx="771048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 of Multilevel Feedback Queu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4065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queu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RR with time quantum 8 millisec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RR time quantum 16 millisec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FC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ew job enters queu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ch is served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C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612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it gains CPU, job receives 8 millisec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612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it does not finish in 8 milliseconds, job is moved to queu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job is again served FCFS and receives 16 additional millisec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612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it still does not complete, it is preempted and moved to queu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5"/>
          <p:cNvPicPr/>
          <p:nvPr/>
        </p:nvPicPr>
        <p:blipFill>
          <a:blip r:embed="rId1"/>
          <a:stretch/>
        </p:blipFill>
        <p:spPr>
          <a:xfrm>
            <a:off x="4971960" y="2158920"/>
            <a:ext cx="386244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read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44200" y="1272960"/>
            <a:ext cx="766116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inction between user-level and kernel-level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reads supported, threads scheduled, no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-to-one and many-to-many models, thread library schedules user-level threads to run on LW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cess-contention sco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scheduling competition is with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done via priority set by progra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thread scheduled onto available CPU i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ystem-contention 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competition among all threads i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9200" y="189000"/>
            <a:ext cx="79772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thread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8680" y="1336320"/>
            <a:ext cx="697896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 allows specifying either PCS or SCS during thread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HREAD_SCOPE_PROCESS schedules threads using PCS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HREAD_SCOPE_SYSTEM schedules threads using SCS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limited by OS – Linux and Mac OS X only allow PTHREAD_SCOPE_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46080" y="1233360"/>
            <a:ext cx="7283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troduce CPU scheduling, which is the basis for multiprogrammed operat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various CPU-scheduling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evaluation criteria for selecting a CPU-scheduling algorithm for a particul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amine the scheduling algorithms of several operat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thread Scheduling API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38280" y="942840"/>
            <a:ext cx="68184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pthread.h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NUM_THREADS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int argc, char *argv[]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, scop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hread_t tid[NUM THREADS]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attr_t attr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get the default attributes *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attr_init(&amp;attr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first inquire on the current scope */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f (pthread_attr_getscope(&amp;attr, &amp;scope) != 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printf(stderr, "Unable to get scheduling scope\n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cope == PTHREAD_SCOPE_PROCES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PTHREAD_SCOPE_PROCESS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if (scope == PTHREAD_SCOPE_SYSTE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PTHREAD_SCOPE_SYSTEM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fprintf(stderr, "Illegal scope value.\n"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05040" y="277920"/>
            <a:ext cx="77817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thread Scheduling API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3080" y="1193760"/>
            <a:ext cx="732168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/* set the scheduling algorithm to PCS or SCS */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attr_setscope(&amp;attr, PTHREAD_SCOPE_SYSTEM)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/* create the threads */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or (i = 0; i &lt; NUM_THREADS; i++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create(&amp;tid[i],&amp;attr,runner,NULL)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/* now join on each thread */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or (i = 0; i &lt; NUM_THREADS; i++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join(tid[i], NULL)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/* Each thread will begin control in this function */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*runner(void *param)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/* do some work ... */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exit(0)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63360" y="163080"/>
            <a:ext cx="7723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ultiple-Processor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5840" y="1122120"/>
            <a:ext cx="70344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scheduling more complex when multiple CPUs are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Homogene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cess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a multi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symmetric multiprocess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only one processor accesses the system data structures, alleviating the need for data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ymmetric multiproces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M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each processor is self-scheduling, all processes in common ready queue, or each has its own private queue of ready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, most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cessor affin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process has affinity for processor on which it is currently 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oft aff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hard aff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tions including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cessor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8880" y="201240"/>
            <a:ext cx="7567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UMA and CPU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2041560" y="5450040"/>
            <a:ext cx="5908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te that memory-placement algorithms can also consider affini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1" descr="6_09.pdf"/>
          <p:cNvPicPr/>
          <p:nvPr/>
        </p:nvPicPr>
        <p:blipFill>
          <a:blip r:embed="rId1"/>
          <a:stretch/>
        </p:blipFill>
        <p:spPr>
          <a:xfrm>
            <a:off x="1727280" y="1266840"/>
            <a:ext cx="626256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91960" y="101160"/>
            <a:ext cx="7723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Multiple-Processor Scheduling – Load Balancing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90280" y="1233000"/>
            <a:ext cx="700884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MP, need to keep all CPUs loaded for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ad balanc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mpts to keep workload evenly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ush migr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periodic task checks load on each processor, and if found pushes task from overloaded CPU to other C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ull migr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idle processors pulls waiting task from busy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64720" y="175680"/>
            <a:ext cx="7821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ulticore Processor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82360" y="1233360"/>
            <a:ext cx="6915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nt trend to place multiple processor cores on same physical c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r and consumes less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hreads per core also gr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s advantage of memory stall to make progress on another thread while memory retrieve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96640" y="277920"/>
            <a:ext cx="74898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ultithreaded Multicore Syst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2" name="Picture 4" descr="5"/>
          <p:cNvPicPr/>
          <p:nvPr/>
        </p:nvPicPr>
        <p:blipFill>
          <a:blip r:embed="rId1"/>
          <a:stretch/>
        </p:blipFill>
        <p:spPr>
          <a:xfrm>
            <a:off x="1089000" y="1401840"/>
            <a:ext cx="6781680" cy="1671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1114560" y="3722760"/>
            <a:ext cx="687204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64720" y="277920"/>
            <a:ext cx="7821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l-Time CPU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06040" y="1233360"/>
            <a:ext cx="3552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present obvious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oft real-time syste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no guarantee as to when critical real-time process will be schedu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Hard real-time 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ask must be serviced by its d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types of latencies affect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12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upt latency – time from arrival of interrupt to start of routine that services interru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12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 latency – time for schedule to take current process off CPU and switch to an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" descr="Screen Shot 2012-12-17 at 8.37.21 PM.png"/>
          <p:cNvPicPr/>
          <p:nvPr/>
        </p:nvPicPr>
        <p:blipFill>
          <a:blip r:embed="rId1"/>
          <a:stretch/>
        </p:blipFill>
        <p:spPr>
          <a:xfrm>
            <a:off x="4227480" y="1488960"/>
            <a:ext cx="481320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2880" y="175680"/>
            <a:ext cx="7821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l-Time CPU Schedul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06400" y="1233360"/>
            <a:ext cx="26337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lict phase of dispatch laten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emption of any process running in kerne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e by low-priority process of resources needed by high-priority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6_14.pdf"/>
          <p:cNvPicPr/>
          <p:nvPr/>
        </p:nvPicPr>
        <p:blipFill>
          <a:blip r:embed="rId1"/>
          <a:stretch/>
        </p:blipFill>
        <p:spPr>
          <a:xfrm>
            <a:off x="3854520" y="1384200"/>
            <a:ext cx="45720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64720" y="277920"/>
            <a:ext cx="7821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iority-based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22400" y="1195200"/>
            <a:ext cx="7570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al-time scheduling, scheduler must support preemptive, priority-based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only guarantees soft real-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hard real-time must also provide ability to meet dea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have new characteristics: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eriod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es require CPU at constant inter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 processing tim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ad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≤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≤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≤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</a:rPr>
              <a:t>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periodic task is 1/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" descr="Screen Shot 2012-12-17 at 8.41.54 PM.png"/>
          <p:cNvPicPr/>
          <p:nvPr/>
        </p:nvPicPr>
        <p:blipFill>
          <a:blip r:embed="rId1"/>
          <a:stretch/>
        </p:blipFill>
        <p:spPr>
          <a:xfrm>
            <a:off x="1833480" y="4075200"/>
            <a:ext cx="58374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asic Concep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40960" y="1274400"/>
            <a:ext cx="397836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CPU utilization obtained with multi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–I/O Burst Cycle – Process execution consists of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CPU execution and I/O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PU bur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ed by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/O bu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burst distribution is of main con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" descr="6_01.pdf"/>
          <p:cNvPicPr/>
          <p:nvPr/>
        </p:nvPicPr>
        <p:blipFill>
          <a:blip r:embed="rId1"/>
          <a:stretch/>
        </p:blipFill>
        <p:spPr>
          <a:xfrm>
            <a:off x="5381640" y="1143000"/>
            <a:ext cx="236052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irtualization and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33480" y="1233360"/>
            <a:ext cx="6394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ization software schedules multiple guests onto CPU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guest doing its own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knowing it does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own the C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sult in poor respon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effect time-of-day clocks in g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ndo good scheduling algorithm efforts of g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6240" y="277920"/>
            <a:ext cx="78105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ate Montonic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06400" y="12981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iority is assigned based on the inverse of its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er periods = higher prior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er periods = lower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ssigned a higher priority than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1147680" y="3659040"/>
            <a:ext cx="686772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93400" y="8244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Missed Deadlines with Rate Monotonic Scheduling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rcRect l="661" t="40080" r="664" b="40050"/>
          <a:stretch/>
        </p:blipFill>
        <p:spPr>
          <a:xfrm>
            <a:off x="1130400" y="1746360"/>
            <a:ext cx="73310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81080" y="163080"/>
            <a:ext cx="7694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arliest Deadline First Scheduling (EDF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90640" y="1257120"/>
            <a:ext cx="73533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ies are assigned according to deadlin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arlier the deadline, the higher the prior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ter the deadline, the lower the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rcRect l="712" t="40188" r="712" b="39868"/>
          <a:stretch/>
        </p:blipFill>
        <p:spPr>
          <a:xfrm>
            <a:off x="1333440" y="2994120"/>
            <a:ext cx="67723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4560" y="201240"/>
            <a:ext cx="7751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portional Share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84240" y="1298160"/>
            <a:ext cx="69278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ares are allocated among all processes in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pplication receiv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ares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&lt;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nsures each application will receiv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total processo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2760" y="2271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OSIX Real-Time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0120" y="1184040"/>
            <a:ext cx="7486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SIX.1b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 provides functions for managing real-time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two scheduling classes for real-time threa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88"/>
              </a:spcBef>
              <a:buClr>
                <a:srgbClr val="993300"/>
              </a:buClr>
              <a:buSzPct val="9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_FIFO - threads are scheduled using a FCFS strategy with a FIFO queue. There is no time-slicing for threads of equal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88"/>
              </a:spcBef>
              <a:buClr>
                <a:srgbClr val="993300"/>
              </a:buClr>
              <a:buSzPct val="9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_RR - similar to SCHED_FIFO except time-slicing occurs for threads of equal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two functions for getting and setting scheduling poli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attr_getsched_policy(pthread_attr_t *attr, int *polic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attr_setsched_policy(pthread_attr_t *attr, int polic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41040" y="277920"/>
            <a:ext cx="7745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OSIX Real-Time Scheduling API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06400" y="1066320"/>
            <a:ext cx="7702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pthread.h&gt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NUM_THREADS 5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int argc, char *argv[]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, policy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thread_t_tid[NUM_THREADS]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attr_t attr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* get the default attributes *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attr_init(&amp;attr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* get the current scheduling policy */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f (pthread_attr_getschedpolicy(&amp;attr, &amp;policy) != 0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fprintf(stderr, "Unable to get policy.\n"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{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olicy == SCHED_OTHER) printf("SCHED_OTHER\n"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if (policy == SCHED_RR) printf("SCHED_RR\n"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if (policy == SCHED_FIFO) printf("SCHED_FIFO\n"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04480" y="175680"/>
            <a:ext cx="8039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POSIX Real-Time Scheduling API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06400" y="1298160"/>
            <a:ext cx="7702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* set the scheduling policy - FIFO, RR, or OTHER */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f (pthread_attr_setschedpolicy(&amp;attr, SCHED_FIFO) != 0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fprintf(stderr, "Unable to set policy.\n"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* create the threads */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or (i = 0; i &lt; NUM_THREADS; i++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create(&amp;tid[i],&amp;attr,runner,NULL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* now join on each thread */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or (i = 0; i &lt; NUM_THREADS; i++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join(tid[i], NULL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* Each thread will begin control in this function *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*runner(void *param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* do some work ... *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exit(0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38320" y="175680"/>
            <a:ext cx="7548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ng System Exampl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55640" y="1109520"/>
            <a:ext cx="68436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31920" y="138240"/>
            <a:ext cx="7848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Linux Scheduling Through Version 2.5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2880" y="1123920"/>
            <a:ext cx="74026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 to kernel version 2.5, ran variation of standard UNIX scheduling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2.5 moved to constant ord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schedul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emptive, priority 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priority ranges: time-sharing and real-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-tim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ge from 0 to 99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from 100 to 1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into  global priority with numerically lower values indicating higher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priority gets larger 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 run-able as long as time left in time slice (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no time left (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exp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not run-able until all other tasks use their sl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run-able tasks tracked in per-CPU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runqueu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priority arrays (active, exp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s indexed by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no more active, arrays are exchan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ed well, but poor response times for interactiv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175680"/>
            <a:ext cx="76201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Histogram of CPU-burst Tim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1614600" y="1525680"/>
            <a:ext cx="572112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92240" y="175680"/>
            <a:ext cx="7594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Linux Scheduling in Version 2.6.23 +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1123560"/>
            <a:ext cx="751716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pletely Fair Schedul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F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Scheduling c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has specific prio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duler picks highest priority task in highest scheduling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ther than quantum based on fixed time allotments, based on proportion of CPU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scheduling classes included, others can be ad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95480" indent="-239760">
              <a:lnSpc>
                <a:spcPct val="90000"/>
              </a:lnSpc>
              <a:spcBef>
                <a:spcPts val="612"/>
              </a:spcBef>
              <a:buClr>
                <a:srgbClr val="009900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95480" indent="-239760">
              <a:lnSpc>
                <a:spcPct val="90000"/>
              </a:lnSpc>
              <a:spcBef>
                <a:spcPts val="612"/>
              </a:spcBef>
              <a:buClr>
                <a:srgbClr val="009900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-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calculated based on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nice valu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-20 to +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er value is higher prio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es </a:t>
            </a:r>
            <a:r>
              <a:rPr b="1" lang="en-US" sz="1400" spc="-1" strike="noStrike">
                <a:solidFill>
                  <a:srgbClr val="3366ff"/>
                </a:solidFill>
                <a:latin typeface="Arial"/>
              </a:rPr>
              <a:t>target latenc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interval of time during which task should run at least o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 latency can increase if say number of active tasks incr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FS scheduler maintains per task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virtual run tim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varia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ociated with decay factor based on priority of task – lower priority is higher decay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mal default priority yields virtual run time = actual ru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decide next task to run, scheduler picks task with lowest virtual ru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5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6560" y="138240"/>
            <a:ext cx="78598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FS Performan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8" name="Picture 4" descr="Screen Shot 2012-12-17 at 9.25.06 PM.png"/>
          <p:cNvPicPr/>
          <p:nvPr/>
        </p:nvPicPr>
        <p:blipFill>
          <a:blip r:embed="rId1"/>
          <a:stretch/>
        </p:blipFill>
        <p:spPr>
          <a:xfrm>
            <a:off x="2576520" y="1077840"/>
            <a:ext cx="438948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inux Schedul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82360" y="1144440"/>
            <a:ext cx="7791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scheduling according to POSIX.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tasks have static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lus normal map into global priority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e value of -20 maps to global priority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e value of +19 maps to priority 1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" descr="Screen Shot 2012-12-17 at 9.28.34 PM.png"/>
          <p:cNvPicPr/>
          <p:nvPr/>
        </p:nvPicPr>
        <p:blipFill>
          <a:blip r:embed="rId1"/>
          <a:stretch/>
        </p:blipFill>
        <p:spPr>
          <a:xfrm>
            <a:off x="1727280" y="3198960"/>
            <a:ext cx="608148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indows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20880" y="1144440"/>
            <a:ext cx="664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uses priority-based preemptive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-priority thread runs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ispatche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runs until (1) blocks, (2) uses time slice, (3) preempted by higher-priority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threads can preempt non-real-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-level priority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ariable cla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1-15,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al-time cla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-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 0 is memory-managemen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 for each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run-able thread, run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dl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indows Priority Class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06040" y="1233360"/>
            <a:ext cx="7651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32 API identifies several priority classes to which a process can bel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TIME_PRIORITY_CLASS, HIGH_PRIORITY_CLASS, ABOVE_NORMAL_PRIORITY_CLASS,NORMAL_PRIORITY_CLASS, BELOW_NORMAL_PRIORITY_CLASS, IDLE_PRIORITY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are variable except REAL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hread within a given priority class has a relative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_CRITICAL, HIGHEST, ABOVE_NORMAL, NORMAL, BELOW_NORMAL, LOWEST, I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class and relative priority combine to give numeric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priority is NORMAL within the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quantum expires, priority lowered, but never below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980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Windows Priority Classes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06400" y="941040"/>
            <a:ext cx="781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ait occurs, priority boosted depending on what was waite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ground window given 3x priority bo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7 add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ser-mode schedul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create and manage threads independent of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large number of threads, much more 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S schedulers come from programming language libraries like                                         C++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ncurrent Run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cRT)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85600" y="175680"/>
            <a:ext cx="7800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indows Prioriti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9" name="Picture 1" descr="6_22.pdf"/>
          <p:cNvPicPr/>
          <p:nvPr/>
        </p:nvPicPr>
        <p:blipFill>
          <a:blip r:embed="rId1"/>
          <a:stretch/>
        </p:blipFill>
        <p:spPr>
          <a:xfrm>
            <a:off x="1442880" y="1384200"/>
            <a:ext cx="66168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38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lari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33480" y="1080720"/>
            <a:ext cx="718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-based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 classe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haring (default) (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ve (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(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(S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 Share (F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priority (F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read can be in one class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lass has its own scheduling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haring is multi-level feedback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able table configurable by sys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6560" y="163080"/>
            <a:ext cx="7859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laris Dispatch Table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3" name="Picture 1" descr="6_23.pdf"/>
          <p:cNvPicPr/>
          <p:nvPr/>
        </p:nvPicPr>
        <p:blipFill>
          <a:blip r:embed="rId1"/>
          <a:stretch/>
        </p:blipFill>
        <p:spPr>
          <a:xfrm>
            <a:off x="2527200" y="1254240"/>
            <a:ext cx="46054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laris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5" name="Picture 1" descr="6_24.pdf"/>
          <p:cNvPicPr/>
          <p:nvPr/>
        </p:nvPicPr>
        <p:blipFill>
          <a:blip r:embed="rId1"/>
          <a:stretch/>
        </p:blipFill>
        <p:spPr>
          <a:xfrm>
            <a:off x="3166920" y="1206360"/>
            <a:ext cx="28353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20124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PU Scheduler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33480" y="1169640"/>
            <a:ext cx="70675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hort-term schedul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s from among the processes in ready queue, and allocates the CPU to one of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 may be ordered in various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scheduling decisions may take place when a proc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 from running to waiting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 from running to r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 from waiting to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under 1 and 4 i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non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ther scheduling i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ccess to sha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preemption while in kerne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interrupts occurring during crucial O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laris Schedul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87320" y="1195200"/>
            <a:ext cx="7251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r converts class-specific priorities into a per-thread global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with highest priority runs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s until (1) blocks, (2) uses time slice, (3) preempted by higher-priority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hreads at same priority selected via 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9920" y="201240"/>
            <a:ext cx="7616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lgorithm Evalu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90280" y="1116000"/>
            <a:ext cx="75661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select CPU-scheduling algorithm for an 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criteria, then evaluate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terministic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of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nalytic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s a particular predetermined workload and defines the performance of each algorithm  for that work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5 processes arriving at time 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" descr="Screen Shot 2012-12-17 at 9.44.14 PM.png"/>
          <p:cNvPicPr/>
          <p:nvPr/>
        </p:nvPicPr>
        <p:blipFill>
          <a:blip r:embed="rId1"/>
          <a:stretch/>
        </p:blipFill>
        <p:spPr>
          <a:xfrm>
            <a:off x="2401920" y="3821040"/>
            <a:ext cx="18972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9920" y="277920"/>
            <a:ext cx="76168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terministic Evalu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26560" y="1382760"/>
            <a:ext cx="75661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algorithm, calculate minimum average wait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and fast, but requires exact numbers for input, applies only to those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CS is 28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Non-preemptive SFJ is 13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RR is 23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Screen Shot 2012-12-17 at 9.47.12 PM.png"/>
          <p:cNvPicPr/>
          <p:nvPr/>
        </p:nvPicPr>
        <p:blipFill>
          <a:blip r:embed="rId1"/>
          <a:stretch/>
        </p:blipFill>
        <p:spPr>
          <a:xfrm>
            <a:off x="1935000" y="2720880"/>
            <a:ext cx="4445280" cy="828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Screen Shot 2012-12-17 at 9.47.18 PM.png"/>
          <p:cNvPicPr/>
          <p:nvPr/>
        </p:nvPicPr>
        <p:blipFill>
          <a:blip r:embed="rId2"/>
          <a:stretch/>
        </p:blipFill>
        <p:spPr>
          <a:xfrm>
            <a:off x="1893960" y="3852720"/>
            <a:ext cx="4529160" cy="771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Screen Shot 2012-12-17 at 9.47.24 PM.png"/>
          <p:cNvPicPr/>
          <p:nvPr/>
        </p:nvPicPr>
        <p:blipFill>
          <a:blip r:embed="rId3"/>
          <a:stretch/>
        </p:blipFill>
        <p:spPr>
          <a:xfrm>
            <a:off x="1898640" y="4902120"/>
            <a:ext cx="44449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Queueing Model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07920" y="1233360"/>
            <a:ext cx="71056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s the arrival of processes, and CPU and I/O bursts probabilis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ly exponential, and described by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s average throughput, utilization, waiting time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system described as network of servers, each with queue of wait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ing arrival rates and service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s utilization, average queue length, average wait time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ittle</a:t>
            </a:r>
            <a:r>
              <a:rPr b="1" lang="ja-JP" sz="3200" spc="-1" strike="noStrike">
                <a:solidFill>
                  <a:srgbClr val="00669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 Formula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94960" y="1169640"/>
            <a:ext cx="7270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verage queu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verage waiting time in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verage arrival rate into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law – in steady state, processes leaving queue must equal processes arriving, thu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 for any scheduling algorithm and arrival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f on average 7 processes arrive per second, and normally 14 processes in queue, then average wait time per process = 2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imula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ing model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imul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accu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model of comput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is a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her statistics  indicating algorithm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o drive simulation gathered 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number generator according to prob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s defined mathematically or empir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e tapes record sequences of real events in re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30480" y="166320"/>
            <a:ext cx="7850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valuation of CPU Schedulers by Simulation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53" name="Picture 1" descr="6_25.pdf"/>
          <p:cNvPicPr/>
          <p:nvPr/>
        </p:nvPicPr>
        <p:blipFill>
          <a:blip r:embed="rId1"/>
          <a:stretch/>
        </p:blipFill>
        <p:spPr>
          <a:xfrm>
            <a:off x="1587600" y="1379520"/>
            <a:ext cx="63673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04720" y="189000"/>
            <a:ext cx="68245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mplement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Content Placeholder 2"/>
          <p:cNvSpPr/>
          <p:nvPr/>
        </p:nvSpPr>
        <p:spPr>
          <a:xfrm>
            <a:off x="851040" y="1208160"/>
            <a:ext cx="75308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simulations have limited accurac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implement new scheduler and test in real syste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141560" indent="-48924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High cost, high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141560" indent="-48924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Environments va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flexible schedulers can be modified per-site or per-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APIs to modify prior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gain environments va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550880" indent="-325440">
              <a:lnSpc>
                <a:spcPct val="10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141560" indent="-4892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05000"/>
                <a:tab algn="l" pos="2610000"/>
                <a:tab algn="l" pos="3914640"/>
                <a:tab algn="l" pos="5219640"/>
                <a:tab algn="l" pos="6524640"/>
                <a:tab algn="l" pos="7829640"/>
                <a:tab algn="l" pos="913464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Chapter 6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spatcher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66520" y="1177560"/>
            <a:ext cx="67244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atcher module gives control of the CPU to the process selected by the short-term scheduler; this invol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 to use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mping to the proper location in the user program to restart tha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ispatch latenc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time it takes for the dispatcher to stop one process and start another 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213840"/>
            <a:ext cx="7696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cheduling Criteria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33120" y="1246320"/>
            <a:ext cx="715644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uti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keep the CPU as busy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# of processes that complete their execution per time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around 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mount of time to execute a particula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ing 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mount of time a process has been waiting in the ready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e 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mount of time it takes from when a request was submitted until the first response is produced, not output  (for time-sharing environ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53760" y="138240"/>
            <a:ext cx="75135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cheduling Algorithm Optimization Criteria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2480" y="1174320"/>
            <a:ext cx="61149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CPU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 turnaround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 waiting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 respon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3:43:38Z</dcterms:created>
  <dc:creator>Lucent End User</dc:creator>
  <dc:description/>
  <dc:language>en-US</dc:language>
  <cp:lastModifiedBy>Paige, Judi</cp:lastModifiedBy>
  <cp:lastPrinted>2013-09-10T17:57:57Z</cp:lastPrinted>
  <dcterms:modified xsi:type="dcterms:W3CDTF">2014-01-22T15:46:23Z</dcterms:modified>
  <cp:revision>187</cp:revision>
  <dc:subject/>
  <dc:title>2.01</dc:title>
</cp:coreProperties>
</file>