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6.wmf" ContentType="image/x-wmf"/>
  <Override PartName="/ppt/media/image12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5.jpeg" ContentType="image/jpe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1"/>
          </p:nvPr>
        </p:nvSpPr>
        <p:spPr>
          <a:xfrm>
            <a:off x="3962160" y="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177920" y="694800"/>
            <a:ext cx="4641840" cy="348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2"/>
          </p:nvPr>
        </p:nvSpPr>
        <p:spPr>
          <a:xfrm>
            <a:off x="-36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3"/>
          </p:nvPr>
        </p:nvSpPr>
        <p:spPr>
          <a:xfrm>
            <a:off x="396216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1C75E96-095B-4E18-A376-D32A52DE2B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E325F3E-8D33-4D05-A848-F10E37D321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C7983FD-5987-412C-91AC-5A3290A534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429A80E-D218-4257-9877-077DA217E7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48C57FD-339F-469E-9F40-869962678D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8FA2C43-7EB5-42CF-B80E-7D5534CE47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422F8B6-28F9-4CE7-B02A-C8F7A274BF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85606D0-1DDD-4AFA-A916-A9B0223F81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3B0E902-9898-4682-8C58-51D2898EE9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6053B7B-877C-4DFD-9704-690EEABBF4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BB6F619-027A-4492-A9D8-1EE080ECC6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8A651AE-2904-4CC3-B595-0047BB9AF1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D6FB9FA-5996-4727-BA00-913038C032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D572FE3-D75C-4F31-A8C9-12964A3B66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8372E54-8000-4D7A-9990-7B9B5A2EF3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1F83EB8-BF28-4786-9E78-AE9B4B6907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4C188A6-33E7-4179-98BE-A886E17CB6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79A7156-4EC4-4B9C-A381-EE0089E812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343546E-6A71-4A6B-88B3-7FC624F1C6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3061CFC-9732-4C3D-8920-133A73D214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11A03FA-34D8-4736-ACAC-F5CA2081B4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AF0DFAD-29F0-4C7F-9ECB-DB1508639E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A0F098C-7C91-43DB-BBF8-58FB08B3B7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9CE4B00-9DC3-4F61-BCE6-12EDC8F25F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08ADA2F-E1C0-4917-8542-6C7212CCE5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15FA657-1A7E-4AE9-8C3C-3BFE538273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10CC813-21D5-4623-8A72-AB83280316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A4FD37D-F30F-4E27-85E5-8F164A1D25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69FCE90-845C-4300-B330-E0BF238D42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F4E1CA1-02FD-46AD-9B9C-469698E2C4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DACF377-0E7F-46A9-B8C4-20F502B7D1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6AE4CA3-C9C6-4A21-B937-EAFF689A1C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4DCE78C-7750-4531-B188-233C1B2821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D2F4B9B-4531-4FD3-BD10-9747D8EF12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0B19B1D-696C-4634-9EBF-846E91D11B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8E7BF50-FC8F-4912-B086-25FE928ED0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B4CBBF6-C410-432F-A26E-E17498F6C4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A861282-3A0C-4AF7-B7D8-ABFF262FBC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44AACEE-324E-4D35-94D1-3DFCDE22C9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433BB0B-B176-44B2-9019-70E98C699B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1C8D933-E905-45FA-BC45-DA29151048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7196D37-AFDE-4E35-86CB-D5403C6B0A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E4B7159-963B-4C08-BA4C-C295317A76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602B292-806A-40E9-A066-5EFC884EED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6A9A727-F782-4907-AC8F-FFFFFADA72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06400" y="36000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2344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8884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7128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0640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8884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7128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26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344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06400" y="36000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2344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8884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7128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0640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8884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7128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26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2344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ino_3"/>
          <p:cNvPicPr/>
          <p:nvPr/>
        </p:nvPicPr>
        <p:blipFill>
          <a:blip r:embed="rId2"/>
          <a:stretch/>
        </p:blipFill>
        <p:spPr>
          <a:xfrm>
            <a:off x="285840" y="0"/>
            <a:ext cx="1195200" cy="907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cc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Line 6"/>
          <p:cNvSpPr/>
          <p:nvPr/>
        </p:nvSpPr>
        <p:spPr>
          <a:xfrm>
            <a:off x="457200" y="860400"/>
            <a:ext cx="8077320" cy="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3996360" y="6613560"/>
            <a:ext cx="96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10.</a:t>
            </a:r>
            <a:fld id="{5C723A6F-F83E-4C60-A390-FDEA7956985E}" type="slidenum">
              <a:rPr b="1" lang="en-US" sz="1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Text Box 10"/>
          <p:cNvSpPr/>
          <p:nvPr/>
        </p:nvSpPr>
        <p:spPr>
          <a:xfrm>
            <a:off x="6489720" y="6588000"/>
            <a:ext cx="271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Silberschatz, Galvin and Gagne ©2013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Text Box 11"/>
          <p:cNvSpPr/>
          <p:nvPr/>
        </p:nvSpPr>
        <p:spPr>
          <a:xfrm>
            <a:off x="253080" y="6621480"/>
            <a:ext cx="330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Operating System Concepts Essentials – 2</a:t>
            </a:r>
            <a:r>
              <a:rPr b="1" lang="en-US" sz="1000" spc="-1" strike="noStrike" baseline="30000">
                <a:solidFill>
                  <a:srgbClr val="006699"/>
                </a:solidFill>
                <a:latin typeface="Arial"/>
              </a:rPr>
              <a:t>nd</a:t>
            </a: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 Edi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" name="Picture 12" descr="dino_6"/>
          <p:cNvPicPr/>
          <p:nvPr/>
        </p:nvPicPr>
        <p:blipFill>
          <a:blip r:embed="rId3"/>
          <a:stretch/>
        </p:blipFill>
        <p:spPr>
          <a:xfrm>
            <a:off x="7773840" y="5850000"/>
            <a:ext cx="1284480" cy="79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3"/>
          <p:cNvGrpSpPr/>
          <p:nvPr/>
        </p:nvGrpSpPr>
        <p:grpSpPr>
          <a:xfrm>
            <a:off x="198360" y="2960640"/>
            <a:ext cx="8610840" cy="201600"/>
            <a:chOff x="198360" y="2960640"/>
            <a:chExt cx="8610840" cy="201600"/>
          </a:xfrm>
        </p:grpSpPr>
        <p:sp>
          <p:nvSpPr>
            <p:cNvPr id="48" name="Rectangle 4"/>
            <p:cNvSpPr/>
            <p:nvPr/>
          </p:nvSpPr>
          <p:spPr>
            <a:xfrm>
              <a:off x="198360" y="2960640"/>
              <a:ext cx="2870280" cy="20160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5"/>
            <p:cNvSpPr/>
            <p:nvPr/>
          </p:nvSpPr>
          <p:spPr>
            <a:xfrm>
              <a:off x="3068640" y="2960640"/>
              <a:ext cx="2870280" cy="2016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6"/>
            <p:cNvSpPr/>
            <p:nvPr/>
          </p:nvSpPr>
          <p:spPr>
            <a:xfrm>
              <a:off x="5938920" y="2960640"/>
              <a:ext cx="2870280" cy="20160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1" name="Text Box 7"/>
          <p:cNvSpPr/>
          <p:nvPr/>
        </p:nvSpPr>
        <p:spPr>
          <a:xfrm>
            <a:off x="6489720" y="6588000"/>
            <a:ext cx="271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Silberschatz, Galvin and Gagne ©2013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94320" y="6613560"/>
            <a:ext cx="330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Operating System Concepts Essentials – 2</a:t>
            </a:r>
            <a:r>
              <a:rPr b="1" lang="en-US" sz="1000" spc="-1" strike="noStrike" baseline="30000">
                <a:solidFill>
                  <a:srgbClr val="336699"/>
                </a:solidFill>
                <a:latin typeface="Arial"/>
              </a:rPr>
              <a:t>nd</a:t>
            </a: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 Edi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" name="Picture 9" descr="dino_4"/>
          <p:cNvPicPr/>
          <p:nvPr/>
        </p:nvPicPr>
        <p:blipFill>
          <a:blip r:embed="rId2"/>
          <a:stretch/>
        </p:blipFill>
        <p:spPr>
          <a:xfrm>
            <a:off x="3360600" y="4157640"/>
            <a:ext cx="2062440" cy="1593720"/>
          </a:xfrm>
          <a:prstGeom prst="rect">
            <a:avLst/>
          </a:prstGeom>
          <a:ln w="76320">
            <a:solidFill>
              <a:srgbClr val="336699"/>
            </a:solidFill>
            <a:miter/>
          </a:ln>
        </p:spPr>
      </p:pic>
      <p:sp>
        <p:nvSpPr>
          <p:cNvPr id="54" name="Rectangle 10"/>
          <p:cNvSpPr/>
          <p:nvPr/>
        </p:nvSpPr>
        <p:spPr>
          <a:xfrm>
            <a:off x="3224160" y="4016520"/>
            <a:ext cx="2336760" cy="1887480"/>
          </a:xfrm>
          <a:prstGeom prst="rect">
            <a:avLst/>
          </a:prstGeom>
          <a:noFill/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cc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81396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6699"/>
                </a:solidFill>
                <a:latin typeface="Arial"/>
              </a:rPr>
              <a:t>Chapter 10:  </a:t>
            </a:r>
            <a:br>
              <a:rPr sz="4300"/>
            </a:br>
            <a:r>
              <a:rPr b="1" lang="en-US" sz="4300" spc="-1" strike="noStrike">
                <a:solidFill>
                  <a:srgbClr val="006699"/>
                </a:solidFill>
                <a:latin typeface="Arial"/>
              </a:rPr>
              <a:t>File-System Interface</a:t>
            </a:r>
            <a:endParaRPr b="1" lang="en-US" sz="43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80720" y="178920"/>
            <a:ext cx="760572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File Locking Example – Java API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5840" y="1233360"/>
            <a:ext cx="76485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import java.io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import java.nio.channels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public class LockingExample 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public static final boolean EXCLUSIVE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public static final boolean SHARED = tru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public static void main(String arsg[]) throws IOException </a:t>
            </a:r>
            <a:r>
              <a:rPr b="0" i="1" lang="en-US" sz="1400" spc="-1" strike="noStrike">
                <a:solidFill>
                  <a:srgbClr val="0033cc"/>
                </a:solidFill>
                <a:latin typeface="Arial"/>
              </a:rPr>
              <a:t>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FileLock sharedLock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FileLock exclusiveLock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try 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RandomAccessFile raf = new RandomAccessFile("file.txt", "rw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// get the channel for the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FileChannel ch = raf.getChannel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// this locks the first half of the file - exclus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exclusiveLock = ch.lock(0, raf.length()/2, EXCLUSIV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/** Now modify the data . . .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// release the lo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exclusiveLock.releas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8960" y="147240"/>
            <a:ext cx="79959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99"/>
                </a:solidFill>
                <a:latin typeface="Arial"/>
              </a:rPr>
              <a:t>File Locking Example – Java API (Cont.)</a:t>
            </a:r>
            <a:endParaRPr b="1" lang="en-US" sz="3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98480" y="1250640"/>
            <a:ext cx="7243920" cy="52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// this locks the second half of the file - sha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sharedLock = ch.lock(raf.length()/2+1, raf.length(),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SHARE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/** Now read the data . . .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// release the l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sharedLock.releas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}</a:t>
            </a:r>
            <a:r>
              <a:rPr b="0" i="1" lang="en-US" sz="16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catch (java.io.IOException ioe) {</a:t>
            </a:r>
            <a:r>
              <a:rPr b="0" i="1" lang="en-US" sz="1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System.err.println(io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}finally {</a:t>
            </a:r>
            <a:r>
              <a:rPr b="0" i="1" lang="en-US" sz="1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if (exclusiveLock != nu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exclusiveLock.releas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if (sharedLock != nu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sharedLock.releas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68320" y="165240"/>
            <a:ext cx="781848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File Types – Name, Extension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rcRect l="15715" t="1186" r="15715" b="1186"/>
          <a:stretch/>
        </p:blipFill>
        <p:spPr>
          <a:xfrm>
            <a:off x="2498760" y="1209600"/>
            <a:ext cx="4336920" cy="4632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09360" y="150480"/>
            <a:ext cx="77770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File Structur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48880" y="1106280"/>
            <a:ext cx="6705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e - sequence of words,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record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xed 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ble 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tted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ocatable load fi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simulate last two with first method by inserting appropriate control charac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o decid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ng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78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equential-access Fil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1"/>
          <a:stretch/>
        </p:blipFill>
        <p:spPr>
          <a:xfrm>
            <a:off x="1758960" y="1359000"/>
            <a:ext cx="594684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Access Method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55440" y="1211040"/>
            <a:ext cx="7343640" cy="45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quential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n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write nex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read after last wr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ewri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rect Access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e is fixed length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logical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write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osition to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n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write nex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write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relative block nu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lative block numbers allow OS to decide where file should be plac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allocation problem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Ch 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55800" y="196560"/>
            <a:ext cx="8300880" cy="43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Simulation of Sequential Access on Direct-access File</a:t>
            </a:r>
            <a:endParaRPr b="1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30" name="Picture 6" descr=""/>
          <p:cNvPicPr/>
          <p:nvPr/>
        </p:nvPicPr>
        <p:blipFill>
          <a:blip r:embed="rId1"/>
          <a:stretch/>
        </p:blipFill>
        <p:spPr>
          <a:xfrm>
            <a:off x="1701720" y="1289160"/>
            <a:ext cx="6129360" cy="22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360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Other Access Method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00000" y="1196640"/>
            <a:ext cx="6780240" cy="42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built on top of base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l involve creation of an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inde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the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ep index in memory for fast determination of location of data to be operated on (consider UPC code plus record of data about that ite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oo large, index (in memory) of the index (on dis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 indexed sequential-access method (ISA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ll master index, points to disk blocks of secondary 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kept sorted on a defined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done by the 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MS operating system provides index and relative files as another example (see next sli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65160" y="1504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Example of Index and Relative File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34" name="Picture 5" descr=""/>
          <p:cNvPicPr/>
          <p:nvPr/>
        </p:nvPicPr>
        <p:blipFill>
          <a:blip r:embed="rId1"/>
          <a:stretch/>
        </p:blipFill>
        <p:spPr>
          <a:xfrm>
            <a:off x="1579680" y="1320840"/>
            <a:ext cx="590220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808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Directory Structur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66960" y="1374480"/>
            <a:ext cx="73706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ollection of nodes containing information about all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4"/>
          <p:cNvSpPr/>
          <p:nvPr/>
        </p:nvSpPr>
        <p:spPr>
          <a:xfrm>
            <a:off x="2819520" y="2286000"/>
            <a:ext cx="53316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Oval 5"/>
          <p:cNvSpPr/>
          <p:nvPr/>
        </p:nvSpPr>
        <p:spPr>
          <a:xfrm>
            <a:off x="3581280" y="2286000"/>
            <a:ext cx="53352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Oval 6"/>
          <p:cNvSpPr/>
          <p:nvPr/>
        </p:nvSpPr>
        <p:spPr>
          <a:xfrm>
            <a:off x="4343400" y="2286000"/>
            <a:ext cx="53352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Oval 7"/>
          <p:cNvSpPr/>
          <p:nvPr/>
        </p:nvSpPr>
        <p:spPr>
          <a:xfrm>
            <a:off x="5105520" y="2286000"/>
            <a:ext cx="53316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Oval 8"/>
          <p:cNvSpPr/>
          <p:nvPr/>
        </p:nvSpPr>
        <p:spPr>
          <a:xfrm>
            <a:off x="5867280" y="2590920"/>
            <a:ext cx="53352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2819520" y="4267080"/>
            <a:ext cx="4572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Rectangle 10"/>
          <p:cNvSpPr/>
          <p:nvPr/>
        </p:nvSpPr>
        <p:spPr>
          <a:xfrm>
            <a:off x="3581280" y="4267080"/>
            <a:ext cx="457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Rectangle 11"/>
          <p:cNvSpPr/>
          <p:nvPr/>
        </p:nvSpPr>
        <p:spPr>
          <a:xfrm>
            <a:off x="4343400" y="4267080"/>
            <a:ext cx="4572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Rectangle 12"/>
          <p:cNvSpPr/>
          <p:nvPr/>
        </p:nvSpPr>
        <p:spPr>
          <a:xfrm>
            <a:off x="5105520" y="426708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Rectangle 13"/>
          <p:cNvSpPr/>
          <p:nvPr/>
        </p:nvSpPr>
        <p:spPr>
          <a:xfrm>
            <a:off x="5867280" y="4648320"/>
            <a:ext cx="4572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Line 14"/>
          <p:cNvSpPr/>
          <p:nvPr/>
        </p:nvSpPr>
        <p:spPr>
          <a:xfrm>
            <a:off x="3838680" y="27432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Line 15"/>
          <p:cNvSpPr/>
          <p:nvPr/>
        </p:nvSpPr>
        <p:spPr>
          <a:xfrm>
            <a:off x="4572000" y="27432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Line 16"/>
          <p:cNvSpPr/>
          <p:nvPr/>
        </p:nvSpPr>
        <p:spPr>
          <a:xfrm>
            <a:off x="6095880" y="30481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Line 17"/>
          <p:cNvSpPr/>
          <p:nvPr/>
        </p:nvSpPr>
        <p:spPr>
          <a:xfrm>
            <a:off x="5334120" y="27432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Line 18"/>
          <p:cNvSpPr/>
          <p:nvPr/>
        </p:nvSpPr>
        <p:spPr>
          <a:xfrm>
            <a:off x="3048120" y="27432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Freeform 19"/>
          <p:cNvSpPr/>
          <p:nvPr/>
        </p:nvSpPr>
        <p:spPr>
          <a:xfrm>
            <a:off x="2538360" y="1962000"/>
            <a:ext cx="4186440" cy="1473480"/>
          </a:xfrm>
          <a:custGeom>
            <a:avLst/>
            <a:gdLst>
              <a:gd name="textAreaLeft" fmla="*/ 0 w 4186440"/>
              <a:gd name="textAreaRight" fmla="*/ 4186800 w 4186440"/>
              <a:gd name="textAreaTop" fmla="*/ 0 h 1473480"/>
              <a:gd name="textAreaBottom" fmla="*/ 1473840 h 1473480"/>
            </a:gdLst>
            <a:ahLst/>
            <a:rect l="textAreaLeft" t="textAreaTop" r="textAreaRight" b="textAreaBottom"/>
            <a:pathLst>
              <a:path w="2637" h="928">
                <a:moveTo>
                  <a:pt x="10" y="328"/>
                </a:moveTo>
                <a:cubicBezTo>
                  <a:pt x="14" y="291"/>
                  <a:pt x="6" y="248"/>
                  <a:pt x="28" y="219"/>
                </a:cubicBezTo>
                <a:cubicBezTo>
                  <a:pt x="124" y="92"/>
                  <a:pt x="264" y="66"/>
                  <a:pt x="410" y="37"/>
                </a:cubicBezTo>
                <a:cubicBezTo>
                  <a:pt x="516" y="16"/>
                  <a:pt x="457" y="14"/>
                  <a:pt x="583" y="10"/>
                </a:cubicBezTo>
                <a:cubicBezTo>
                  <a:pt x="728" y="5"/>
                  <a:pt x="874" y="3"/>
                  <a:pt x="1019" y="0"/>
                </a:cubicBezTo>
                <a:cubicBezTo>
                  <a:pt x="1146" y="3"/>
                  <a:pt x="1274" y="3"/>
                  <a:pt x="1401" y="10"/>
                </a:cubicBezTo>
                <a:cubicBezTo>
                  <a:pt x="1485" y="15"/>
                  <a:pt x="1571" y="41"/>
                  <a:pt x="1655" y="55"/>
                </a:cubicBezTo>
                <a:cubicBezTo>
                  <a:pt x="1733" y="86"/>
                  <a:pt x="1819" y="108"/>
                  <a:pt x="1901" y="128"/>
                </a:cubicBezTo>
                <a:cubicBezTo>
                  <a:pt x="1942" y="148"/>
                  <a:pt x="1975" y="152"/>
                  <a:pt x="2019" y="164"/>
                </a:cubicBezTo>
                <a:cubicBezTo>
                  <a:pt x="2098" y="185"/>
                  <a:pt x="2162" y="200"/>
                  <a:pt x="2246" y="210"/>
                </a:cubicBezTo>
                <a:cubicBezTo>
                  <a:pt x="2293" y="226"/>
                  <a:pt x="2338" y="230"/>
                  <a:pt x="2382" y="255"/>
                </a:cubicBezTo>
                <a:cubicBezTo>
                  <a:pt x="2439" y="287"/>
                  <a:pt x="2477" y="343"/>
                  <a:pt x="2519" y="391"/>
                </a:cubicBezTo>
                <a:cubicBezTo>
                  <a:pt x="2536" y="410"/>
                  <a:pt x="2562" y="423"/>
                  <a:pt x="2573" y="446"/>
                </a:cubicBezTo>
                <a:cubicBezTo>
                  <a:pt x="2594" y="488"/>
                  <a:pt x="2606" y="529"/>
                  <a:pt x="2619" y="573"/>
                </a:cubicBezTo>
                <a:cubicBezTo>
                  <a:pt x="2624" y="591"/>
                  <a:pt x="2637" y="628"/>
                  <a:pt x="2637" y="628"/>
                </a:cubicBezTo>
                <a:cubicBezTo>
                  <a:pt x="2634" y="654"/>
                  <a:pt x="2634" y="707"/>
                  <a:pt x="2619" y="737"/>
                </a:cubicBezTo>
                <a:cubicBezTo>
                  <a:pt x="2582" y="812"/>
                  <a:pt x="2477" y="854"/>
                  <a:pt x="2401" y="873"/>
                </a:cubicBezTo>
                <a:cubicBezTo>
                  <a:pt x="2341" y="911"/>
                  <a:pt x="2270" y="909"/>
                  <a:pt x="2201" y="919"/>
                </a:cubicBezTo>
                <a:cubicBezTo>
                  <a:pt x="1832" y="915"/>
                  <a:pt x="1500" y="928"/>
                  <a:pt x="1146" y="873"/>
                </a:cubicBezTo>
                <a:cubicBezTo>
                  <a:pt x="917" y="837"/>
                  <a:pt x="702" y="728"/>
                  <a:pt x="474" y="700"/>
                </a:cubicBezTo>
                <a:cubicBezTo>
                  <a:pt x="465" y="697"/>
                  <a:pt x="455" y="695"/>
                  <a:pt x="446" y="691"/>
                </a:cubicBezTo>
                <a:cubicBezTo>
                  <a:pt x="434" y="686"/>
                  <a:pt x="423" y="677"/>
                  <a:pt x="410" y="673"/>
                </a:cubicBezTo>
                <a:cubicBezTo>
                  <a:pt x="297" y="636"/>
                  <a:pt x="185" y="632"/>
                  <a:pt x="83" y="564"/>
                </a:cubicBezTo>
                <a:cubicBezTo>
                  <a:pt x="47" y="512"/>
                  <a:pt x="45" y="458"/>
                  <a:pt x="28" y="400"/>
                </a:cubicBezTo>
                <a:cubicBezTo>
                  <a:pt x="28" y="400"/>
                  <a:pt x="5" y="332"/>
                  <a:pt x="1" y="319"/>
                </a:cubicBezTo>
                <a:cubicBezTo>
                  <a:pt x="0" y="315"/>
                  <a:pt x="7" y="325"/>
                  <a:pt x="10" y="328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Freeform 20"/>
          <p:cNvSpPr/>
          <p:nvPr/>
        </p:nvSpPr>
        <p:spPr>
          <a:xfrm>
            <a:off x="2362320" y="3886200"/>
            <a:ext cx="4262400" cy="1600200"/>
          </a:xfrm>
          <a:custGeom>
            <a:avLst/>
            <a:gdLst>
              <a:gd name="textAreaLeft" fmla="*/ 0 w 4262400"/>
              <a:gd name="textAreaRight" fmla="*/ 4262760 w 42624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2637" h="928">
                <a:moveTo>
                  <a:pt x="10" y="328"/>
                </a:moveTo>
                <a:cubicBezTo>
                  <a:pt x="14" y="291"/>
                  <a:pt x="6" y="248"/>
                  <a:pt x="28" y="219"/>
                </a:cubicBezTo>
                <a:cubicBezTo>
                  <a:pt x="124" y="92"/>
                  <a:pt x="264" y="66"/>
                  <a:pt x="410" y="37"/>
                </a:cubicBezTo>
                <a:cubicBezTo>
                  <a:pt x="516" y="16"/>
                  <a:pt x="457" y="14"/>
                  <a:pt x="583" y="10"/>
                </a:cubicBezTo>
                <a:cubicBezTo>
                  <a:pt x="728" y="5"/>
                  <a:pt x="874" y="3"/>
                  <a:pt x="1019" y="0"/>
                </a:cubicBezTo>
                <a:cubicBezTo>
                  <a:pt x="1146" y="3"/>
                  <a:pt x="1274" y="3"/>
                  <a:pt x="1401" y="10"/>
                </a:cubicBezTo>
                <a:cubicBezTo>
                  <a:pt x="1485" y="15"/>
                  <a:pt x="1571" y="41"/>
                  <a:pt x="1655" y="55"/>
                </a:cubicBezTo>
                <a:cubicBezTo>
                  <a:pt x="1733" y="86"/>
                  <a:pt x="1819" y="108"/>
                  <a:pt x="1901" y="128"/>
                </a:cubicBezTo>
                <a:cubicBezTo>
                  <a:pt x="1942" y="148"/>
                  <a:pt x="1975" y="152"/>
                  <a:pt x="2019" y="164"/>
                </a:cubicBezTo>
                <a:cubicBezTo>
                  <a:pt x="2098" y="185"/>
                  <a:pt x="2162" y="200"/>
                  <a:pt x="2246" y="210"/>
                </a:cubicBezTo>
                <a:cubicBezTo>
                  <a:pt x="2293" y="226"/>
                  <a:pt x="2338" y="230"/>
                  <a:pt x="2382" y="255"/>
                </a:cubicBezTo>
                <a:cubicBezTo>
                  <a:pt x="2439" y="287"/>
                  <a:pt x="2477" y="343"/>
                  <a:pt x="2519" y="391"/>
                </a:cubicBezTo>
                <a:cubicBezTo>
                  <a:pt x="2536" y="410"/>
                  <a:pt x="2562" y="423"/>
                  <a:pt x="2573" y="446"/>
                </a:cubicBezTo>
                <a:cubicBezTo>
                  <a:pt x="2594" y="488"/>
                  <a:pt x="2606" y="529"/>
                  <a:pt x="2619" y="573"/>
                </a:cubicBezTo>
                <a:cubicBezTo>
                  <a:pt x="2624" y="591"/>
                  <a:pt x="2637" y="628"/>
                  <a:pt x="2637" y="628"/>
                </a:cubicBezTo>
                <a:cubicBezTo>
                  <a:pt x="2634" y="654"/>
                  <a:pt x="2634" y="707"/>
                  <a:pt x="2619" y="737"/>
                </a:cubicBezTo>
                <a:cubicBezTo>
                  <a:pt x="2582" y="812"/>
                  <a:pt x="2477" y="854"/>
                  <a:pt x="2401" y="873"/>
                </a:cubicBezTo>
                <a:cubicBezTo>
                  <a:pt x="2341" y="911"/>
                  <a:pt x="2270" y="909"/>
                  <a:pt x="2201" y="919"/>
                </a:cubicBezTo>
                <a:cubicBezTo>
                  <a:pt x="1832" y="915"/>
                  <a:pt x="1500" y="928"/>
                  <a:pt x="1146" y="873"/>
                </a:cubicBezTo>
                <a:cubicBezTo>
                  <a:pt x="917" y="837"/>
                  <a:pt x="702" y="728"/>
                  <a:pt x="474" y="700"/>
                </a:cubicBezTo>
                <a:cubicBezTo>
                  <a:pt x="465" y="697"/>
                  <a:pt x="455" y="695"/>
                  <a:pt x="446" y="691"/>
                </a:cubicBezTo>
                <a:cubicBezTo>
                  <a:pt x="434" y="686"/>
                  <a:pt x="423" y="677"/>
                  <a:pt x="410" y="673"/>
                </a:cubicBezTo>
                <a:cubicBezTo>
                  <a:pt x="297" y="636"/>
                  <a:pt x="185" y="632"/>
                  <a:pt x="83" y="564"/>
                </a:cubicBezTo>
                <a:cubicBezTo>
                  <a:pt x="47" y="512"/>
                  <a:pt x="45" y="458"/>
                  <a:pt x="28" y="400"/>
                </a:cubicBezTo>
                <a:cubicBezTo>
                  <a:pt x="28" y="400"/>
                  <a:pt x="5" y="332"/>
                  <a:pt x="1" y="319"/>
                </a:cubicBezTo>
                <a:cubicBezTo>
                  <a:pt x="0" y="315"/>
                  <a:pt x="7" y="325"/>
                  <a:pt x="10" y="328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Text Box 21"/>
          <p:cNvSpPr/>
          <p:nvPr/>
        </p:nvSpPr>
        <p:spPr>
          <a:xfrm>
            <a:off x="1297800" y="228528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or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Text Box 22"/>
          <p:cNvSpPr/>
          <p:nvPr/>
        </p:nvSpPr>
        <p:spPr>
          <a:xfrm>
            <a:off x="1437120" y="41904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Rectangle 23"/>
          <p:cNvSpPr/>
          <p:nvPr/>
        </p:nvSpPr>
        <p:spPr>
          <a:xfrm>
            <a:off x="990720" y="5638680"/>
            <a:ext cx="7602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h the directory structure and the files reside on dis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68400" y="193320"/>
            <a:ext cx="79293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hapter 11:  File-System Interfac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06040" y="1233360"/>
            <a:ext cx="5705640" cy="34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 and Directory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-System Mou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Sha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78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Disk Structur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61840" y="1120680"/>
            <a:ext cx="70437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 can be subdivided into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part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s or partitions can be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RAI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ected against fail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 or partition can be used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raw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without a file system, or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formatted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a fil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tions also known as minidisks, sl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ity containing file system known as a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vol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volume containing file system also tracks that file system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info in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device directory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volume table of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well as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general-purpose file systems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many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pecial-purpose file syste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frequently all within the same operating system or comp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65080" y="178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A Typical File-system Organization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60" name="Picture 6" descr="10"/>
          <p:cNvPicPr/>
          <p:nvPr/>
        </p:nvPicPr>
        <p:blipFill>
          <a:blip r:embed="rId1"/>
          <a:stretch/>
        </p:blipFill>
        <p:spPr>
          <a:xfrm>
            <a:off x="1322280" y="1187280"/>
            <a:ext cx="6910560" cy="36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78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Types of File System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806040" y="1134720"/>
            <a:ext cx="7380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mostly talk of general-purpose fil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systems frequently have may file systems, some general- and some special-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Solaris h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pfs – memory-based volatile FS for fast, temporary I/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fs – interface into kernel memory to get kernel symbols for debug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fs – contract file system for managing daem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fs – loopback file system allows one FS to be accessed in place of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fs – kernel interface to process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fs, zfs – general purpose fil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23760" y="1504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Operations Performed on Directory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06400" y="10918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 for a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ete a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a dire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ame a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verse the fil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79000" y="241200"/>
            <a:ext cx="77439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Directory Organization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00240" y="1626840"/>
            <a:ext cx="6438960" cy="44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ficiency – locating a file quick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ing – convenient to 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users can have same name for different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ame file can have several different n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ing – logical grouping of files by properties, (e.g., all Java programs, all games, 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900000" y="1079640"/>
            <a:ext cx="718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irectory is organized logically  to obtain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6524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ingle-Level Directory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55720" y="990720"/>
            <a:ext cx="727560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ingle directory for all 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ing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ing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1050840" y="3746520"/>
            <a:ext cx="44071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1" name="Picture 7" descr=""/>
          <p:cNvPicPr/>
          <p:nvPr/>
        </p:nvPicPr>
        <p:blipFill>
          <a:blip r:embed="rId1"/>
          <a:stretch/>
        </p:blipFill>
        <p:spPr>
          <a:xfrm>
            <a:off x="1744560" y="1577880"/>
            <a:ext cx="610092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78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Two-Level Directory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48880" y="1120680"/>
            <a:ext cx="7869240" cy="55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arate directory for each 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853920" y="4111560"/>
            <a:ext cx="70027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h nam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1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have the same file name for different us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1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ficient search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1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grouping capabilit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5" name="Picture 8" descr=""/>
          <p:cNvPicPr/>
          <p:nvPr/>
        </p:nvPicPr>
        <p:blipFill>
          <a:blip r:embed="rId1"/>
          <a:stretch/>
        </p:blipFill>
        <p:spPr>
          <a:xfrm>
            <a:off x="1857240" y="1724040"/>
            <a:ext cx="6427800" cy="21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78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Tree-Structured Directorie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77" name="Picture 6" descr=""/>
          <p:cNvPicPr/>
          <p:nvPr/>
        </p:nvPicPr>
        <p:blipFill>
          <a:blip r:embed="rId1"/>
          <a:stretch/>
        </p:blipFill>
        <p:spPr>
          <a:xfrm>
            <a:off x="1533600" y="1239840"/>
            <a:ext cx="6915240" cy="44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0160" y="193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Tree-Structured Directories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76240" y="1079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ficient searchi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ing Capabil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directory (working directo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d /spell/mail/pr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20600" y="1504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Tree-Structured Directories (Cont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63640" y="1136160"/>
            <a:ext cx="7370640" cy="29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ctr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Absolu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rela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th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ctr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ing a new file is done in current dire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ctr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ete a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ctr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m &lt;file-na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ctr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ing a new subdirectory is done in current dire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ctr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r &lt;dir-na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ctr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 if in current directory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ctr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r 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1"/>
          <p:cNvSpPr/>
          <p:nvPr/>
        </p:nvSpPr>
        <p:spPr>
          <a:xfrm>
            <a:off x="852480" y="5560920"/>
            <a:ext cx="74232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ctr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eting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l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leting the entire subtree rooted by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l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3" name="Picture 1" descr=""/>
          <p:cNvPicPr/>
          <p:nvPr/>
        </p:nvPicPr>
        <p:blipFill>
          <a:blip r:embed="rId1"/>
          <a:stretch/>
        </p:blipFill>
        <p:spPr>
          <a:xfrm>
            <a:off x="2658960" y="4100400"/>
            <a:ext cx="3132360" cy="10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6524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67197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explain the function of fil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escribe the interfaces to fil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iscuss file-system design tradeoffs, including access methods, file sharing, file locking, and directory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explore file-system 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Acyclic-Graph Directorie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10720" y="1093320"/>
            <a:ext cx="7029720" cy="5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shared subdirectories and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7" descr="10"/>
          <p:cNvPicPr/>
          <p:nvPr/>
        </p:nvPicPr>
        <p:blipFill>
          <a:blip r:embed="rId1"/>
          <a:stretch/>
        </p:blipFill>
        <p:spPr>
          <a:xfrm>
            <a:off x="2236680" y="1677960"/>
            <a:ext cx="4961160" cy="40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11240" y="136080"/>
            <a:ext cx="77184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Acyclic-Graph Directories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90640" y="1120680"/>
            <a:ext cx="75643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different names (alias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i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lete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i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angling poi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pointers, so we can delete all pointer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ble size records a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pointers using a daisy chain orga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ry-hold-count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directory entry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Lin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another name (pointer) to an existing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Resolve the link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follow pointer to locate the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30320" y="178920"/>
            <a:ext cx="76564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General Graph Directory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90" name="Picture 6" descr="10"/>
          <p:cNvPicPr/>
          <p:nvPr/>
        </p:nvPicPr>
        <p:blipFill>
          <a:blip r:embed="rId1"/>
          <a:stretch/>
        </p:blipFill>
        <p:spPr>
          <a:xfrm>
            <a:off x="1434960" y="1332000"/>
            <a:ext cx="6616800" cy="39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07640" y="178920"/>
            <a:ext cx="770724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General Graph Directory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61480" y="1134720"/>
            <a:ext cx="695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do we guarantee no cycl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 only links to file not subdirec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Garbag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 time a new link is added use a cycle detection algorithm to determine whether it is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68400" y="136080"/>
            <a:ext cx="77184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File System Mounting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48880" y="1120680"/>
            <a:ext cx="6821640" cy="30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ile system must be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mount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fore it can be acces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unmounted file system (i.e., Fig. 11-11(b)) is mounted at a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mount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" descr="11_14.pdf"/>
          <p:cNvPicPr/>
          <p:nvPr/>
        </p:nvPicPr>
        <p:blipFill>
          <a:blip r:embed="rId1"/>
          <a:stretch/>
        </p:blipFill>
        <p:spPr>
          <a:xfrm>
            <a:off x="1589040" y="2300400"/>
            <a:ext cx="5910480" cy="34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Mount Point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97" name="Picture 5" descr=""/>
          <p:cNvPicPr/>
          <p:nvPr/>
        </p:nvPicPr>
        <p:blipFill>
          <a:blip r:embed="rId1"/>
          <a:stretch/>
        </p:blipFill>
        <p:spPr>
          <a:xfrm>
            <a:off x="3214800" y="1266840"/>
            <a:ext cx="2984400" cy="34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360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File Sharing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5200" y="1106280"/>
            <a:ext cx="7099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ing of files on multi-user systems is desir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ing may be done through a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prote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ch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distributed systems, files may be shared across a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File System (NFS) is a common distributed file-sharing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multi-user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User ID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 users, allowing permissions and protections to be per-user</a:t>
            </a:r>
            <a:br>
              <a:rPr sz="1800"/>
            </a:b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Group ID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 users to be in groups, permitting group access r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wner of a file / dire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of a file / dire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7240" y="208080"/>
            <a:ext cx="853128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File Sharing – Remote File System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67960" y="1095120"/>
            <a:ext cx="7853400" cy="52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networking to allow file system access between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ually via programs like F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ally, seamlessly using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distributed fil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i automatically via the</a:t>
            </a:r>
            <a:r>
              <a:rPr b="1" lang="en-US" sz="1800" spc="-1" strike="noStrike">
                <a:solidFill>
                  <a:srgbClr val="99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world wide 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Client-serv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 allows clients to mount remote file systems from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 can serve multiple 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 and user-on-client identification is insecure or complic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N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standard UNIX client-server file sharing 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CI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standard Windows 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 operating system file calls are translated into remote c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ted Information System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distributed naming servi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uch as LDAP, DNS, NIS, Active Directory implement unified access to information needed for remote compu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12880" y="136080"/>
            <a:ext cx="788832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File Sharing – Failure Mode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48880" y="1177560"/>
            <a:ext cx="69166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file systems have failure m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xample corruption of directory structures or other non-user data, called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te file systems add new failure modes, due to network failure, server fail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from failure can involve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tate inform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out status of each remote requ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tatel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tocols such as NFS v3 include all information in each request, allowing easy recovery but less 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66960" y="186840"/>
            <a:ext cx="850104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File Sharing – Consistency Semantic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48880" y="1109520"/>
            <a:ext cx="729612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y how multiple users are to access a shared file simultaneous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 to Ch 5 process synchronization algorith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nd to be less complex due to disk I/O and network latency (for remote fil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File System (AFS) implemented complex remote file sharing seman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x file system (UFS) imple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s to an open file visible immediately to other users of the same open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ing file pointer to allow multiple users to read and write concurr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S has session seman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s only visible to sessions starting after the file is clo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0">
              <a:spcBef>
                <a:spcPts val="788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93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File Concept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61480" y="1120680"/>
            <a:ext cx="76489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guous logical address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nts defined by file’s cre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text file, source file, executable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6524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rotection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75880" y="1091880"/>
            <a:ext cx="74516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owner/creator should be able to contro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can be 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wh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s of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ec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85640" y="16524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Access Lists and Group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75880" y="1091880"/>
            <a:ext cx="7342200" cy="35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833480"/>
                <a:tab algn="l" pos="4459320"/>
                <a:tab algn="l" pos="5195880"/>
                <a:tab algn="l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 of access:  read, write, exec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833480"/>
                <a:tab algn="l" pos="4459320"/>
                <a:tab algn="l" pos="5195880"/>
                <a:tab algn="l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 classes of users on Unix /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33480"/>
                <a:tab algn="l" pos="4459320"/>
                <a:tab algn="l" pos="5195880"/>
                <a:tab algn="l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W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33480"/>
                <a:tab algn="l" pos="4459320"/>
                <a:tab algn="l" pos="5195880"/>
                <a:tab algn="l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wner acc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1 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W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33480"/>
                <a:tab algn="l" pos="4459320"/>
                <a:tab algn="l" pos="5195880"/>
                <a:tab algn="l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oup acc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1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33480"/>
                <a:tab algn="l" pos="4459320"/>
                <a:tab algn="l" pos="5195880"/>
                <a:tab algn="l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W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33480"/>
                <a:tab algn="l" pos="4459320"/>
                <a:tab algn="l" pos="5195880"/>
                <a:tab algn="l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blic acc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 0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833480"/>
                <a:tab algn="l" pos="4459320"/>
                <a:tab algn="l" pos="5195880"/>
                <a:tab algn="l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k manager to create a group (unique name), say G, and add some users to the grou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833480"/>
                <a:tab algn="l" pos="4459320"/>
                <a:tab algn="l" pos="5195880"/>
                <a:tab algn="l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 particular file (sa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or subdirectory, define an appropriate ac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3"/>
          <p:cNvSpPr/>
          <p:nvPr/>
        </p:nvSpPr>
        <p:spPr>
          <a:xfrm>
            <a:off x="798480" y="5643720"/>
            <a:ext cx="702936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33480"/>
                <a:tab algn="l" pos="4459320"/>
                <a:tab algn="l" pos="5195880"/>
                <a:tab algn="l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ach a group to a fi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hgrp     G    gam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1" name="Picture 1" descr=""/>
          <p:cNvPicPr/>
          <p:nvPr/>
        </p:nvPicPr>
        <p:blipFill>
          <a:blip r:embed="rId1"/>
          <a:stretch/>
        </p:blipFill>
        <p:spPr>
          <a:xfrm>
            <a:off x="3559320" y="4660920"/>
            <a:ext cx="2512800" cy="9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78000" y="90360"/>
            <a:ext cx="78645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Windows 7 Access-Control List Management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13" name="Picture 2" descr="11_16.pdf"/>
          <p:cNvPicPr/>
          <p:nvPr/>
        </p:nvPicPr>
        <p:blipFill>
          <a:blip r:embed="rId1"/>
          <a:stretch/>
        </p:blipFill>
        <p:spPr>
          <a:xfrm>
            <a:off x="2841480" y="1120680"/>
            <a:ext cx="3533760" cy="48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48960" y="150480"/>
            <a:ext cx="77374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A Sample UNIX Directory Listing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rcRect l="724" t="27066" r="724" b="27066"/>
          <a:stretch/>
        </p:blipFill>
        <p:spPr>
          <a:xfrm>
            <a:off x="1519200" y="1208160"/>
            <a:ext cx="662940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81396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6699"/>
                </a:solidFill>
                <a:latin typeface="Arial"/>
              </a:rPr>
              <a:t>End of Chapter 11</a:t>
            </a:r>
            <a:endParaRPr b="1" lang="en-US" sz="43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0808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File Attribute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4840" y="1091880"/>
            <a:ext cx="7591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only information kept in human-readable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entifi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unique tag (number) identifies file within fil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needed for systems that support different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pointer to file location on 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z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current file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e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controls who can do reading, writing, execu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, date, and user identific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data for protection, security, and usage moni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about files are kept in the directory structure, which is maintained on the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variations, including extended file attributes such as file checks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kept in the directory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File info Window on Mac OS X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10" name="Picture 4" descr="11_01.pdf"/>
          <p:cNvPicPr/>
          <p:nvPr/>
        </p:nvPicPr>
        <p:blipFill>
          <a:blip r:embed="rId1"/>
          <a:stretch/>
        </p:blipFill>
        <p:spPr>
          <a:xfrm>
            <a:off x="3637080" y="1041480"/>
            <a:ext cx="1920600" cy="51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6524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File Operation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48880" y="1106280"/>
            <a:ext cx="67755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is a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stract data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write point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read point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sition within file -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e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unc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pen(F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search the directory structure on disk for entry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 move the content of entry to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lose (F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move the content of ent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mory to directory structure on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78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Open File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5200" y="1120680"/>
            <a:ext cx="68040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ral pieces of data are needed to manage open fi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Open-file ta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tracks open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pointer:  pointer to last read/write location, per process that has the file o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File-open cou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counter of number of times a file is open – to allow removal of data from open-file table when last processes closes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 location of the file: cache of data access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 rights: per-process access mode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78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Open File Locking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06040" y="1106280"/>
            <a:ext cx="71420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d by some operating systems and fil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 to reader-writer 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ha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loc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imilar to reader lock – several processes can acquire concurr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Exclusive lock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 to writer 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ates access to a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datory or advisor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Manda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access is denied depending on locks held and reques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Advis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processes can find status of locks and decide what to 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18:29:30Z</dcterms:created>
  <dc:creator>Lucent End User</dc:creator>
  <dc:description/>
  <dc:language>en-US</dc:language>
  <cp:lastModifiedBy>Paige, Judi</cp:lastModifiedBy>
  <dcterms:modified xsi:type="dcterms:W3CDTF">2014-01-22T15:50:04Z</dcterms:modified>
  <cp:revision>110</cp:revision>
  <dc:subject/>
  <dc:title>1.01</dc:title>
</cp:coreProperties>
</file>