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png" ContentType="image/png"/>
  <Override PartName="/ppt/media/image25.jpeg" ContentType="image/jpeg"/>
  <Override PartName="/ppt/media/image32.png" ContentType="image/png"/>
  <Override PartName="/ppt/media/image24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5.wmf" ContentType="image/x-wmf"/>
  <Override PartName="/ppt/media/image35.wmf" ContentType="image/x-wmf"/>
  <Override PartName="/ppt/media/image15.png" ContentType="image/png"/>
  <Override PartName="/ppt/media/image28.png" ContentType="image/png"/>
  <Override PartName="/ppt/media/image8.jpeg" ContentType="image/jpeg"/>
  <Override PartName="/ppt/media/image10.jpeg" ContentType="image/jpeg"/>
  <Override PartName="/ppt/media/image13.wmf" ContentType="image/x-wmf"/>
  <Override PartName="/ppt/media/image3.jpeg" ContentType="image/jpeg"/>
  <Override PartName="/ppt/media/image30.png" ContentType="image/png"/>
  <Override PartName="/ppt/media/image31.png" ContentType="image/png"/>
  <Override PartName="/ppt/media/image36.wmf" ContentType="image/x-wmf"/>
  <Override PartName="/ppt/media/image16.png" ContentType="image/png"/>
  <Override PartName="/ppt/media/image37.wmf" ContentType="image/x-wmf"/>
  <Override PartName="/ppt/media/image17.png" ContentType="image/png"/>
  <Override PartName="/ppt/media/image9.jpeg" ContentType="image/jpeg"/>
  <Override PartName="/ppt/media/image11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23.jpeg" ContentType="image/jpeg"/>
  <Override PartName="/ppt/media/image20.png" ContentType="image/png"/>
  <Override PartName="/ppt/media/image18.wmf" ContentType="image/x-wmf"/>
  <Override PartName="/ppt/media/image2.jpeg" ContentType="image/jpeg"/>
  <Override PartName="/ppt/media/image14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883260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973320" y="8832600"/>
            <a:ext cx="303660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4C1FC31-EDB4-4FAE-83E8-EEDCEDEFB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9F762BA-4066-4F6D-A87E-35ED0EE65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D57DDFD-E2C6-4A74-B2E1-76DB953D8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499DDA1-9427-42D8-98EF-19239D892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2741EB8-9B92-4376-BCAC-861BDBA6B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01710DA-B867-4326-BD13-DB4688C42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73BAB90-4A46-43DC-BBFE-98702A5CD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347B529-B45F-462B-AF63-85CD7E863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A3AA30F-1AE1-4458-A0C3-5CFBA4A69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2DAB8E5-808F-47BD-A317-2E90F9ABE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A45A588-50D5-46AD-B38D-AB97D6814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C62975A-8964-4FBE-9424-43A0AE0AB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DC4B8B4-8B3F-4CE6-8EAF-9EF063ABD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0144484-E3AB-4890-B0AE-3730C36E8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A572CBA-5F01-4475-B222-2C10C6D98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6055774-7800-43A9-B0A1-39630F55B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81D7FE4-9868-4316-8AB0-078C9E7AB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E382BE1-75E7-4A2C-8F9D-55777D5DB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5B45779-8491-4D78-B704-3092C5A66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C35AE42-80F5-4C88-BF17-F6D98E120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2DCDE3C-E0F2-4C57-85FE-1789AC4BC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36A5FC5-D6A6-420C-B31A-9CB0D41A3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6D7B8D7-AEB9-4B72-8986-A5D15DA73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C05916E-1E4C-4926-A402-27B992E9E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9E17823-25EB-40C6-B821-D56BF1952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9441B7F-120B-42B5-9772-954E92F98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84946B3-9B3D-427F-8CDB-BD2292AF3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CA7FA65-34F7-4052-ABD8-5478E2F51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1B9AAB6-4443-44AB-9390-9442FC9EE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9D73BCF-81C1-43FE-968A-726BECA0C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68159F5-63F0-4B62-9CD6-DD90F6184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A98C451-3A19-4D13-9CFF-1CC9C27E3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CF05487-038E-44AD-B3D9-6200FEC33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013F906-3224-4233-9DB3-7C2C1B36A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BD70AB3-9C47-4B60-B905-9A4C22ADD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0CE9E93-3A97-4C8F-BCBA-9DE5F17D9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5F43558-FAB1-44B4-ABFE-BA2525315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5E36365-A8E2-476D-B89F-CB3BEEBAB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D3AB2B7-3959-46E0-8FB1-145B6A611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0461B2E-DC6D-48B4-A8FE-04E6EC80C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6F44ECF-0381-45F7-88CB-C3116C430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FB1E7D3-3445-4A47-8C51-6B92115D1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AD1239D-6A65-4CB9-9F90-BC2984E59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9435AC0-22B2-48FE-9C62-FBAB3AAE3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7FE1E89-721B-4874-AA5B-A871EF61C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C0E6299-AAEA-4A9A-8138-D30AE6E73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C09D16F-4A20-4E2B-8829-1170CC507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DBEA0A1-85BD-451F-A717-F7031F03B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FD6BFC7-2B03-4493-AAB7-8586F9AE4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538C480-498C-4DA9-85A5-3E90B5B13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BE4A578-FE00-4FF9-A622-FF1FA883E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A40CFC5-D42B-4C78-881B-E6C3CFE46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20EFF60-09BE-46D5-837C-3A0822A3D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BAC1359-2A6E-419B-8C48-91F9F8108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2F2CF2F-A602-41D3-AC5F-B340027F7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49D70D6-D3E3-4544-A851-8FFC5EEC3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3C5F054-2A02-4D4F-A609-F5F207C26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E413F76-F686-48FE-B3A2-B2CF489AD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F98816B-55A6-48B5-911C-17900969C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494DEFA-2083-4E8B-B059-BD851B66E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C20D0C5-8B4A-48FA-A049-4C39CBDB1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8E4067C-8FE0-400C-A4FC-3B4591DF1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1AC57EA-E5B5-4D0A-BBC3-810FEADC4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4401270-0C75-4AD7-BC6E-CCD404E83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ino_3"/>
          <p:cNvPicPr/>
          <p:nvPr/>
        </p:nvPicPr>
        <p:blipFill>
          <a:blip r:embed="rId2"/>
          <a:stretch/>
        </p:blipFill>
        <p:spPr>
          <a:xfrm>
            <a:off x="285840" y="0"/>
            <a:ext cx="1195200" cy="90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457200" y="860400"/>
            <a:ext cx="807732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03128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7.</a:t>
            </a:r>
            <a:fld id="{03528E4C-FE46-49D0-BD05-3820368077B7}" type="slidenum">
              <a:rPr b="1" lang="en-US" sz="1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253080" y="6621480"/>
            <a:ext cx="330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Operating System Concepts Essentials – 2</a:t>
            </a:r>
            <a:r>
              <a:rPr b="1" lang="en-US" sz="1000" spc="-1" strike="noStrike" baseline="30000">
                <a:solidFill>
                  <a:srgbClr val="006699"/>
                </a:solidFill>
                <a:latin typeface="Arial"/>
              </a:rPr>
              <a:t>nd</a:t>
            </a: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" name="Picture 12" descr="dino_6"/>
          <p:cNvPicPr/>
          <p:nvPr/>
        </p:nvPicPr>
        <p:blipFill>
          <a:blip r:embed="rId3"/>
          <a:stretch/>
        </p:blipFill>
        <p:spPr>
          <a:xfrm>
            <a:off x="7773840" y="5850000"/>
            <a:ext cx="128448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198360" y="2960640"/>
            <a:ext cx="8610840" cy="201600"/>
            <a:chOff x="198360" y="2960640"/>
            <a:chExt cx="8610840" cy="201600"/>
          </a:xfrm>
        </p:grpSpPr>
        <p:sp>
          <p:nvSpPr>
            <p:cNvPr id="48" name="Rectangle 4"/>
            <p:cNvSpPr/>
            <p:nvPr/>
          </p:nvSpPr>
          <p:spPr>
            <a:xfrm>
              <a:off x="19836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068640" y="2960640"/>
              <a:ext cx="2870280" cy="201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593892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94320" y="6613560"/>
            <a:ext cx="330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Operating System Concepts Essentials – 2</a:t>
            </a:r>
            <a:r>
              <a:rPr b="1" lang="en-US" sz="1000" spc="-1" strike="noStrike" baseline="30000">
                <a:solidFill>
                  <a:srgbClr val="336699"/>
                </a:solidFill>
                <a:latin typeface="Arial"/>
              </a:rPr>
              <a:t>nd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9" descr="dino_4"/>
          <p:cNvPicPr/>
          <p:nvPr/>
        </p:nvPicPr>
        <p:blipFill>
          <a:blip r:embed="rId2"/>
          <a:stretch/>
        </p:blipFill>
        <p:spPr>
          <a:xfrm>
            <a:off x="3360600" y="4157640"/>
            <a:ext cx="2062440" cy="159372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54" name="Rectangle 10"/>
          <p:cNvSpPr/>
          <p:nvPr/>
        </p:nvSpPr>
        <p:spPr>
          <a:xfrm>
            <a:off x="3224160" y="4006800"/>
            <a:ext cx="2336760" cy="188748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93440"/>
            <a:ext cx="7772400" cy="212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Chapter 7:  Main Memory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6280" y="198000"/>
            <a:ext cx="75484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ogical vs. Physical Address Spac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73000" y="1236600"/>
            <a:ext cx="712800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cept of a logical address space that is bound to a separat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hysical address space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central to proper memor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ogical address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generated by the CPU; also referred to a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hysical address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address seen by the memory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and physical addresses are the same in compile-time and load-time address-binding schemes; logical (virtual) and physical addresses differ in execution-time address-binding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ogical address sp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set of all logical addresses generated by a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hysical address sp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set of all physical addresses generated by a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79120" y="140760"/>
            <a:ext cx="7839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emory-Management Unit (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MMU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57160" y="1063440"/>
            <a:ext cx="7080480" cy="44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device that at run time maps virtual to physica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methods possible, covered in the rest of this 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tart, consider simple scheme where the value in the relocation register is added to every address generated by a user process at the time it is sent to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register now calle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location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-DOS on Intel 80x86 used 4 relocation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r program deals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g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ddresses; it never sees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hysical 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-time binding occurs when reference is made to location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address bound to physical 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8720" y="79200"/>
            <a:ext cx="822492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Dynamic relocation using a relocation register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4869000" y="1655640"/>
            <a:ext cx="3714480" cy="26892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966960" y="1063800"/>
            <a:ext cx="39211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rmAutofit/>
          </a:bodyPr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ine is not loaded until it is call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memory-space utilization; unused routine is never load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routines kept on disk in relocatable load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when large amounts of code are needed to handle infrequently occurring ca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pecial support from the operating system is requir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0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emented through program desig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0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S can help by providing libraries to implement dynamic load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ynamic Link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34560" y="1061640"/>
            <a:ext cx="7116840" cy="46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tatic link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system libraries and program code combined by the loader into the binary program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linking –linking postponed until execu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piece of code,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tu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used to locate the appropriate memory-resident library rou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b replaces itself with the address of the routine, and executes the rou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checks if routine is in processe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mory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t in address space, add to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linking is particularly useful for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also known a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pplicability to patching system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ing may be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88880" y="1191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wapp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73000" y="1122480"/>
            <a:ext cx="705168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cess can b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wapp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mporarily out of memory to a backing store, and then brought back into memory for continued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physical memory space of processes can exceed physic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acking store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fast disk large enough to accommodate copies of all memory images for all users; must provide direct access to these memory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oll out, roll in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swapping variant used for priority-based scheduling algorithms; lower-priority process is swapped out so higher-priority process can be loaded and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 part of swap time is transfer time; total transfer time is directly proportional to the amount of memory swap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maintains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ady queue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ready-to-run processes which have memory images on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8888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wapping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87400" y="1058760"/>
            <a:ext cx="716904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the swapped out process need to swap back in to same physical address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s on address binding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 consider pending I/O to / from process memory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 versions of swapping are found on many systems (i.e., UNIX, Linux, and Window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pping normally disa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ed if more than threshold amount of memory al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abled again once memory demand reduced below thresh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17200" y="182160"/>
            <a:ext cx="78692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chematic View of Swapp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2" name="Picture 4" descr="8"/>
          <p:cNvPicPr/>
          <p:nvPr/>
        </p:nvPicPr>
        <p:blipFill>
          <a:blip r:embed="rId1"/>
          <a:stretch/>
        </p:blipFill>
        <p:spPr>
          <a:xfrm>
            <a:off x="2081160" y="1400040"/>
            <a:ext cx="5099040" cy="38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71160" y="166320"/>
            <a:ext cx="76359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Context Switch Time including Swapping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69760" y="1112400"/>
            <a:ext cx="6949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xt processes to be put on CPU is not in memory, need to swap out a process and swap in targe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xt switch time can then be very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MB process swapping to hard disk with transfer rate of 50MB/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p out time of 2000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 swap in of same siz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context switch swapping component time of 4000ms (4 seco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educe if reduce size of memory swapped – by knowing how much memory really being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s to inform OS of memory use vi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est_memory(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lease_memory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82400" y="166320"/>
            <a:ext cx="76359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Context Switch Time and Swapping (Cont.)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06400" y="1160280"/>
            <a:ext cx="7344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constraints as well on sw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ding I/O – can’t swap out as I/O would occur to wro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always transfer I/O to kernel space, then to I/O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n a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ouble buffe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dds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swapping not used in modern operating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modified version 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p only when free memory extremely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88880" y="1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wapping on Mobile System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47520" y="1060560"/>
            <a:ext cx="772308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typically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 memory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amount of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number of write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throughput between flash memory and CPU on mobile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 use other methods to free memory if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s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pps to voluntarily relinquish allocated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-only data thrown out and reloaded from flash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ure to free can result in 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oid terminates apps if low free memory, but first write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pplication 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flash for fast re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OSes support paging as discussed be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560" y="213840"/>
            <a:ext cx="7743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hapter 7:  Memory Managemen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76240" y="1174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pp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guous Memory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 of the Pag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The Intel 32 and 64-bit Archite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ARM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66880" y="166320"/>
            <a:ext cx="78199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ontiguous Alloc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5120" y="1077840"/>
            <a:ext cx="7263000" cy="49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memory must support both OS and user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resource, must allocate effici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guous allocation is one early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memory usually into two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rti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ent operating system, usually held in low memory with interrupt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processes then held in high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 contained in single contiguous section of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66880" y="166320"/>
            <a:ext cx="78199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ontiguous Allocation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8720" y="1093680"/>
            <a:ext cx="7263000" cy="49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ocation registers used to protect user processes from each other, and from changing operating-system code an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register contains value of smallest physica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 register contains range of logical addresses – each logical address must be less than the limit regis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U maps logical addr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ynam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then allow actions such as kernel code being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i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kernel changing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02960" y="166320"/>
            <a:ext cx="84423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Hardware Support for Relocation and Limit Registers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4" name="Picture 4" descr="8"/>
          <p:cNvPicPr/>
          <p:nvPr/>
        </p:nvPicPr>
        <p:blipFill>
          <a:blip r:embed="rId1"/>
          <a:stretch/>
        </p:blipFill>
        <p:spPr>
          <a:xfrm>
            <a:off x="1844640" y="1347840"/>
            <a:ext cx="584532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597960"/>
            <a:ext cx="774072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ultiple-partition allocation</a:t>
            </a:r>
            <a:br>
              <a:rPr sz="3200"/>
            </a:b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87320" y="1004760"/>
            <a:ext cx="77709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-partition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ree of multiprogramming limited by number of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Variable-parti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zes for efficiency (sized to a given process’ nee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o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block of available memory; holes of various size are scattered throughout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a process arrives, it is allocated memory from a hole large enough to accommodate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exiting frees its partition, adjacent free partitions comb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ng system maintains information about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allocated partitions    b) free partitions (ho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1379520" y="4178160"/>
            <a:ext cx="667548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60360" y="19800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ynamic Storage-Allocation Proble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9000" y="1709640"/>
            <a:ext cx="7062840" cy="36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irst-f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Allocat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e that is big en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est-f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Allocat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mall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e that is big enough; must search entire list, unless ordered by siz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s the smallest leftover h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Worst-f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Allocat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rg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e; must also search entire lis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s the largest leftover h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948600" y="1171800"/>
            <a:ext cx="6049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satisfy a request of si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a list of free hole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046160" y="4623840"/>
            <a:ext cx="7601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-fit and best-fit better than worst-fit in terms of speed and storage utiliz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55360" y="151920"/>
            <a:ext cx="78310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ragment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50760" y="1114560"/>
            <a:ext cx="677088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External Fragmentation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total memory space exists to satisfy a request, but it is not contigu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nternal Fragmentation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allocated memory may be slightly larger than requested memory; this size difference is memory internal to a partition, but not being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fit analysis reveals that giv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locks allocated, 0.5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locks lost to fra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3 may be unusable -&gt;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50-percent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360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ragmentation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01800" y="1153800"/>
            <a:ext cx="6959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external fragmentation by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omp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uffle memory contents to place all free memory together in one large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ction is possib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relocation is dynamic, and is done at execu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ch job in memory while it is involved in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I/O only into OS buf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consider that backing store has same fragmentation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egment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73000" y="1157040"/>
            <a:ext cx="770256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3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-management scheme that supports user view of mem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3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gram is a collection of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3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gment is a logical unit such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variables, global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User</a:t>
            </a:r>
            <a:r>
              <a:rPr b="1" lang="ja-JP" sz="3200" spc="-1" strike="noStrike">
                <a:solidFill>
                  <a:srgbClr val="006699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 View of a Progra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2467080" y="1233360"/>
            <a:ext cx="36957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85600" y="136080"/>
            <a:ext cx="78008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ogical View of Segment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1" name="Oval 3"/>
          <p:cNvSpPr/>
          <p:nvPr/>
        </p:nvSpPr>
        <p:spPr>
          <a:xfrm>
            <a:off x="1371600" y="1171440"/>
            <a:ext cx="2895480" cy="3962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905120" y="1857240"/>
            <a:ext cx="9903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1752480" y="300024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3200400" y="246708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124080" y="3457440"/>
            <a:ext cx="914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6" name="Group 24"/>
          <p:cNvGrpSpPr/>
          <p:nvPr/>
        </p:nvGrpSpPr>
        <p:grpSpPr>
          <a:xfrm>
            <a:off x="5638680" y="1171440"/>
            <a:ext cx="1143000" cy="3962160"/>
            <a:chOff x="5638680" y="1171440"/>
            <a:chExt cx="1143000" cy="3962160"/>
          </a:xfrm>
        </p:grpSpPr>
        <p:grpSp>
          <p:nvGrpSpPr>
            <p:cNvPr id="167" name="Group 11"/>
            <p:cNvGrpSpPr/>
            <p:nvPr/>
          </p:nvGrpSpPr>
          <p:grpSpPr>
            <a:xfrm>
              <a:off x="5638680" y="1171440"/>
              <a:ext cx="1143000" cy="1066680"/>
              <a:chOff x="5638680" y="1171440"/>
              <a:chExt cx="1143000" cy="1066680"/>
            </a:xfrm>
          </p:grpSpPr>
          <p:sp>
            <p:nvSpPr>
              <p:cNvPr id="168" name="Rectangle 8"/>
              <p:cNvSpPr/>
              <p:nvPr/>
            </p:nvSpPr>
            <p:spPr>
              <a:xfrm>
                <a:off x="5638680" y="1171440"/>
                <a:ext cx="114300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9" name="Line 9"/>
              <p:cNvSpPr/>
              <p:nvPr/>
            </p:nvSpPr>
            <p:spPr>
              <a:xfrm>
                <a:off x="5638680" y="170460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0" name="Group 12"/>
            <p:cNvGrpSpPr/>
            <p:nvPr/>
          </p:nvGrpSpPr>
          <p:grpSpPr>
            <a:xfrm>
              <a:off x="5638680" y="2238120"/>
              <a:ext cx="1143000" cy="1066680"/>
              <a:chOff x="5638680" y="2238120"/>
              <a:chExt cx="1143000" cy="1066680"/>
            </a:xfrm>
          </p:grpSpPr>
          <p:sp>
            <p:nvSpPr>
              <p:cNvPr id="171" name="Rectangle 13"/>
              <p:cNvSpPr/>
              <p:nvPr/>
            </p:nvSpPr>
            <p:spPr>
              <a:xfrm>
                <a:off x="5638680" y="2238120"/>
                <a:ext cx="1143000" cy="10666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2" name="Line 14"/>
              <p:cNvSpPr/>
              <p:nvPr/>
            </p:nvSpPr>
            <p:spPr>
              <a:xfrm>
                <a:off x="5638680" y="277128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3" name="Text Box 15"/>
            <p:cNvSpPr/>
            <p:nvPr/>
          </p:nvSpPr>
          <p:spPr>
            <a:xfrm>
              <a:off x="6017760" y="1292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Text Box 16"/>
            <p:cNvSpPr/>
            <p:nvPr/>
          </p:nvSpPr>
          <p:spPr>
            <a:xfrm>
              <a:off x="6021000" y="1780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Rectangle 17"/>
            <p:cNvSpPr/>
            <p:nvPr/>
          </p:nvSpPr>
          <p:spPr>
            <a:xfrm>
              <a:off x="5638680" y="3304800"/>
              <a:ext cx="114300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Rectangle 18"/>
            <p:cNvSpPr/>
            <p:nvPr/>
          </p:nvSpPr>
          <p:spPr>
            <a:xfrm>
              <a:off x="5638680" y="4752720"/>
              <a:ext cx="114300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Line 19"/>
            <p:cNvSpPr/>
            <p:nvPr/>
          </p:nvSpPr>
          <p:spPr>
            <a:xfrm>
              <a:off x="5638680" y="36860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Text Box 20"/>
            <p:cNvSpPr/>
            <p:nvPr/>
          </p:nvSpPr>
          <p:spPr>
            <a:xfrm>
              <a:off x="6021000" y="3350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Text Box 21"/>
            <p:cNvSpPr/>
            <p:nvPr/>
          </p:nvSpPr>
          <p:spPr>
            <a:xfrm>
              <a:off x="6021000" y="4080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0" name="Text Box 22"/>
          <p:cNvSpPr/>
          <p:nvPr/>
        </p:nvSpPr>
        <p:spPr>
          <a:xfrm>
            <a:off x="2023200" y="5256360"/>
            <a:ext cx="1363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spac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4885200" y="5256360"/>
            <a:ext cx="2567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memory spa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90640" y="1171440"/>
            <a:ext cx="662760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ovide a detailed description of various ways of organizing memory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cuss various memory-management techniques, including paging and se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ovide a detailed description of the Intel Pentium, which supports both pure segmentation and segmentation with p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77600" y="166320"/>
            <a:ext cx="79088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egmentation Architecture 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02880" y="1093680"/>
            <a:ext cx="724716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28800"/>
                <a:tab algn="ctr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address consists of a two tu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828800"/>
                <a:tab algn="ctr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egment-number, offset&gt;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1828800"/>
                <a:tab algn="ctr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28800"/>
                <a:tab algn="ctr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egment table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maps two-dimensional physical addresses; each table entry h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ctr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ase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contains the starting physical address where the segments reside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ctr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imit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specifies the length of th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1828800"/>
                <a:tab algn="ctr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28800"/>
                <a:tab algn="ctr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egment-table base register (STBR)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s to the segment tabl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location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1828800"/>
                <a:tab algn="ctr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28800"/>
                <a:tab algn="ctr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egment-table length register (STLR)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s number of segments used by a progra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828800"/>
                <a:tab algn="ctr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 numbe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legal if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52200" y="213840"/>
            <a:ext cx="78296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egmentation Architecture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82360" y="1161720"/>
            <a:ext cx="677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each entry in segment table associ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ion bit = 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llegal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/write/execute privile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 bits associated with segments; code sharing occurs at segmen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segments vary in length, memory allocation is a dynamic storage-allocation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gmentation example is shown in the following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egmentation Hardwa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7" name="Picture 4" descr="8"/>
          <p:cNvPicPr/>
          <p:nvPr/>
        </p:nvPicPr>
        <p:blipFill>
          <a:blip r:embed="rId1"/>
          <a:stretch/>
        </p:blipFill>
        <p:spPr>
          <a:xfrm>
            <a:off x="2044800" y="1254240"/>
            <a:ext cx="582768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ag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93880" y="1128240"/>
            <a:ext cx="7183440" cy="47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 address space of a process can be noncontiguous; process is allocated physical memory whenever the latter i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s external fra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s problem of varying sized memory chu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 physical memory into fixed-sized blocks calle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power of 2, between 512 bytes and 16 M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 logical memory into blocks of same size calle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track of all free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un a program of si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s, need to fi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ee frames and load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age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ranslate logical to physical 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ing store likewise split into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ll have Internal fra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46000" y="151920"/>
            <a:ext cx="78408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ddress Translation Schem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41320" y="1125360"/>
            <a:ext cx="7299360" cy="448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generated by CPU is divided i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age numb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3366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used as an index into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age tab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contains base address of each page in physic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age offs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3366ff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combined with base address to define the physical memory address that is sent to the memory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given logical address space 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page siz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2900520" y="2882880"/>
            <a:ext cx="334296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8800" y="120240"/>
            <a:ext cx="79376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aging Hardwa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4" name="Picture 4" descr="8"/>
          <p:cNvPicPr/>
          <p:nvPr/>
        </p:nvPicPr>
        <p:blipFill>
          <a:blip r:embed="rId1"/>
          <a:stretch/>
        </p:blipFill>
        <p:spPr>
          <a:xfrm>
            <a:off x="1655640" y="1128600"/>
            <a:ext cx="62262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46080" y="4608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Paging Model of Logical and  Physical Memory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6" name="Picture 1030" descr=""/>
          <p:cNvPicPr/>
          <p:nvPr/>
        </p:nvPicPr>
        <p:blipFill>
          <a:blip r:embed="rId1"/>
          <a:stretch/>
        </p:blipFill>
        <p:spPr>
          <a:xfrm>
            <a:off x="1928880" y="1203480"/>
            <a:ext cx="4938480" cy="46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85280" y="8712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aging Exampl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1646280" y="5586480"/>
            <a:ext cx="6003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2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4   32-byte memory and 4-byte pa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1"/>
          <a:stretch/>
        </p:blipFill>
        <p:spPr>
          <a:xfrm>
            <a:off x="2755800" y="1243080"/>
            <a:ext cx="338472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8880" y="1202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aging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31680" y="1138320"/>
            <a:ext cx="8337240" cy="48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ng internal fra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size = 2,048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size = 72,766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 pages + 1,086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fragmentation of 2,048 - 1,086 = 962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st case fragmentation = 1 frame – 1 b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average fragmentation = 1 / 2 fram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small frame sizes desirab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each page table entry takes memory to 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sizes growing ove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is supports two page sizes – 8 KB and 4 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view and physical memory now very diffe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implementation process can only access its ow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ree Fram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938960" y="5723280"/>
            <a:ext cx="1881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alloc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5352840" y="5735880"/>
            <a:ext cx="1692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alloc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7" descr=""/>
          <p:cNvPicPr/>
          <p:nvPr/>
        </p:nvPicPr>
        <p:blipFill>
          <a:blip r:embed="rId1"/>
          <a:stretch/>
        </p:blipFill>
        <p:spPr>
          <a:xfrm>
            <a:off x="1825560" y="1244520"/>
            <a:ext cx="590400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0560" y="163080"/>
            <a:ext cx="6764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ackground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63640" y="1250640"/>
            <a:ext cx="65786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must be brought (from disk)  into memory and placed within a process for it to be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memory and registers are only storage CPU can access di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unit only sees a stream of addresses + read requests, or address + data and write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 access in one CPU clock (or l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memory can take many cycles, causing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ache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s between main memory and CPU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 of memory required to ensure correct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6200" y="198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mplementation of Page Tabl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72640" y="1145880"/>
            <a:ext cx="679788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table is kept in ma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age-table base regis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TB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s to the pag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age-table length regis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TL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s size of the pag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scheme every data/instruction access requires two memory ac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for the page table and one for the data /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wo memory access problem can be solved by the use of a special fast-lookup hardware cache calle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ssociative memo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ranslation look-aside buffe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LB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55520" y="1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mplementation of Page Table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73000" y="1145880"/>
            <a:ext cx="692496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TLBs sto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ddress-space identifie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SI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each TLB entry – uniquely identifies each process to provide address-space protection for tha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 need to flush at every context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s typically small (64 to 1,024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a TLB miss, value is loaded into the TLB for faster access nex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ment policies must be consid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entries can be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wired dow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ermanent fast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ssociative Memor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3240" y="12110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ve memory – parallel sear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translation (p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 is in associative register, get frame #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 get frame # from page table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" descr=""/>
          <p:cNvPicPr/>
          <p:nvPr/>
        </p:nvPicPr>
        <p:blipFill>
          <a:blip r:embed="rId1"/>
          <a:stretch/>
        </p:blipFill>
        <p:spPr>
          <a:xfrm>
            <a:off x="1895400" y="1693800"/>
            <a:ext cx="294336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8888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aging Hardware With TLB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1781280" y="1284120"/>
            <a:ext cx="563724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ffective Access Tim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7640" y="1083960"/>
            <a:ext cx="778176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062080"/>
                <a:tab algn="l" pos="256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ve Lookup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2062080"/>
                <a:tab algn="l" pos="256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&lt; 10% of memory access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062080"/>
                <a:tab algn="l" pos="256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 ratio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2062080"/>
                <a:tab algn="l" pos="256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 ratio – percentage of times that a page number is found in the associative registers; ratio related to number of associative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062080"/>
                <a:tab algn="l" pos="256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80%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0ns for TLB search, 100ns for memory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062080"/>
                <a:tab algn="l" pos="256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Effective Access Time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E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2062080"/>
                <a:tab algn="l" pos="256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T = (1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(2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(1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2062080"/>
                <a:tab algn="l" pos="256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062080"/>
                <a:tab algn="l" pos="256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80%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0ns for TLB search, 100ns for memory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2062080"/>
                <a:tab algn="l" pos="256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T = 0.80 x 100 + 0.20 x 200 = 120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062080"/>
                <a:tab algn="l" pos="256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more realistic hit ratio -&gt;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99%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0ns for TLB search, 100ns for memory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2062080"/>
                <a:tab algn="l" pos="256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T = 0.99 x 100 + 0.01 x 200 = 101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2062080"/>
                <a:tab algn="l" pos="256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2062080"/>
                <a:tab algn="l" pos="256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emory Protec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72640" y="1157040"/>
            <a:ext cx="6937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protection implemented by associating protection bit with each frame to indicate if read-only or read-write access is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lso add more bits to indicate page execute-only, and so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Valid-invalid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attached to each entry in the page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dicates that the associated page is in the proc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gical address space, and is thus a legal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dicates that the page is not in the proc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gical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us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age-table length regis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TL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violations result in a trap to the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09640" y="-189360"/>
            <a:ext cx="7112160" cy="90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Valid (v) or Invalid (i) Bit In A Page Table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1"/>
          <a:stretch/>
        </p:blipFill>
        <p:spPr>
          <a:xfrm>
            <a:off x="2222640" y="1252440"/>
            <a:ext cx="5099040" cy="44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hared Pag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73000" y="1141200"/>
            <a:ext cx="69501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har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copy of read-only 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entr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code shared among processes (i.e., text editors, compilers, window syste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multiple threads sharing the same proc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useful for interprocess communication if sharing of read-write pages is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ivate code and data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 keeps a separate copy of the code an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ges for the private code and data can appear anywhere in the logical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82800" y="198000"/>
            <a:ext cx="7704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hared Pages Exampl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4" name="Picture 4" descr="8"/>
          <p:cNvPicPr/>
          <p:nvPr/>
        </p:nvPicPr>
        <p:blipFill>
          <a:blip r:embed="rId1"/>
          <a:stretch/>
        </p:blipFill>
        <p:spPr>
          <a:xfrm>
            <a:off x="2112840" y="1104840"/>
            <a:ext cx="486108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2056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tructure of the Page Tabl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57160" y="1141200"/>
            <a:ext cx="712008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structures for paging can get huge using straight-forward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 32-bit logical address space as on modern 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size of 4 KB (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table would have 1 million entries (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each entry is 4 bytes -&gt; 4 MB of physical address space / memory for page table 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amount of memory used to cost a 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want to allocate that contiguously in ma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archical P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hed Page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rted Page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5040" y="112320"/>
            <a:ext cx="65595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ase and Limit Register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0760" y="9950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air of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ase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imit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gis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fine the logical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must check every memory access generated in user mode to be sure it is between base and limit for that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2786040" y="2128680"/>
            <a:ext cx="327348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73040" y="1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Hierarchical Page Tabl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03240" y="1188720"/>
            <a:ext cx="59803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 up the logical address space into multiple page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mple technique is a two-level pag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then page the pag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68440" y="1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wo-Level Page-Table Schem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0" name="Picture 4" descr="8"/>
          <p:cNvPicPr/>
          <p:nvPr/>
        </p:nvPicPr>
        <p:blipFill>
          <a:blip r:embed="rId1"/>
          <a:stretch/>
        </p:blipFill>
        <p:spPr>
          <a:xfrm>
            <a:off x="2301840" y="1268280"/>
            <a:ext cx="4248360" cy="44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55440" y="151920"/>
            <a:ext cx="77626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wo-Level Paging Exampl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7280" y="1085400"/>
            <a:ext cx="7807320" cy="514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gical address (on 32-bit machine with 1K page size) is divided i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age number consisting of 22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age offset consisting of 10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the page table is paged, the page number is further divided i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12-bit page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10-bit page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a logical address is as follows:</a:t>
            </a:r>
            <a:br>
              <a:rPr sz="18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n index into the outer page table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displacement within the page of the inner pag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n a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orward-mapped pag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2360520" y="3875040"/>
            <a:ext cx="315936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28240" y="151920"/>
            <a:ext cx="75582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ddress-Translation Schem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5" name="Picture 1035" descr=""/>
          <p:cNvPicPr/>
          <p:nvPr/>
        </p:nvPicPr>
        <p:blipFill>
          <a:blip r:embed="rId1"/>
          <a:stretch/>
        </p:blipFill>
        <p:spPr>
          <a:xfrm>
            <a:off x="1496880" y="1258920"/>
            <a:ext cx="639000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6400" y="1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64-bit Logical Address Spac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06040" y="1201320"/>
            <a:ext cx="811692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two-level paging scheme not su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age size is 4 KB (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page table has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5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wo level scheme, inner page tables could be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-byte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would look 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er page table has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tries or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solution is to add a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uter pag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in the following example the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uter page table is still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tes in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possibly 4 memory access to get to one physical memory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" descr=""/>
          <p:cNvPicPr/>
          <p:nvPr/>
        </p:nvPicPr>
        <p:blipFill>
          <a:blip r:embed="rId1"/>
          <a:stretch/>
        </p:blipFill>
        <p:spPr>
          <a:xfrm>
            <a:off x="2162160" y="3000240"/>
            <a:ext cx="32464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64720" y="213840"/>
            <a:ext cx="78217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hree-level Paging Schem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0" name="Picture 6" descr=""/>
          <p:cNvPicPr/>
          <p:nvPr/>
        </p:nvPicPr>
        <p:blipFill>
          <a:blip r:embed="rId1"/>
          <a:stretch/>
        </p:blipFill>
        <p:spPr>
          <a:xfrm>
            <a:off x="2324160" y="1293840"/>
            <a:ext cx="5241960" cy="11682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"/>
          <p:cNvPicPr/>
          <p:nvPr/>
        </p:nvPicPr>
        <p:blipFill>
          <a:blip r:embed="rId2"/>
          <a:stretch/>
        </p:blipFill>
        <p:spPr>
          <a:xfrm>
            <a:off x="2311560" y="3130560"/>
            <a:ext cx="54864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46000" y="166320"/>
            <a:ext cx="78408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Hashed Page Tabl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03240" y="1141200"/>
            <a:ext cx="762624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in address spaces &gt; 32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irtual page number is hashed into a pag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age table contains a chain of elements hashing to the same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element contains (1) the virtual page number (2) the value of the mapped page frame (3) a pointer to the next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page numbers are compared in this chain searching for a m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match is found, the corresponding physical frame is extra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tion for 64-bit addresses i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lustered page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hashed but each entry refers to several pages (such as 16) rather tha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cially useful for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par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ddress spaces (where memory references are non-contiguous and scattere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Hashed Page Tabl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5" name="Picture 6" descr=""/>
          <p:cNvPicPr/>
          <p:nvPr/>
        </p:nvPicPr>
        <p:blipFill>
          <a:blip r:embed="rId1"/>
          <a:stretch/>
        </p:blipFill>
        <p:spPr>
          <a:xfrm>
            <a:off x="1512720" y="1274760"/>
            <a:ext cx="66168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30080" y="151920"/>
            <a:ext cx="79567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verted Page Tabl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39600" y="1152000"/>
            <a:ext cx="707364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her than each process having a page table and keeping track of all possible logical pages, track all physical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entry for each real page of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y consists of the virtual address of the page stored in that real memory location, with information about the process that owns that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s memory needed to store each page table, but increases time needed to search the table when a page reference occ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hash table to limit the search to one — or at most a few — page-table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 can accelerat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how to implement shared memo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mapping of a virtual address to the shared physica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58320" y="182160"/>
            <a:ext cx="77914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verted Page Table Archite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9" name="Picture 6" descr=""/>
          <p:cNvPicPr/>
          <p:nvPr/>
        </p:nvPicPr>
        <p:blipFill>
          <a:blip r:embed="rId1"/>
          <a:stretch/>
        </p:blipFill>
        <p:spPr>
          <a:xfrm>
            <a:off x="1717560" y="1274760"/>
            <a:ext cx="605808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41040" y="154080"/>
            <a:ext cx="77454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Hardware Address Protec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1" name="Content Placeholder 4" descr="8.02.pdf"/>
          <p:cNvPicPr/>
          <p:nvPr/>
        </p:nvPicPr>
        <p:blipFill>
          <a:blip r:embed="rId1"/>
          <a:srcRect l="0" t="-12766" r="0" b="-12766"/>
          <a:stretch/>
        </p:blipFill>
        <p:spPr>
          <a:xfrm>
            <a:off x="1576440" y="1212840"/>
            <a:ext cx="63244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30080" y="198000"/>
            <a:ext cx="79567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racle SPARC Solari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85600" y="1034640"/>
            <a:ext cx="7499160" cy="50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modern, 64-bit operating system example with tightly integrated H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s are efficiency, low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hashing, but more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hash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kernel and one for all user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maps memory addresses from virtual to physic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entry represents a contiguous area of mapped virtual memor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fficient than having a separate hash-table entry for each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entry has  base address and  span (indicating the number of pages the entry repres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1760" y="198000"/>
            <a:ext cx="79563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racle SPARC Solari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81000" y="1096560"/>
            <a:ext cx="7515360" cy="50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 holds translation table entries (TTEs) for fast hardware look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ache of TTEs reside in a translation storage buffer (TS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s an entry per recently accessed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address reference causes TLB sear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miss, hardware walks the in-memory TSB looking for the TTE corresponding to the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match found, the CPU copies the TSB entry into the TLB and translation compl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 match found, kernel interrupted to search the hash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ernel then creates a TTE from the appropriate hash table and stores it in the TSB, Interrupt handler returns control to the MMU, which completes the address transl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26800" y="142560"/>
            <a:ext cx="76071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Example: The Intel 32 and 64-bit Architectures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85960" y="1233360"/>
            <a:ext cx="7743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inant industry c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ium CPUs are 32-bit and called IA-32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Intel CPUs are 64-bit and called IA-64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variations in the chips, cover the main idea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25240" y="166320"/>
            <a:ext cx="76071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Example: The Intel IA-32 Architecture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85960" y="1087200"/>
            <a:ext cx="7091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both segmentation and segmentation with p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gment can be 4 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16 K segments 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d into two part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partition of up to 8 K segments are private to process (kept in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ocal descriptor tab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D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partition of up to 8K segments shared among all processes (kept in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global descriptor tab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GD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25240" y="72720"/>
            <a:ext cx="76071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Example: The Intel IA-32 Architecture (Cont.)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85960" y="1087200"/>
            <a:ext cx="7743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generates logica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or given to segmentation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produces linear addres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 address given to paging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generates physical address in ma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ing units form equivalent of M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s sizes can be 4 KB or 4 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" descr="Screen Shot 2013-01-04 at 12.24.50 PM.png"/>
          <p:cNvPicPr/>
          <p:nvPr/>
        </p:nvPicPr>
        <p:blipFill>
          <a:blip r:embed="rId1"/>
          <a:stretch/>
        </p:blipFill>
        <p:spPr>
          <a:xfrm>
            <a:off x="2205000" y="2141640"/>
            <a:ext cx="2436840" cy="7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06440" y="20520"/>
            <a:ext cx="7670880" cy="61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Logical to Physical Address Translation in IA-32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rcRect l="639" t="35571" r="661" b="35571"/>
          <a:stretch/>
        </p:blipFill>
        <p:spPr>
          <a:xfrm>
            <a:off x="2049480" y="3084480"/>
            <a:ext cx="4595760" cy="1008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"/>
          <p:cNvPicPr/>
          <p:nvPr/>
        </p:nvPicPr>
        <p:blipFill>
          <a:blip r:embed="rId2"/>
          <a:stretch/>
        </p:blipFill>
        <p:spPr>
          <a:xfrm>
            <a:off x="1954080" y="1523880"/>
            <a:ext cx="615816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95200" y="198000"/>
            <a:ext cx="74912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tel IA-32 Segment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65" name="Picture 4" descr="8"/>
          <p:cNvPicPr/>
          <p:nvPr/>
        </p:nvPicPr>
        <p:blipFill>
          <a:blip r:embed="rId1"/>
          <a:stretch/>
        </p:blipFill>
        <p:spPr>
          <a:xfrm>
            <a:off x="1876320" y="1314360"/>
            <a:ext cx="603432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17200" y="182160"/>
            <a:ext cx="78692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tel IA-32 Paging Archite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2349360" y="1220760"/>
            <a:ext cx="450396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6880" y="213840"/>
            <a:ext cx="78692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tel IA-32 Page Address Extension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69" name="Picture 1" descr="8_24.pdf"/>
          <p:cNvPicPr/>
          <p:nvPr/>
        </p:nvPicPr>
        <p:blipFill>
          <a:blip r:embed="rId1"/>
          <a:stretch/>
        </p:blipFill>
        <p:spPr>
          <a:xfrm>
            <a:off x="1230480" y="3502080"/>
            <a:ext cx="6157800" cy="263052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3"/>
          <p:cNvSpPr/>
          <p:nvPr/>
        </p:nvSpPr>
        <p:spPr>
          <a:xfrm>
            <a:off x="901800" y="1108080"/>
            <a:ext cx="7743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rmAutofit fontScale="94000"/>
          </a:bodyPr>
          <a:p>
            <a:pPr marL="459360" indent="-45936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-bit address limits led Intel to create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page address extens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PA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allowing 32-bit apps access to more than 4GB of memory spa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96840" indent="-383400">
              <a:lnSpc>
                <a:spcPct val="10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ing went to a 3-level sche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96840" indent="-383400">
              <a:lnSpc>
                <a:spcPct val="10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 two bits refer to a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page directory pointer tab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96840" indent="-383400">
              <a:lnSpc>
                <a:spcPct val="10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e-directory and page-table entries moved to 64-bits in siz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96840" indent="-383400">
              <a:lnSpc>
                <a:spcPct val="10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 effect is increasing address space to 36 bits – 64GB of physical memo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96840" indent="-38340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9360" indent="-45936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17200" y="198000"/>
            <a:ext cx="78692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tel x86-64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917640" y="1122480"/>
            <a:ext cx="7564320" cy="27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rmAutofit/>
          </a:bodyPr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generation Intel x86 architect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 bits is ginormous (&gt; 16 exabyt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ractice only implement 48 bit address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sizes of 4 KB, 2 MB, 1 G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levels of paging hierarch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lso use PAE so virtual addresses are 48 bits and physical addresses are 52 bi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2" descr="8_25.pdf"/>
          <p:cNvPicPr/>
          <p:nvPr/>
        </p:nvPicPr>
        <p:blipFill>
          <a:blip r:embed="rId1"/>
          <a:stretch/>
        </p:blipFill>
        <p:spPr>
          <a:xfrm>
            <a:off x="1150920" y="4108320"/>
            <a:ext cx="72835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ddress Bind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18640" y="1144440"/>
            <a:ext cx="7448760" cy="492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s on disk, ready to be brought into memory to execute form an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pu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out support, must be loaded into address 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onvenient to have first user process physical address always at 00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can it not b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, addresses represented in different ways at different stages of a progra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code addresses usually symbo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code addresses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i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relocatable addr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e.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 bytes from beginning of this modul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er or loader will bind relocatable addresses to absolute addr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e. 74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binding maps one address space to an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3040" y="182160"/>
            <a:ext cx="78692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xample: ARM Archite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870120" y="1170000"/>
            <a:ext cx="3417840" cy="51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rmAutofit/>
          </a:bodyPr>
          <a:p>
            <a:pPr marL="488880" indent="-488880">
              <a:lnSpc>
                <a:spcPct val="100000"/>
              </a:lnSpc>
              <a:spcBef>
                <a:spcPts val="612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minant mobile platform chip (Apple iOS and Google Android devices for exampl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612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rn, energy efficient, 32-bit CP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612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KB and 16 KB p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612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MB and 16 MB pages (termed </a:t>
            </a:r>
            <a:r>
              <a:rPr b="1" lang="en-US" sz="1400" spc="-1" strike="noStrike">
                <a:solidFill>
                  <a:srgbClr val="3366ff"/>
                </a:solidFill>
                <a:latin typeface="Arial"/>
              </a:rPr>
              <a:t>sectio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612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-level paging for sections, two-level for smaller p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612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levels of TLB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0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er level has two micro TLBs (one data, one instructio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0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er is single main TLB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0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inner is checked, on miss outers are checked, and on miss page table walk performed by CP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612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1" descr="8_26.pdf"/>
          <p:cNvPicPr/>
          <p:nvPr/>
        </p:nvPicPr>
        <p:blipFill>
          <a:blip r:embed="rId1"/>
          <a:stretch/>
        </p:blipFill>
        <p:spPr>
          <a:xfrm>
            <a:off x="4470480" y="1576440"/>
            <a:ext cx="410040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End of Chapter 7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23920" y="290520"/>
            <a:ext cx="81345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Binding of Instructions and Data to Memory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640" y="809640"/>
            <a:ext cx="7130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binding of instructions and data to memory addresses can happen at three different s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If memory location known a priori,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bsolute code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generated; must recompile code if starting location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Must generat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locatable c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memory location is not known at compil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ion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Binding delayed until run time if the process can be moved during its execution from one memory segment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hardware support for address maps (e.g., base and limi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91880" y="99720"/>
            <a:ext cx="79563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Multistep Processing of a User Program 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7" name="Picture 4" descr="8"/>
          <p:cNvPicPr/>
          <p:nvPr/>
        </p:nvPicPr>
        <p:blipFill>
          <a:blip r:embed="rId1"/>
          <a:stretch/>
        </p:blipFill>
        <p:spPr>
          <a:xfrm>
            <a:off x="3360600" y="1231920"/>
            <a:ext cx="255456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23:43:38Z</dcterms:created>
  <dc:creator>Lucent End User</dc:creator>
  <dc:description/>
  <dc:language>en-US</dc:language>
  <cp:lastModifiedBy>Paige, Judi</cp:lastModifiedBy>
  <cp:lastPrinted>2013-09-30T19:34:56Z</cp:lastPrinted>
  <dcterms:modified xsi:type="dcterms:W3CDTF">2014-01-22T15:45:56Z</dcterms:modified>
  <cp:revision>269</cp:revision>
  <dc:subject/>
  <dc:title>2.01</dc:title>
</cp:coreProperties>
</file>