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401652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00240" y="70452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1A3006B-CE8A-4E3A-9604-FBCEB518E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1647082-E57D-458B-8A15-6AA99DA64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F8BDEBC-9163-471A-9E3D-760253355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819E03A-D921-40A5-B0A5-41DCE000D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D2BBEDB-718C-47E3-9DE5-A1CECB7D1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9A2E510-991D-41E9-9E39-E0535C736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6FBAB1C-C923-47DC-B91A-1D8B58A08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C91E6AE-755F-4C26-932A-F286C5BF8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714E11F-AB5E-4B05-9B49-01B3CDD07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132A1E0-B8C1-432E-A4A6-52DC3630A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272F3DE-4A7E-4124-A7AC-D0DCC7141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DFAFBAD-4E12-46B9-98D8-8A9006A68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425328B-8810-49A5-92B2-564268E91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69BF12A-3B39-475F-9267-BD492B8DC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CFE4CEA-932A-4A3E-89C5-C3DD315A5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17E8F70-052C-42DB-AAA3-8D37DF4ED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DFC4F2F-A962-4116-BE5B-429164B0D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21DB020-6BCC-406F-BD65-88447BF56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A268B9A-6AAE-489E-AFB9-28BC5EE95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82D9241-44B0-431F-A1A7-79E067615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75C936D-EA8D-4751-9134-5AA17C447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F6E0690-7EDC-40AB-8DD9-104C1BDDC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0DCC217-10F3-410F-966F-9553452E3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8A11FE0-D0F1-4B49-BAF4-A2E1A9452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6383510-8890-45ED-BEF8-64C6D3A6F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F388C71-5EBA-4CE4-9DFF-6597281D0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0706647-29FF-47F7-A9F8-B57E5618E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179607E-DAEC-476C-9496-92615A1A5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99636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13.</a:t>
            </a:r>
            <a:fld id="{9B10A480-5D01-40CF-87F2-20040B49F79E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53080" y="662148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4320" y="661356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17200"/>
            <a:ext cx="7772400" cy="21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13:  Protection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ultics Benefits and Limi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06400" y="1233360"/>
            <a:ext cx="6494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ng / hierarchical structure provided more than the basic kernel / user or root / normal user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ly complex -&gt; more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oes not allow strict need-to-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accessible in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 not in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&lt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n every segment accessible in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so accessible in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4560" y="167760"/>
            <a:ext cx="7751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ccess Matri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4800" y="1119240"/>
            <a:ext cx="685008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protection as a matrix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ccess matr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s represent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 represen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(i, j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et of operations that a process executing in Domai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invoke on Objec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"/>
          <p:cNvPicPr/>
          <p:nvPr/>
        </p:nvPicPr>
        <p:blipFill>
          <a:blip r:embed="rId1"/>
          <a:stretch/>
        </p:blipFill>
        <p:spPr>
          <a:xfrm>
            <a:off x="1911240" y="3208320"/>
            <a:ext cx="40878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1120" y="167760"/>
            <a:ext cx="8005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se of Access Matri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60400" y="1111320"/>
            <a:ext cx="678168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rocess in Doma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es to do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objec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in the access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ho creates object can define access column for tha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ynamic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to add, delete access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access righ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 of O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py op from O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O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enoted by 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trol –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an modify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ess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nsfer – switch from domain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p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ble to a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tr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ble to domai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76240" y="155160"/>
            <a:ext cx="7810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se of Access Matrix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60040" y="1150560"/>
            <a:ext cx="6932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ccess matrix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separates mechanism from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provides access-matrix +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nsures that the matrix is only manipulated by authorized agents and that rules are strictly enfor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dictates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can access what object and in what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oes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solve the general confinement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9160" y="150840"/>
            <a:ext cx="774684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Access Matrix of Figure A with Domains as Objects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9" name="Picture 6" descr="14"/>
          <p:cNvPicPr/>
          <p:nvPr/>
        </p:nvPicPr>
        <p:blipFill>
          <a:blip r:embed="rId1"/>
          <a:stretch/>
        </p:blipFill>
        <p:spPr>
          <a:xfrm>
            <a:off x="1353960" y="1405080"/>
            <a:ext cx="67615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3120" y="182160"/>
            <a:ext cx="7753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ccess Matrix with </a:t>
            </a:r>
            <a:r>
              <a:rPr b="1" i="1" lang="en-US" sz="3200" spc="-1" strike="noStrike">
                <a:solidFill>
                  <a:srgbClr val="006699"/>
                </a:solidFill>
                <a:latin typeface="Arial"/>
              </a:rPr>
              <a:t>Copy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Righ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2498760" y="1214280"/>
            <a:ext cx="425592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480" y="155160"/>
            <a:ext cx="77817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ccess Matrix With </a:t>
            </a:r>
            <a:r>
              <a:rPr b="1" i="1" lang="en-US" sz="3200" spc="-1" strike="noStrike">
                <a:solidFill>
                  <a:srgbClr val="006699"/>
                </a:solidFill>
                <a:latin typeface="Arial"/>
              </a:rPr>
              <a:t>Owner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Righ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3" name="Picture 5" descr="14"/>
          <p:cNvPicPr/>
          <p:nvPr/>
        </p:nvPicPr>
        <p:blipFill>
          <a:blip r:embed="rId1"/>
          <a:stretch/>
        </p:blipFill>
        <p:spPr>
          <a:xfrm>
            <a:off x="2838600" y="1219320"/>
            <a:ext cx="3565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41280" y="182160"/>
            <a:ext cx="7840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odified Access Matrix of Figure B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301760" y="1392120"/>
            <a:ext cx="69534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3840" y="1407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Implementation of Access Matrix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19000" y="1092240"/>
            <a:ext cx="627696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, a spars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1 – Globa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ordered tripl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omain, object, rights-set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quested operation M on obj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in doma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&gt; search tabl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M ∈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able could be large -&gt; w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fit in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group objects (consider an object that all domains can re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23840" y="1407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Implementation of Access Matrix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72640" y="1092240"/>
            <a:ext cx="65106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2 – Access lists for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lumn implemented as an access list for on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ing per-object list consists of ordered pair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omain, rights-set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all domains with non-empty set of access rights for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ly extended to contain default set -&gt; If M ∈ default set, also allow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68400" y="167760"/>
            <a:ext cx="7718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13: Prot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8600" y="1134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 of Prot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les of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of Prot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Matr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of Access Matr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ocation of Access R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bility-Based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-Based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57320" y="1144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Implementation of Access Matrix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74440" y="1233360"/>
            <a:ext cx="7040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lumn = Access-control list for one objec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o can perform what operation</a:t>
            </a:r>
            <a:br>
              <a:rPr sz="18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1 = Read, Wri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2 = Re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3 = Re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ow = Capability List (like a ke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domain, what operations allowed on wha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F1 – 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F4 – Read, Write, 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F5 – Read, Write, Delete, Co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736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6920" y="155160"/>
            <a:ext cx="7758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Implementation of Access Matrix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60400" y="1137960"/>
            <a:ext cx="6973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 3 – Capability list for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ead of object-based, list is domain 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Capability lis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domain is list of objects together with operations allows on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represented by its name or address, called a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cap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 operation M on object 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process requests operation and specifies capability as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ession of capability means access is a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bility list associated with domain but never directly accessible by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ther, protected object, maintained by OS and accessed indirec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 a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e point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a can be extended up to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28800" y="277920"/>
            <a:ext cx="7758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Implementation of Access Matrix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60040" y="750600"/>
            <a:ext cx="65502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4 – Lock-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omise between access lists and capability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bject has list of unique bit patterns, call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domain as list of unique bit patterns call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in a domain can only access object if domain has key that matches one of the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7040" y="126720"/>
            <a:ext cx="7799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omparison of Implementations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60400" y="1096560"/>
            <a:ext cx="701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trade-offs to cons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ble is simple, but can be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lists correspond to needs of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ing set of access rights for domain non-localized so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access to an object must be che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objects and access rights -&gt;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bility lists useful for localizing information for a give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revocation capabilities can be in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-key effective and flexible, keys can be passed freely from domain to domain, easy revo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06280" y="155160"/>
            <a:ext cx="7799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omparison of Implementations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60400" y="1110960"/>
            <a:ext cx="6632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systems use combination of access lists and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access to an object -&gt; access list sear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llowed, capability created and attached to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accesses need not be che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last access, capability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file system with ACLs per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90480" y="126720"/>
            <a:ext cx="7996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ccess Contro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0800" y="1096920"/>
            <a:ext cx="430992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can be applied to non-fil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 Solaris 10 provide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ole-based access contr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B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 least privi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vileg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right to execute system call or use an option within a 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assigned to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assign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ol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ing access to privileges and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role via password to gain its privile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access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5826240" y="1365120"/>
            <a:ext cx="226836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12320" y="126720"/>
            <a:ext cx="76741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Revocation of Access Rights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1440" y="1050840"/>
            <a:ext cx="697212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options to remove the access right of a domain to a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ediate vs. de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ve vs.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 vs.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ry vs. perma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ccess List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Delete access rights from access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earch access list and remove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edi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an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12320" y="126720"/>
            <a:ext cx="76741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Revocation of Access Rights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60400" y="1064880"/>
            <a:ext cx="7383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apability List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cheme required to locate capability in the system before capability can be re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cqui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eriodic delete, with require and denial if re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-point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et of pointers from each object to all capabilities of that object (Mult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r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apability points to global table entry which points to object – delete entry from global table, not selective (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unique bits associated with capability, generated when capability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key associated with object, key matches master key fo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ocation – create new master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 decision of who can create and modify keys – object owner or oth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6200" y="126720"/>
            <a:ext cx="7721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apability-Based Systems 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47800" y="1050480"/>
            <a:ext cx="69991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d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set of access rights known to and interpreted by th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e. read, write, or execute each memory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can declare other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auxiliary righ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register those with protection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ing process must hold capability and know name of 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Rights amplific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ed by trustworthy  procedures for a specific ty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retation of user-defined rights performed solely by user's program; system provides access protection for use of these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s on objects defined procedurally – procedures are objects accessed indirectly by cap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ves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blem of mutually suspicious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library of prewritten security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64800" y="126720"/>
            <a:ext cx="7721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apability-Based Systems (Cont.) 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88840" y="1092240"/>
            <a:ext cx="6616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bridge CAP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r but powe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ata capabil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vides standard read, write, execute of individual storage segments associated with object – implemented in micro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oftware capabil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nterpretation left to the subsystem, through its protecte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has access to its own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rs must learn principles and techniques of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850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goals and principles of protection in a modern comput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how protection domains combined with an access matrix are used to specify the resources a process may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capability and language-based protec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17200" y="15516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anguage-Based Prot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7440" y="1179360"/>
            <a:ext cx="6467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of protection in a programming language allows the high-level description of policies for the allocation and use of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mplementation can provide software for protection enforcement when automatic hardware-supported checking is un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 protection specifications to generate calls on whatever protection system is provided by the hardware and the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1520" y="167760"/>
            <a:ext cx="80452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tection in Java 2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3400" y="1164960"/>
            <a:ext cx="679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is handled by the Java Virtual Machine (J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ssigned a protection domain when it is loaded by the J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tection domain indicates what operations the class can (and cannot) per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ibrar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th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voked that performs a privileged operation, the stack i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sp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ensure the operation can be performed by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ly, Java’s load-time and run-time checks enforc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ype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es effectivel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ncapsul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protect data and methods from other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182160"/>
            <a:ext cx="7958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ack Insp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1843200" y="1346040"/>
            <a:ext cx="59338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13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42480" y="182160"/>
            <a:ext cx="7743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oals of Prot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904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ne protection model,  computer consists of a collection of objects, hardware or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bject has a unique name and can be accessed through a well-defined set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problem - ensure that each object is accessed correctly and only by those processes that are allowed to do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4560" y="140760"/>
            <a:ext cx="7751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inciples of Prot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47800" y="1069560"/>
            <a:ext cx="672624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ing principle –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inciple of least privi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, users and systems should be given just enough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ivileg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erform thei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damage if entity has a bug, gets ab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static (during life of system, during life of proces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dynamic (changed by process as needed) –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omain switc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ivilege esc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know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similar concept regarding access to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4560" y="167760"/>
            <a:ext cx="7751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inciples of Protec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3400" y="1069920"/>
            <a:ext cx="6672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consider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i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-grained  privilege management easier, simpler, but least privilege now done in large chu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traditional Unix processes either have abilities of the associated user, or of 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-grained management more complex, more overhead, but more prot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ACL lists, R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can be user, process,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omain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6535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-right = 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bject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ights-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ights-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ubset of all valid operations that can be performed on the 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= set of access-righ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255680" y="3024360"/>
            <a:ext cx="5913360" cy="130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1448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omain Implementation (UNIX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8840" y="1096560"/>
            <a:ext cx="6958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= user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switch accomplished via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file has associated with it a domain bit (setuid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file is executed and setuid = on, then user-id is set to owner of the file being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execution completes user-id is re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switch accomplished via pass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 temporarily switches to another us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domain when other domai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password prov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switching via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mand prefix executes specified command in another domain (if original domain has privilege or password giv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0000" y="182160"/>
            <a:ext cx="7713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omain Implementation (MULTICS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3080" y="1100160"/>
            <a:ext cx="73692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ny two domain 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1979640" y="2211480"/>
            <a:ext cx="47721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Paige, Judi</cp:lastModifiedBy>
  <cp:lastPrinted>2013-09-10T17:57:57Z</cp:lastPrinted>
  <dcterms:modified xsi:type="dcterms:W3CDTF">2014-01-22T15:51:37Z</dcterms:modified>
  <cp:revision>184</cp:revision>
  <dc:subject/>
  <dc:title>2.01</dc:title>
</cp:coreProperties>
</file>