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B30A2-4E84-4DDC-804A-36E92E9E95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64EE6-D8CA-4AB0-87D7-5A693A2B0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754DB-7699-4A35-9320-571D54523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BB026-1E0C-4DD1-9CC1-EC5662A873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791E6-22BB-4BA9-A6F5-251CFB773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321AC-E24D-44CD-9062-0B9F32B54F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9F990-393E-468E-BD2F-60037D05C2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2B8BC-74FE-4CE8-8D10-51087A404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3E9A1-4196-4938-AE49-F8CA6C4262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E38DF-697F-4457-8C29-15ABBFBA68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BCB4A-9E74-4E00-A2B8-6F1775BA2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26349-456F-48CE-BF6F-0668F85D76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20C06-CF07-45EF-880B-343132421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D9281-98DC-48A7-A9DA-4FA248C3D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FCF81-6D1E-4F0F-AD3A-3C062B5FB6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ACE82-C70C-4EC3-9802-651976FE43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3AD4A-FDDC-4C9A-9D80-A3D1D15445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35AA5-3BA5-43DD-A4C6-820B39869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82BA5-A8DE-4325-B944-579ECA329A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41929-E421-43A5-B8DF-428121D84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79C04-8F4C-4B4E-909D-3D1EB13C2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C57AF-9A2C-4CBF-808E-22D457D446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CE421-7C92-4C3E-8904-18EA72AE1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A8064-47A0-4695-B998-84F67779FC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FA1BD-F377-4AFD-8CE8-E546AF87D4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71929-2978-478E-B1E1-D2397C84F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4E1CB-3880-4A55-B19B-34DC5CDC6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4AB6D-EDCA-4947-96DC-2BC4B1996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F8414-8661-4D2E-9648-DF09A2D2F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08474-CC93-4CE7-B015-C900CC11D7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B9E6C-9A72-45AE-9C22-1C5EB10008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DEADC-8D03-481D-A795-1541CA1674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B306E-DE6C-4752-83C6-B6E01918D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F52DD-487E-4320-B258-5D5A8FC92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76EF2-FCC3-4F8E-98A9-D9EB7E1A85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9CA74-2456-4593-8874-3AAC0C886A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5B859-ADC3-4A3C-990C-BBACC34BD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A4B94-5389-44D8-9C2E-76FC92870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3D8AE-A030-46B5-A787-9325F11F07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688FE-E58F-452A-9FE4-684C1118B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55DA9-21CD-4C29-933F-D6F9D3A69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21FC3-8EBE-4307-9FA5-D43B48A71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43A47-3DFA-4B36-B8F2-08DCE1A1E1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575B4-E9BF-416E-A632-C1AA45395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75693-97F5-49DD-AD7F-29698E938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DFF78-AE29-48C2-8D7D-18B4C5209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C74EE-5E45-453C-B969-034EB8A8F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79C61-37D9-4197-9C65-36B3A59299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1821D-3241-47C6-9EAC-3B0BB60F00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C758D-7F26-4667-A3D3-3B5BDE3A9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94B96-16AA-487B-B103-85CF91F100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D86AB-FEC3-4026-AF3D-57F4BF0B9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67ED7-33FE-4AD1-B8CE-4244EAF6F4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6B085-0C1A-4813-A8F3-FF586192E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1B398-0CDC-4FE4-9489-62F2C71AFD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8965A-1BDA-4E75-ABC1-17D3796A63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A1147-BA09-4160-A3BA-7A0B2ED2E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B42AD-C11F-4634-B265-9267824DD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C905F-BFC1-4C1D-B99C-6AF101632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9E391-8AB0-4C6F-920E-4C89BD9CB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D6423-19E9-4E29-94BF-9D13EA7137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E0D48-715C-4359-A112-9B5D068D98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28B6D-52EA-4C03-807A-0409E564E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EED46-1F8C-4078-B955-2B76AF5D4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E7001-2D32-4444-B39D-54386DABED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64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a.</a:t>
            </a:r>
            <a:fld id="{0494400D-BB03-401B-A4E3-BD31C5402359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1652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Appendix A: FreeBSD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4960" y="277920"/>
            <a:ext cx="7791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Manipul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653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quence of bytes; the kernel does not impose a structure on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are organized in tree-structur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are files that contain information on how to find oth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 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identifies a file by specifying a path through the directory structure to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path names start at root of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path names start at the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for basic file manipulation: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, open, read, write, close, unlink, tru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22400" y="277920"/>
            <a:ext cx="7664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ypical UNIX Directory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2627280" y="1060560"/>
            <a:ext cx="36860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2160" y="277920"/>
            <a:ext cx="76946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trol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5852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is a program in exec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are identified by their process identifier, an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s a n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 after a fork to replace on of the two processes’s virtual memory space with a new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terminates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ent ma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child process to terminate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the process id of a terminated child so that the parent can tell which child term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the parent to collect performance statistics about th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mb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results when the parent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un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ild process exits before the terminated chi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76240" y="277920"/>
            <a:ext cx="7810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llustration of Process Control Cal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736560" y="1620720"/>
            <a:ext cx="7753320" cy="20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trol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ommunicate via pipes; queues of bytes between two processes that are accessed by a file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user processes are descendants of one original proces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k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: initializes terminal line parameters and passes the us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n 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s the numeri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 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rocess to that of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forks subprocesses for user comm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trol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5640" y="1285560"/>
            <a:ext cx="76345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 sets the effective user identifier of the process to the user identifier of the owner of the file, and leave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 user 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it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 allows certain processes to have more than ordinary privileges while still being executable by ordinary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igna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1236600"/>
            <a:ext cx="7686720" cy="41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y for handling exceptional conditions similar to software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gnal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 used to stop a command before that command completes (usually produced by ^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use has expanded beyond dealing with exceptional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nd stop subprocesses o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WI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forms a process that the window in which output is being displayed has changed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urgent data from network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Group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related processes that cooperate to accomplish a common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 process group may use a terminal device for I/O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ground job has the attention of the user on the 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jobs – nonattached jobs that perform their function without user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the terminal is controlled by process group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Group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2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job inherits a controlling terminal from its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rocess group of the controlling terminal matches the group of a process, that process is in the fore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TT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TT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zes a background process that attempts to perform I/O; if the user foregrounds that process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s that the process can now perform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S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zes a foregroun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44640" y="277920"/>
            <a:ext cx="77421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formation Manipul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to set and return an interval timer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itmer/setit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set and return the current tim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timeofday/settimeof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an ask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process identifi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group identifier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of the machine on which they are executing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ho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1520" y="277920"/>
            <a:ext cx="76849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dule A:  The FreeBSD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brary Routin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85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-call interface to UNIX is supported and augmented by a large collection of library routin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 files provide the definition of complex data structures used in system cal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library support is provided for mathematical functions, network access, data convers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ser Interf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26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s and users mainly deal with already existing systems programs: the needed system calls are embedded within the program and do not need to be obvious to the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ommon systems programs are file or directory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kdir, rmdir, cd, pw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: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s, cp, mv, 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rograms relate to editors (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acs, v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ext formatters (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off, T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nd other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80720" y="277920"/>
            <a:ext cx="7605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hells and Comman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1688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the user process which executes programs (also called command interpre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a shell, because it surrounds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ell indicates its readiness to accept another command by typing a prompt, and the user types a command on a singl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command is an executable binary objec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ell travels throug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rch 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ind the command file, which is then loaded and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ori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almost always in the search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6480" y="277920"/>
            <a:ext cx="7510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hells and Command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45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search path on a BSD system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/home/prof/avi/bin /usr/local/bin /usr/ucb/bin /usr/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ell usually suspends its own execution until the command compl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andard I/O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94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rocesses expect three file descriptors to be open when they st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gram can read what the use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gram can send output to user’s scr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rro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rograms can also accept a file (rather than a terminal) for standard input and standar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mon shells have a simple syntax for changing what files are open for the standard I/O streams of a process — I/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0240" y="277920"/>
            <a:ext cx="76662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andard I/O Redir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1"/>
          <a:stretch/>
        </p:blipFill>
        <p:spPr>
          <a:xfrm>
            <a:off x="982800" y="1336680"/>
            <a:ext cx="75358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6320" y="277920"/>
            <a:ext cx="7440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ipelines, Filters, and Shell Scrip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35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alesce individual commands via a vertical bar that tells the shell to pass the previous command’s output as input to the following comm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ls | pr | l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 – a command such as pr that passes its standard input to its standard output, performing some processing o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a new shell with a different syntax and semantics would change the user view, but not change the kernel or programm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Window System is a widely accepted iconic interface for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74400" y="277920"/>
            <a:ext cx="74120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16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on of processes is a major design problem for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is distinct from other systems in that multiple processes can be created and manipulated with 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processes are represented in UNIX by various control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blocks associated with a process are stored in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in these control blocks is used by the kernel for process control and CPU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08080" y="277920"/>
            <a:ext cx="7578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Control Bloc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920" y="1236240"/>
            <a:ext cx="75088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basic data structure associated with processes i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process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information (e.g.,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s to other control bl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user process is divided into text (program code), data, and stack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rocess with sharable text has a pointer form its process structure to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resident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how many processes are using the text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were the page table for the text segment can be found on disk when it is swa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7920" y="277920"/>
            <a:ext cx="7508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stem Data Seg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rdinary work is done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system calls are performed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and user phases of a process never execute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s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ather than the user stack) is used for a process  executing in system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stack and the user structure together compos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gment for the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X His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7080" y="1285920"/>
            <a:ext cx="751032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eveloped in 1969 by Ken Thompson and Dennis Ritchie of the Research Group at Bell Laboratories; incorporated features of other operating systems, especially MUL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version was written in C, which was developed at Bell Labs specifically to support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influential of the non-Bell Labs and non-AT&amp;T UNIX development groups — University of California at Berkeley (Berkeley Software Distributions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S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BSD UNIX resulted from DARPA funding to develop a standard UNIX system for government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for the VAX, 4.3BSD is one of the most influential versions, and has been ported to many other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standardization projects seek to consolidate the variant flavors of UNIX leading to one programming interface to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8800" y="204480"/>
            <a:ext cx="779148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Finding parts of a process using </a:t>
            </a:r>
            <a:br>
              <a:rPr sz="2800"/>
            </a:b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process structure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901800" y="1227240"/>
            <a:ext cx="682308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38320" y="277920"/>
            <a:ext cx="7548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ng a New Process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16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k allocates a new process structure for the child process, and copies the user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age table is 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in memory is allocated for the data and stack segments of the chil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ing the user structure preserves open file descriptors, user and group identifiers, signal handl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2960" y="39384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llocating a New Process Structure (Cont.)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6040" y="1233000"/>
            <a:ext cx="770436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y the data and stack to t he new process; the new process simply shares the page table of the old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user structure and a new process structure are still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used by a shell to execute a command and to wait for its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ent process 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roduce a child process; the child 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hange its virtual address space, so there is no need for a copy of the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a large parent process saves CPU time, but can be dangerous since any memory change occurs in both processes unti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s no new process or user structure; rather the text and data of the process are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PU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rocess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 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ociated with it; larger numbers indicate lower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feedback in CPU scheduling makes it difficult for a single process to take all the CPU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aging is employed to prevent sta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chooses to relinquish the CPU, it goes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at event occurs, the system process that knows about it call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ke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the address corresponding to the event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es that had don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same address are put in the ready queue to be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2160" y="277920"/>
            <a:ext cx="76946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13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memory management schemes were constrained in size by the relatively small memory resources of the PDP machines on which UNIX was develo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3BSD system use swapping exclusively to handle memory contention among processes:  If there is too much contention, processes are swapped out until enough memory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of both main memory and swap space is done first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76240" y="277920"/>
            <a:ext cx="7810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mory Management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able text segments do not need to be swapped; results in less swap traffic and reduces the amount of main memory required for multiple processes using the same text se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w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ecides which processes to swap in or out, considering such factors as time idle, time in or out of main memory, siz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aging 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75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keley UNIX systems depend primarily on paging for memory-contention management, and depend only secondarily on sw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 pa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hen a process needs a page and the page is not there, a page fault tot he kernel occurs, a frame of main memory is allocated, and the proper disk page is read into the fr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gedaem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uses a modified second-chance page-replacement algorithm to keep enough free frames to support the executing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cheduler decides that the paging system is overloaded, processes will be swapped out whole until the overload is rel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16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X file system supports two main objects: files and directori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are just files with a special format, so the representation of a file is the basic UNIX conc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63360" y="277920"/>
            <a:ext cx="77230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locks and Fragmen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file system is taken up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BSD 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 sized for files which have no indirect bloc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blocks of a file are of a l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 (such as 8K), except the 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st block is an appropriate multiple of a small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agment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, 1024) to fill out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 file of size 18,000 bytes would have two 8K blocks and one 2K fragment (which would not be filled complet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56800" y="277920"/>
            <a:ext cx="78296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locks and Fragment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s are set during file-system creation according to the intended use of the fil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any small files are expected, the fragment size should b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epeated transfers of large files are expected, the basic block size should be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block-to-fragment ratio is 8 : 1; the minimum block size is 4K (typical choices are 4096 : 512 and 8192 : 10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History of UNIX Vers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2330280" y="1130400"/>
            <a:ext cx="43927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od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1372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is represented by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a record that stores information about a specific file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ode also contains 15 pointer to the disk blocks containing the file’s data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12 poin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three poin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indirect block pointer is the address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indirect 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an index block containing the addresses of blocks that do contai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i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-indirect-b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, the address of a block that contains the addresses of blocks that contain pointer to the actual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 indir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inter is not needed; files with as many as 232 bytes will use only double in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or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ode type field distinguishes between plain files an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entries are of variable length; each entry contains first the length of the entry, then the file name and the in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refers to a file by a path name,whereas the file system uses the inode as its definition of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has to map the supplied user path name to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are used for this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ori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0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etermine the starting direct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irst character is “/”, the starting directory is the roo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y other starting character, the starting directory is the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arch process continues until the end of the path name is reached and the desired inode is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inode is found, a file structure is allocated to point to the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BSD improved file system performance by adding a directory name cache to hold recent directory-to-inode trans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7840" y="421920"/>
            <a:ext cx="814356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Mapping of a File Descriptor to an Inod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94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that refer to open files indicate the file is passing a file descriptor as an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le descriptor is used by the kernel to index a table of open files for the curr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ntry of the table contains a pointer to a fi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ile structure in turn points to the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open file table has a fixed length which is only setable at boot time, there is a fixed limit on the number of concurrently open files i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System Control Bloc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1092240" y="1603440"/>
            <a:ext cx="7101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k Structur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35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e file system that a user ordinarily sees may actually consist of several physical file systems, each on a different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ing a physical device into multiple file systems has several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ile systems can support different 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is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rove efficiency by varying file-system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s one program form using all available space for a larg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s up searches on backup tapes and restoring partitions from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k Structur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94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t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is always available on a dr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file systems may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i.e., integrated into the directory hierarchy of the root fil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figure illustrates how a directory structure is partitioned into file systems, which are mapped onto logical devices, which are partitions of physica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384120"/>
            <a:ext cx="76932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99"/>
                </a:solidFill>
                <a:latin typeface="Arial"/>
              </a:rPr>
              <a:t>Mapping File System to Physical Devices</a:t>
            </a:r>
            <a:endParaRPr b="1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1371600" y="1119240"/>
            <a:ext cx="594684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mplement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7076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interface to the file system is simple and well defined, allowing the implementation of the file system itself to be changed without significant effect on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Version 7, the size of inodes doubled, the maximum file and file system sized increased, and the details of free-list handling and superblock information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4.0BSD, the size of blocks used in the file system was increased form 512 bytes to 1024 bytes — increased internal fragmentation, but doubled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BSD added the Berkeley Fast File System, which increased speed, and included new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irectory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nc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File System found in most implementations of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0880" y="277920"/>
            <a:ext cx="76755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ayout and Allocation Polic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13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uses a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cal device number, inode 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pair to identify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ical device number defines the file system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odes in the file system are numbered in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BSD introduc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ylinder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allows localization of the blocks in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ylinder group occupies one or more consecutive cylinders of the disk, so that disk accesses within the cylinder group require minimal disk head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ylinder group has a superblock, a cylinder block, an array of inodes, and some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277920"/>
            <a:ext cx="7470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arly Advantages of UNI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in a high-leve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in sourc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powerful operating-system primitives on an inexpensive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size, modular, clean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4.3BSD Cylinder Group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2695680" y="1216080"/>
            <a:ext cx="366696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45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/O system hides the peculiarities of I/O devices from the bulk of the ker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a buffer caching system, general device driver code, and drivers for specific hardware de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device driver knows the peculiarities of a specific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4.3 BSD Kernel I/O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831960" y="1544760"/>
            <a:ext cx="7596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lock Buffer Cach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06040" y="1233000"/>
            <a:ext cx="772308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 of buffer headers, each of which can point to a piece of physical memory, as well as to a device number and a block number on the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ffer headers for blocks not currently in use are kept in several linked lis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 recently used, linked in LRU order (LR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 not recently used, or without valid contents (AGE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buffers with no associated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block is wanted from a device, the cache is sear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block is found it is used, and no I/O transfer is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not found, a buffer is chosen from the AGE list, or the LRU list if AGE is emp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lock Buffer Cache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94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cache size effects system performance; if it is large enough,  the percentage of cache hits can be high and the number of actual I/O transfers 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written to a disk file are buffered in the cache, and the disk driver sorts its output queue according to disk address — these actions allow the disk driver to minimize disk head seeks and to write data at times optimized for disk r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aw Device Interfac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06400" y="1233000"/>
            <a:ext cx="765504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every block device has a character interface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w de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unlike the block interface, it bypasses the block buffer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isk driver maintains a queue of pending transf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cord in the queue specifi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ther it is a read or a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in memory address for th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vice address for th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f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simple to map the information from a block buffer to what is required for this que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-Lis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45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drivers use a character buffering system which involves keeping small blocks of characters in linked li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to a terminal enqueues characters on a list for the device. An initial transfer is started, and interrupts cause dequeueing of characters and further transf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is similarly interrupt 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lso possible to have the device driver bypass the canonical queue and return characters directly form the raw queue —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w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sed by full-screen editors and other programs that need to react to every keystrok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rprocess Communi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666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IPC mechanism most characteristic of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a reliable unidirectional byte stream between two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nefit of pipes small size is that pipe data are seldom written to disk; they usually are kept in memory by the normal block buffer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4.3BSD, pipes are implemented as a special case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chanism which provides a general interface not only to facilities such as pipes, which are local to one machine, but also to networking fac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ket mechanism can be used by unrelated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6040" y="1242720"/>
            <a:ext cx="7675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ocket is an endpont of commun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-use socket it usually bound with an address; the nature of the address depends 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 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so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aracteristic property of a domain is that processes communication in the same domain use the s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form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socket can communicate in only one domain — the three domains currently implemented in 4.3BSD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X domain (AF_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net domain (AF_I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XEROX Network Service (NS) domain (AF_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 Typ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6788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eam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 reliable, duplex, sequenced data streams.  Supported in Internet domain by the TCP protocol.  In UNIX domain, pipes are implemented as a pair of communicating stream soc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d packet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 similar data streams, except that record boundaries are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XEROX AF_N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gram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fer messages of variable size in either direction.  Supported in Internet domain by UDP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ly delivered message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fer messages that are guaranteed to arrive (Currently unsuppor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w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 direct access by processes to the protocols that support the other socket types; e.g., in the Internet domain, it is possible to reach TCP, IP beneath that, or a deeper Ethernet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developing new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277920"/>
            <a:ext cx="7947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X Design Princip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5640" y="1285560"/>
            <a:ext cx="77504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d to be a time-shar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a simple standard user interface (shell) that can be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 with multilevel tree-structure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are supported by the kernel as unstructured sequences of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multiple processes; a process can easily create new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riority given to making system interactive, and providing facilities for program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 System Cal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45640" y="1285560"/>
            <a:ext cx="77058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ck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creates a socket; takes as arguments specifications of the communication domain, socket type, and protocol to be used and returns a small integer called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ket descrip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ame is bound to a socket b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is used to initiate a 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rver process 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reate a socket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ind the well-known address of its service to that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ell the kernel that it is ready to accept connections from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ep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pt individual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roduce a new process after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ervice the client while the original server process continues to listen for more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4800" y="277920"/>
            <a:ext cx="7812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cket System Call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26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mplest way to terminate a connection and to destroy the associated socket is to use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on its socket descrip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can be used to multiplex data transfers on several file descriptors and /or socket descrip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etwork Suppor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26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ing support is one of the most important features in 4.3BS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ket concept provides the programming mechanism to access other processes, even across a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s provide an interface to several sets of protoc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all current UNIX systems support UUC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BSD supports the DARPA Internet protocols UDP, TCP, IP, and ICMP on a wide range of Ethernet, token-ring, and ARPANET interf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4.3BSD networking implementation, and to a certain extent the socket facility, is more oriented toward the ARPANET Reference Model (AR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44280" y="414360"/>
            <a:ext cx="7947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99"/>
                </a:solidFill>
                <a:latin typeface="Arial"/>
              </a:rPr>
              <a:t>Network Reference models and Layering</a:t>
            </a:r>
            <a:endParaRPr b="1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1069920" y="1370160"/>
            <a:ext cx="7220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Appendix A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grammer Interf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84932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:  everything below the system-call interface and above the physical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file system, CPU scheduling, memory management, and other OS functions through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programs:  use the kernel-supported system calls to provide useful functions, such as compilation and file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45640" y="1285200"/>
            <a:ext cx="70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most computer systems, UNIX consists of two separable par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4.4BSD Layer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657440" y="1220760"/>
            <a:ext cx="6211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ystem Cal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653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define the programmer interface to UN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systems programs commonly available defines the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grammer and user interface define the context that the kernel mus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ly three categories of system calls in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anipulation (same system calls also support device mani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18:06Z</dcterms:created>
  <dc:creator>Marilyn Turnamian</dc:creator>
  <dc:description/>
  <dc:language>en-US</dc:language>
  <cp:lastModifiedBy>Paige, Judi</cp:lastModifiedBy>
  <cp:lastPrinted>2001-07-05T21:27:27Z</cp:lastPrinted>
  <dcterms:modified xsi:type="dcterms:W3CDTF">2014-01-22T15:48:56Z</dcterms:modified>
  <cp:revision>158</cp:revision>
  <dc:subject/>
  <dc:title>No Slide Title</dc:title>
</cp:coreProperties>
</file>